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42.png" ContentType="image/png"/>
  <Override PartName="/ppt/media/image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9496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6080" y="4721040"/>
            <a:ext cx="54082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CBB-3AC7-474B-BA08-A0C390BF10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6080" y="4721040"/>
            <a:ext cx="540828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4CAF-B624-4AF0-B4AA-0E1715F71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6080" y="4721040"/>
            <a:ext cx="5408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по Кот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F57-4F2B-448D-AFCF-20EDE0AA5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6080" y="4721040"/>
            <a:ext cx="5408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римеры с комментар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21A-BBF4-4279-9403-8948FE259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6880-CA16-460C-9BE1-5E57F4EA531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19F-BC38-46FA-9EFD-078EB92F7A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424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4649"/>
                </a:solidFill>
                <a:latin typeface="Arial"/>
                <a:ea typeface="Times New Roman"/>
              </a:rPr>
              <a:t>Контрольные </a:t>
            </a:r>
            <a:br>
              <a:rPr sz="4000"/>
            </a:br>
            <a:r>
              <a:rPr b="1" lang="ru-RU" sz="4000" spc="-1" strike="noStrike">
                <a:solidFill>
                  <a:srgbClr val="1e4649"/>
                </a:solidFill>
                <a:latin typeface="Arial"/>
                <a:ea typeface="Times New Roman"/>
              </a:rPr>
              <a:t>измерительные материалы </a:t>
            </a:r>
            <a:br>
              <a:rPr sz="4000"/>
            </a:br>
            <a:r>
              <a:rPr b="1" lang="ru-RU" sz="4000" spc="-1" strike="noStrike">
                <a:solidFill>
                  <a:srgbClr val="1e4649"/>
                </a:solidFill>
                <a:latin typeface="Arial"/>
                <a:ea typeface="Times New Roman"/>
              </a:rPr>
              <a:t>и система оценивания ЕГЭ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8360" y="54450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1c1d"/>
                </a:solidFill>
                <a:latin typeface="Arial"/>
              </a:rPr>
              <a:t>Решетникова Окс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1c1d"/>
                </a:solidFill>
                <a:latin typeface="Arial"/>
              </a:rPr>
              <a:t>директор ФГБНУ «ФИПИ», к.п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1c1d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c1c1d"/>
                </a:solidFill>
                <a:latin typeface="Arial"/>
              </a:rPr>
              <a:t>ec</a:t>
            </a:r>
            <a:r>
              <a:rPr b="1" lang="ru-RU" sz="1800" spc="-1" strike="noStrike">
                <a:solidFill>
                  <a:srgbClr val="0c1c1d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c1c1d"/>
                </a:solidFill>
                <a:latin typeface="Arial"/>
              </a:rPr>
              <a:t>ption</a:t>
            </a:r>
            <a:r>
              <a:rPr b="1" lang="ru-RU" sz="1800" spc="-1" strike="noStrike">
                <a:solidFill>
                  <a:srgbClr val="0c1c1d"/>
                </a:solidFill>
                <a:latin typeface="Arial"/>
              </a:rPr>
              <a:t>@fip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179280" y="1052640"/>
            <a:ext cx="8893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c1c1d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c1c1d"/>
                </a:solidFill>
                <a:latin typeface="Arial"/>
              </a:rPr>
              <a:t>«Нормативное сопровождение и совершенствование технологии проведения государственной итоговой аттестации по программам основного общего и среднего общего образования в 2014-2015 учебном год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e4649"/>
                </a:solidFill>
                <a:latin typeface="Arial"/>
              </a:rPr>
              <a:t>г. Симферополь, 19 февраля 2015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хнология независимой проверки развернутых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68360" y="5742000"/>
            <a:ext cx="8496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Arial"/>
              </a:rPr>
              <a:t>Проверка заданий с развернутым ответом в регио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Объект 3"/>
          <p:cNvGraphicFramePr/>
          <p:nvPr/>
        </p:nvGraphicFramePr>
        <p:xfrm>
          <a:off x="611280" y="1773360"/>
          <a:ext cx="785016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78501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Объект 4"/>
          <p:cNvGraphicFramePr/>
          <p:nvPr/>
        </p:nvGraphicFramePr>
        <p:xfrm>
          <a:off x="179280" y="4051440"/>
          <a:ext cx="432144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051440"/>
                    <a:ext cx="4321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Объект 5"/>
          <p:cNvGraphicFramePr/>
          <p:nvPr/>
        </p:nvGraphicFramePr>
        <p:xfrm>
          <a:off x="4284720" y="4003560"/>
          <a:ext cx="4824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003560"/>
                    <a:ext cx="48243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452840" y="1557360"/>
            <a:ext cx="4691160" cy="530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733320" y="1413000"/>
            <a:ext cx="3756240" cy="5445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e4649">
                <a:alpha val="40000"/>
              </a:srgbClr>
            </a:outerShdw>
          </a:effectLst>
        </p:spPr>
      </p:pic>
      <p:sp>
        <p:nvSpPr>
          <p:cNvPr id="139" name="Rectangle 2"/>
          <p:cNvSpPr/>
          <p:nvPr/>
        </p:nvSpPr>
        <p:spPr>
          <a:xfrm>
            <a:off x="971640" y="26028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хнология независимой проверки развернутых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439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словия работы ПК при проверк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звернутых ответов участников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892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 развернутых от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ая проверка двумя экспер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рассогласования – третья провер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апелля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егиона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едера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экспертам ПК (Порядок проведения ГИ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«наличие документа, подтверждающего получение дополнительного профессионального образования, включающего в себя практические занятия (не менее 18 часов) по оцениванию образцов экзаменационных работ в соответствии с критериями оценивания по соответствующему учебному предмету, определяемыми Рособрнадзором.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4716360" y="2565360"/>
            <a:ext cx="4248360" cy="208764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Важ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анность подход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цени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одготовки экспе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таж   и  координация экспертов в ходе 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028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казатели качества работы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редметных комисс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4000" y="1484280"/>
            <a:ext cx="8604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579240" indent="-370080" algn="just">
              <a:spcBef>
                <a:spcPts val="11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Times New Roman"/>
              </a:rPr>
              <a:t>Показатель согласованности работы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370080" algn="just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Times New Roman"/>
              </a:rPr>
              <a:t>Выявление экспертов, выбивающихся из согласованной политики ПК (списки с кодами экспертов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370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e4649"/>
                </a:solidFill>
                <a:latin typeface="Arial"/>
                <a:ea typeface="Times New Roman"/>
              </a:rPr>
              <a:t>эксперты, допустившие расхождение со всеми экспертами, проверявшими эти же работы, как по сумме баллов, так и по отдельным критери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370080" algn="just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Times New Roman"/>
              </a:rPr>
              <a:t>Доля третьих пров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370080" algn="just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Times New Roman"/>
              </a:rPr>
              <a:t>Статистика работы 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370080" algn="just"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Times New Roman"/>
              </a:rPr>
              <a:t>Перекрестные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370080" algn="just"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Times New Roman"/>
              </a:rPr>
              <a:t>Федеральные перепроверки, в том числе по результатам апелля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e1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848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истема  «ЭКСПЕРТ ЕГЭ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485720"/>
            <a:ext cx="8402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цикла процедур по дистанционной подготовке экспертов (обучение приёмам оценивания ответов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критериями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с эталонными оце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проведению зачёт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ача итогового зач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частников процесса дистанционной подготовки достаточно базового уровня подготовки при работе с веб-приложе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редложения ФГБНУ «ФИПИ» по развитию системы подготовки экспер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7872480" y="233892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41264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Семинары по совершенствованию подходов к оцени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e1e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е 14 предметов ЕГЭ</a:t>
            </a: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(включая устную часть по иностранным язы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и этапа на выбор субъекта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I </a:t>
            </a:r>
            <a:r>
              <a:rPr b="1" i="1" lang="ru-RU" sz="2800" spc="-1" strike="noStrike">
                <a:solidFill>
                  <a:srgbClr val="7f7f7f"/>
                </a:solidFill>
                <a:latin typeface="Arial"/>
              </a:rPr>
              <a:t>этап    </a:t>
            </a:r>
            <a:r>
              <a:rPr b="0" i="1" lang="ru-RU" sz="2800" spc="-1" strike="noStrike">
                <a:solidFill>
                  <a:srgbClr val="7f7f7f"/>
                </a:solidFill>
                <a:latin typeface="Arial"/>
              </a:rPr>
              <a:t>27.01.2015</a:t>
            </a: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7f7f7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7f7f7f"/>
                </a:solidFill>
                <a:latin typeface="Arial"/>
              </a:rPr>
              <a:t>29.01.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II </a:t>
            </a:r>
            <a:r>
              <a:rPr b="1" i="1" lang="ru-RU" sz="2800" spc="-1" strike="noStrike">
                <a:solidFill>
                  <a:srgbClr val="7f7f7f"/>
                </a:solidFill>
                <a:latin typeface="Arial"/>
              </a:rPr>
              <a:t>этап   </a:t>
            </a:r>
            <a:r>
              <a:rPr b="0" i="1" lang="ru-RU" sz="2800" spc="-1" strike="noStrike">
                <a:solidFill>
                  <a:srgbClr val="7f7f7f"/>
                </a:solidFill>
                <a:latin typeface="Arial"/>
              </a:rPr>
              <a:t>10.02.2015</a:t>
            </a: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7f7f7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7f7f7f"/>
                </a:solidFill>
                <a:latin typeface="Arial"/>
              </a:rPr>
              <a:t>12.02.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e1e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1e20"/>
                </a:solidFill>
                <a:latin typeface="Arial"/>
              </a:rPr>
              <a:t>III </a:t>
            </a:r>
            <a:r>
              <a:rPr b="1" i="1" lang="ru-RU" sz="2800" spc="-1" strike="noStrike">
                <a:solidFill>
                  <a:srgbClr val="0e1e20"/>
                </a:solidFill>
                <a:latin typeface="Arial"/>
              </a:rPr>
              <a:t>этап  24.02.2015</a:t>
            </a:r>
            <a:r>
              <a:rPr b="1" i="1" lang="en-US" sz="2800" spc="-1" strike="noStrike">
                <a:solidFill>
                  <a:srgbClr val="0e1e2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e1e2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0e1e2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e1e20"/>
                </a:solidFill>
                <a:latin typeface="Arial"/>
              </a:rPr>
              <a:t>26.02.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1e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008000" y="125280"/>
            <a:ext cx="81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Открытый банк заданий государственно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итоговой аттестации ЕГЭ / ОГ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открытый ресур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6"/>
          <p:cNvSpPr/>
          <p:nvPr/>
        </p:nvSpPr>
        <p:spPr>
          <a:xfrm>
            <a:off x="179280" y="155736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20"/>
          <p:cNvSpPr/>
          <p:nvPr/>
        </p:nvSpPr>
        <p:spPr>
          <a:xfrm>
            <a:off x="4646520" y="1557360"/>
            <a:ext cx="1509840" cy="611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21"/>
          <p:cNvSpPr/>
          <p:nvPr/>
        </p:nvSpPr>
        <p:spPr>
          <a:xfrm>
            <a:off x="4213080" y="1827360"/>
            <a:ext cx="393840" cy="161640"/>
          </a:xfrm>
          <a:prstGeom prst="rightArrow">
            <a:avLst>
              <a:gd name="adj1" fmla="val 50000"/>
              <a:gd name="adj2" fmla="val 50107"/>
            </a:avLst>
          </a:prstGeom>
          <a:solidFill>
            <a:srgbClr val="224b5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22"/>
          <p:cNvSpPr/>
          <p:nvPr/>
        </p:nvSpPr>
        <p:spPr>
          <a:xfrm>
            <a:off x="2411280" y="1628640"/>
            <a:ext cx="1801800" cy="5130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23"/>
          <p:cNvSpPr/>
          <p:nvPr/>
        </p:nvSpPr>
        <p:spPr>
          <a:xfrm>
            <a:off x="2124000" y="1844640"/>
            <a:ext cx="312840" cy="14940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224b5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4"/>
          <p:cNvSpPr/>
          <p:nvPr/>
        </p:nvSpPr>
        <p:spPr>
          <a:xfrm>
            <a:off x="2340000" y="1413000"/>
            <a:ext cx="3887640" cy="874440"/>
          </a:xfrm>
          <a:prstGeom prst="rect">
            <a:avLst/>
          </a:prstGeom>
          <a:noFill/>
          <a:ln w="31680">
            <a:solidFill>
              <a:srgbClr val="72bfc5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25"/>
          <p:cNvCxnSpPr/>
          <p:nvPr/>
        </p:nvCxnSpPr>
        <p:spPr>
          <a:xfrm flipH="1">
            <a:off x="4212720" y="2042640"/>
            <a:ext cx="3945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158" name="Стрелка вправо 26"/>
          <p:cNvSpPr/>
          <p:nvPr/>
        </p:nvSpPr>
        <p:spPr>
          <a:xfrm>
            <a:off x="6156360" y="1844640"/>
            <a:ext cx="196920" cy="1843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224b5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7"/>
          <p:cNvSpPr/>
          <p:nvPr/>
        </p:nvSpPr>
        <p:spPr>
          <a:xfrm>
            <a:off x="6372360" y="1413000"/>
            <a:ext cx="1728720" cy="823320"/>
          </a:xfrm>
          <a:prstGeom prst="rect">
            <a:avLst/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плекта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28"/>
          <p:cNvSpPr/>
          <p:nvPr/>
        </p:nvSpPr>
        <p:spPr>
          <a:xfrm>
            <a:off x="8172360" y="1700280"/>
            <a:ext cx="936720" cy="3967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96000" cy="466740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лево 29"/>
          <p:cNvSpPr/>
          <p:nvPr/>
        </p:nvSpPr>
        <p:spPr>
          <a:xfrm rot="1359600">
            <a:off x="3882600" y="4535280"/>
            <a:ext cx="171360" cy="193680"/>
          </a:xfrm>
          <a:prstGeom prst="leftArrow">
            <a:avLst>
              <a:gd name="adj1" fmla="val 50000"/>
              <a:gd name="adj2" fmla="val 74644"/>
            </a:avLst>
          </a:prstGeom>
          <a:solidFill>
            <a:srgbClr val="ffffff"/>
          </a:solidFill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95280" y="2314440"/>
            <a:ext cx="5896080" cy="4543560"/>
          </a:xfrm>
          <a:prstGeom prst="rect">
            <a:avLst/>
          </a:prstGeom>
          <a:ln w="0">
            <a:noFill/>
          </a:ln>
        </p:spPr>
      </p:pic>
      <p:sp>
        <p:nvSpPr>
          <p:cNvPr id="164" name="Стрелка влево 31"/>
          <p:cNvSpPr/>
          <p:nvPr/>
        </p:nvSpPr>
        <p:spPr>
          <a:xfrm rot="1359600">
            <a:off x="1361880" y="5398560"/>
            <a:ext cx="171360" cy="193680"/>
          </a:xfrm>
          <a:prstGeom prst="leftArrow">
            <a:avLst>
              <a:gd name="adj1" fmla="val 50000"/>
              <a:gd name="adj2" fmla="val 74644"/>
            </a:avLst>
          </a:prstGeom>
          <a:solidFill>
            <a:srgbClr val="ffffff"/>
          </a:solidFill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7416720" cy="3470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4"/>
          <a:stretch/>
        </p:blipFill>
        <p:spPr>
          <a:xfrm>
            <a:off x="352440" y="2349360"/>
            <a:ext cx="8467560" cy="43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042920" y="-17640"/>
            <a:ext cx="828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ткрытый банк заданий ОГЭ (закрытый  ресу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формирования вариантов КИМ ОГЭ в субъектах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4878360" cy="4016520"/>
          </a:xfrm>
          <a:prstGeom prst="rect">
            <a:avLst/>
          </a:prstGeom>
          <a:ln w="0">
            <a:noFill/>
          </a:ln>
        </p:spPr>
      </p:pic>
      <p:sp>
        <p:nvSpPr>
          <p:cNvPr id="169" name="Скругленный прямоугольник 5"/>
          <p:cNvSpPr/>
          <p:nvPr/>
        </p:nvSpPr>
        <p:spPr>
          <a:xfrm>
            <a:off x="144360" y="1503360"/>
            <a:ext cx="1332000" cy="70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7"/>
          <p:cNvSpPr/>
          <p:nvPr/>
        </p:nvSpPr>
        <p:spPr>
          <a:xfrm>
            <a:off x="4500720" y="1566720"/>
            <a:ext cx="1008000" cy="5670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8"/>
          <p:cNvSpPr/>
          <p:nvPr/>
        </p:nvSpPr>
        <p:spPr>
          <a:xfrm>
            <a:off x="4067280" y="1677960"/>
            <a:ext cx="393480" cy="856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9"/>
          <p:cNvSpPr/>
          <p:nvPr/>
        </p:nvSpPr>
        <p:spPr>
          <a:xfrm>
            <a:off x="3046320" y="1587600"/>
            <a:ext cx="1165320" cy="5461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право 10"/>
          <p:cNvSpPr/>
          <p:nvPr/>
        </p:nvSpPr>
        <p:spPr>
          <a:xfrm>
            <a:off x="1476360" y="1773360"/>
            <a:ext cx="142920" cy="19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1"/>
          <p:cNvSpPr/>
          <p:nvPr/>
        </p:nvSpPr>
        <p:spPr>
          <a:xfrm>
            <a:off x="3046320" y="1446120"/>
            <a:ext cx="2533680" cy="830520"/>
          </a:xfrm>
          <a:prstGeom prst="rect">
            <a:avLst/>
          </a:prstGeom>
          <a:noFill/>
          <a:ln w="25560">
            <a:solidFill>
              <a:srgbClr val="3c8c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12"/>
          <p:cNvCxnSpPr/>
          <p:nvPr/>
        </p:nvCxnSpPr>
        <p:spPr>
          <a:xfrm flipH="1">
            <a:off x="4106520" y="1893600"/>
            <a:ext cx="3945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176" name="Стрелка вправо 13"/>
          <p:cNvSpPr/>
          <p:nvPr/>
        </p:nvSpPr>
        <p:spPr>
          <a:xfrm>
            <a:off x="5508720" y="1700280"/>
            <a:ext cx="317520" cy="2728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extBox 14" descr=""/>
          <p:cNvPicPr/>
          <p:nvPr/>
        </p:nvPicPr>
        <p:blipFill>
          <a:blip r:embed="rId2"/>
          <a:stretch/>
        </p:blipFill>
        <p:spPr>
          <a:xfrm>
            <a:off x="6669000" y="914400"/>
            <a:ext cx="920880" cy="18478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15"/>
          <p:cNvSpPr/>
          <p:nvPr/>
        </p:nvSpPr>
        <p:spPr>
          <a:xfrm>
            <a:off x="8062920" y="1568520"/>
            <a:ext cx="1081080" cy="395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17"/>
          <p:cNvSpPr/>
          <p:nvPr/>
        </p:nvSpPr>
        <p:spPr>
          <a:xfrm>
            <a:off x="1042920" y="461016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c0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>
            <a:off x="958680" y="2894040"/>
            <a:ext cx="3038760" cy="359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4"/>
          <a:stretch/>
        </p:blipFill>
        <p:spPr>
          <a:xfrm>
            <a:off x="958680" y="3319560"/>
            <a:ext cx="3848400" cy="1199880"/>
          </a:xfrm>
          <a:prstGeom prst="rect">
            <a:avLst/>
          </a:prstGeom>
          <a:ln w="0">
            <a:noFill/>
          </a:ln>
        </p:spPr>
      </p:pic>
      <p:sp>
        <p:nvSpPr>
          <p:cNvPr id="182" name="Скругленный прямоугольник 18"/>
          <p:cNvSpPr/>
          <p:nvPr/>
        </p:nvSpPr>
        <p:spPr>
          <a:xfrm rot="16200000">
            <a:off x="1259640" y="148464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компл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право 19"/>
          <p:cNvSpPr/>
          <p:nvPr/>
        </p:nvSpPr>
        <p:spPr>
          <a:xfrm>
            <a:off x="2195640" y="1773360"/>
            <a:ext cx="172800" cy="21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5"/>
          <a:stretch/>
        </p:blipFill>
        <p:spPr>
          <a:xfrm>
            <a:off x="3807000" y="4578480"/>
            <a:ext cx="2981160" cy="13525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3980880" y="49658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т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/>
          <p:cNvPicPr/>
          <p:nvPr/>
        </p:nvPicPr>
        <p:blipFill>
          <a:blip r:embed="rId6"/>
          <a:stretch/>
        </p:blipFill>
        <p:spPr>
          <a:xfrm>
            <a:off x="996840" y="3319560"/>
            <a:ext cx="2867040" cy="1857240"/>
          </a:xfrm>
          <a:prstGeom prst="rect">
            <a:avLst/>
          </a:prstGeom>
          <a:ln w="0">
            <a:noFill/>
          </a:ln>
        </p:spPr>
      </p:pic>
      <p:sp>
        <p:nvSpPr>
          <p:cNvPr id="187" name="Скругленный прямоугольник 27"/>
          <p:cNvSpPr/>
          <p:nvPr/>
        </p:nvSpPr>
        <p:spPr>
          <a:xfrm rot="16200000">
            <a:off x="1979640" y="1557360"/>
            <a:ext cx="122400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168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право 28"/>
          <p:cNvSpPr/>
          <p:nvPr/>
        </p:nvSpPr>
        <p:spPr>
          <a:xfrm>
            <a:off x="2854440" y="1798560"/>
            <a:ext cx="133200" cy="19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7"/>
          <a:stretch/>
        </p:blipFill>
        <p:spPr>
          <a:xfrm>
            <a:off x="977760" y="3319560"/>
            <a:ext cx="2934000" cy="752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"/>
          <p:cNvPicPr/>
          <p:nvPr/>
        </p:nvPicPr>
        <p:blipFill>
          <a:blip r:embed="rId8"/>
          <a:stretch/>
        </p:blipFill>
        <p:spPr>
          <a:xfrm>
            <a:off x="3819600" y="3240000"/>
            <a:ext cx="2324160" cy="13813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1"/>
          <p:cNvSpPr/>
          <p:nvPr/>
        </p:nvSpPr>
        <p:spPr>
          <a:xfrm>
            <a:off x="4001400" y="361152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риант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TextBox 32" descr=""/>
          <p:cNvPicPr/>
          <p:nvPr/>
        </p:nvPicPr>
        <p:blipFill>
          <a:blip r:embed="rId9"/>
          <a:stretch/>
        </p:blipFill>
        <p:spPr>
          <a:xfrm>
            <a:off x="5803920" y="914400"/>
            <a:ext cx="67608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Стрелка вправо 33"/>
          <p:cNvSpPr/>
          <p:nvPr/>
        </p:nvSpPr>
        <p:spPr>
          <a:xfrm>
            <a:off x="7524720" y="1700280"/>
            <a:ext cx="428760" cy="1890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10"/>
          <a:srcRect l="0" t="0" r="64400" b="0"/>
          <a:stretch/>
        </p:blipFill>
        <p:spPr>
          <a:xfrm>
            <a:off x="3807000" y="3139920"/>
            <a:ext cx="2266920" cy="346716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6"/>
          <p:cNvSpPr/>
          <p:nvPr/>
        </p:nvSpPr>
        <p:spPr>
          <a:xfrm>
            <a:off x="3911760" y="3610080"/>
            <a:ext cx="1574640" cy="515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"/>
          <p:cNvPicPr/>
          <p:nvPr/>
        </p:nvPicPr>
        <p:blipFill>
          <a:blip r:embed="rId11"/>
          <a:srcRect l="0" t="0" r="0" b="14358"/>
          <a:stretch/>
        </p:blipFill>
        <p:spPr>
          <a:xfrm>
            <a:off x="3819600" y="3164040"/>
            <a:ext cx="4017960" cy="3560760"/>
          </a:xfrm>
          <a:prstGeom prst="rect">
            <a:avLst/>
          </a:prstGeom>
          <a:ln w="0">
            <a:noFill/>
          </a:ln>
        </p:spPr>
      </p:pic>
      <p:sp>
        <p:nvSpPr>
          <p:cNvPr id="197" name="Скругленный прямоугольник 37"/>
          <p:cNvSpPr/>
          <p:nvPr/>
        </p:nvSpPr>
        <p:spPr>
          <a:xfrm>
            <a:off x="3911760" y="3852720"/>
            <a:ext cx="3925800" cy="9734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12"/>
          <a:srcRect l="0" t="0" r="29984" b="0"/>
          <a:stretch/>
        </p:blipFill>
        <p:spPr>
          <a:xfrm>
            <a:off x="958680" y="3139920"/>
            <a:ext cx="6890040" cy="33242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3"/>
          <p:cNvSpPr/>
          <p:nvPr/>
        </p:nvSpPr>
        <p:spPr>
          <a:xfrm>
            <a:off x="1074600" y="4368960"/>
            <a:ext cx="1770120" cy="9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3348000" y="4125960"/>
            <a:ext cx="287280" cy="24300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0" descr=""/>
          <p:cNvPicPr/>
          <p:nvPr/>
        </p:nvPicPr>
        <p:blipFill>
          <a:blip r:embed="rId13"/>
          <a:srcRect l="0" t="0" r="19170" b="0"/>
          <a:stretch/>
        </p:blipFill>
        <p:spPr>
          <a:xfrm>
            <a:off x="3813120" y="3135240"/>
            <a:ext cx="4035600" cy="34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14"/>
          <a:stretch/>
        </p:blipFill>
        <p:spPr>
          <a:xfrm>
            <a:off x="3627360" y="2773440"/>
            <a:ext cx="4456080" cy="4054320"/>
          </a:xfrm>
          <a:prstGeom prst="rect">
            <a:avLst/>
          </a:prstGeom>
          <a:ln w="0">
            <a:noFill/>
          </a:ln>
        </p:spPr>
      </p:pic>
      <p:sp>
        <p:nvSpPr>
          <p:cNvPr id="203" name="Стрелка вправо 38"/>
          <p:cNvSpPr/>
          <p:nvPr/>
        </p:nvSpPr>
        <p:spPr>
          <a:xfrm>
            <a:off x="6372360" y="1700280"/>
            <a:ext cx="360360" cy="189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aede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99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799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101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9701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201"/>
                            </p:stCondLst>
                            <p:childTnLst>
                              <p:par>
                                <p:cTn id="126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701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701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201"/>
                            </p:stCondLst>
                            <p:childTnLst>
                              <p:par>
                                <p:cTn id="1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3701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4201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602"/>
                            </p:stCondLst>
                            <p:childTnLst>
                              <p:par>
                                <p:cTn id="154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102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6602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102"/>
                            </p:stCondLst>
                            <p:childTnLst>
                              <p:par>
                                <p:cTn id="1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9102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598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1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27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820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7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2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744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ВЭ-11 в 2015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920" y="1484280"/>
          <a:ext cx="9109080" cy="5276880"/>
        </p:xfrm>
        <a:graphic>
          <a:graphicData uri="http://schemas.openxmlformats.org/drawingml/2006/table">
            <a:tbl>
              <a:tblPr/>
              <a:tblGrid>
                <a:gridCol w="5689440"/>
                <a:gridCol w="3419640"/>
              </a:tblGrid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c1c1d"/>
                          </a:solidFill>
                          <a:latin typeface="Arial"/>
                          <a:ea typeface="Arial"/>
                        </a:rPr>
                        <a:t>Письменн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c1c1d"/>
                          </a:solidFill>
                          <a:latin typeface="Arial"/>
                          <a:ea typeface="Arial"/>
                        </a:rPr>
                        <a:t>Устн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4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ский язы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3c8c9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2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ложение с творческим заданием  или сочинение (на выбор экзаменуемого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федеральном уровне разрабатыв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3c8c9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2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 раб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лекты из 15 билетов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веты на задания и Пояснительная записка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предмет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 обязательных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по выбору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учебных предметов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выбор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1e4649"/>
                          </a:solidFill>
                          <a:latin typeface="Arial"/>
                          <a:ea typeface="Arial"/>
                        </a:rPr>
                        <a:t>Дополнительно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3c8c9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2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аны критерии для проверки экзаменационных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зработаны рекомендации по переводу первичных баллов в 5-балльную систему оцен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116000" y="189000"/>
            <a:ext cx="7812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етодическое обеспечение проведения   ЕГ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44360" y="1341360"/>
            <a:ext cx="8891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8040" indent="-42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материалы по формированию и  организации работы предметных комиссий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бота ПК в период проведения и обработки результатов ЕГ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ребования к экспертам П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одготовка экспертов и формирование П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системы оценивания и правил назначения экзаменационной работы участника ЕГЭ на третью проверку (в демоверсии и специфи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М для председателей и членов РПК по проверке заданий с развернутым ответом ЕГЭ-2015 по 14 учебным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письма РОН по проведению государственной итоговой аттестации в форме ГВ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5760" y="-36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трольные 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9036000" cy="477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98360" y="2322360"/>
            <a:ext cx="247644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116000" y="2924280"/>
            <a:ext cx="731520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/фак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7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5-10-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pi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ption@fip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34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то принимает участие в разработке КИМ для государственной итоговой аттест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160" y="1413000"/>
            <a:ext cx="91152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ФГБНУ «Федеральный институт педагогических измерений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1 федеральных комиссий разработчиков КИМ ЕГЭ и ОГЭ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300"/>
            </a:b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225</a:t>
            </a:r>
            <a:r>
              <a:rPr b="1" lang="ru-RU" sz="2300" spc="-1" strike="noStrike">
                <a:solidFill>
                  <a:srgbClr val="224b5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ециалистов системы образован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методисты и научные работники (30%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учителя школ (19%)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преподаватели ВУЗов (51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Штатные сотрудни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60</a:t>
            </a:r>
            <a:r>
              <a:rPr b="1" lang="ru-RU" sz="2300" spc="-1" strike="noStrike">
                <a:solidFill>
                  <a:srgbClr val="224b5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еловек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тестологи, операторы, администраторы, технические специалисты и др. категории специалисто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нешние эксперты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более </a:t>
            </a: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300</a:t>
            </a:r>
            <a:r>
              <a:rPr b="1" lang="ru-RU" sz="2300" spc="-1" strike="noStrike">
                <a:solidFill>
                  <a:srgbClr val="224b5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учно-методические советы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11 НМС  -  </a:t>
            </a: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188</a:t>
            </a:r>
            <a:r>
              <a:rPr b="1" lang="ru-RU" sz="2300" spc="-1" strike="noStrike">
                <a:solidFill>
                  <a:srgbClr val="224b5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еловек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111 -  доктора наук, 65 – кандидаты нау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4560" y="18900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кументы, регламентирующие разработку К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2500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сем учебным предметам разработаны и опубликов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КОДИФИК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еречень всех проверяемых элементов содержания разделов учебных предм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проверяемых элементов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требований к уровню подготовки 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ПЕЦИФИК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лан КИМ по каждому предмету, требования к выполнению работы и система оцен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ение КИМ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ы, определяющие содержание КИМ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ы к отбору содержания, разработке структуры КИМ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КИМ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ний КИМ ЕГЭ по содержанию, проверяемым умениям и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ЕМОВЕРС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разцы КИМ текущего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5208480" cy="33130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591080" y="1268280"/>
            <a:ext cx="4552920" cy="32306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38160" dir="10800000" blurRad="0" rotWithShape="0">
              <a:srgbClr val="000000">
                <a:alpha val="69000"/>
              </a:srgbClr>
            </a:outerShdw>
          </a:effectLst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5278320" cy="3500280"/>
          </a:xfrm>
          <a:prstGeom prst="rect">
            <a:avLst/>
          </a:prstGeom>
          <a:ln w="9360">
            <a:solidFill>
              <a:srgbClr val="3c8c93"/>
            </a:solidFill>
            <a:miter/>
          </a:ln>
          <a:effectLst>
            <a:outerShdw dist="38183" dir="13500000" blurRad="0" rotWithShape="0">
              <a:srgbClr val="000000">
                <a:alpha val="61000"/>
              </a:srgbClr>
            </a:outerShdw>
          </a:effectLst>
        </p:spPr>
      </p:pic>
      <p:sp>
        <p:nvSpPr>
          <p:cNvPr id="112" name="Rectangle 2"/>
          <p:cNvSpPr/>
          <p:nvPr/>
        </p:nvSpPr>
        <p:spPr>
          <a:xfrm>
            <a:off x="1114560" y="189000"/>
            <a:ext cx="7850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кументы, регламентирующие разработку К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187280" y="0"/>
            <a:ext cx="781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спределение заданий разного тип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частям 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093680"/>
          <a:ext cx="9144000" cy="5791320"/>
        </p:xfrm>
        <a:graphic>
          <a:graphicData uri="http://schemas.openxmlformats.org/drawingml/2006/table">
            <a:tbl>
              <a:tblPr/>
              <a:tblGrid>
                <a:gridCol w="3673440"/>
                <a:gridCol w="2554200"/>
                <a:gridCol w="2916360"/>
              </a:tblGrid>
              <a:tr h="627840">
                <a:tc>
                  <a:txBody>
                    <a:bodyPr lIns="90000" rIns="90000" anchor="b">
                      <a:noAutofit/>
                    </a:bodyPr>
                    <a:p>
                      <a:pPr marL="216000" indent="7668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>
                      <a:noFill/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bbe0e3">
                        <a:alpha val="11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даний с кратким отв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>
                      <a:noFill/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daedef">
                        <a:alpha val="84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зада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развернутым отв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daedef">
                        <a:alpha val="84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(П/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(Б/У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9360">
                      <a:solidFill>
                        <a:srgbClr val="224b5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е языки (устн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9360">
                      <a:solidFill>
                        <a:srgbClr val="224b5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224b5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224b5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85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116000" y="119160"/>
            <a:ext cx="7812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овый бланк ответов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927680" y="1052640"/>
            <a:ext cx="4108320" cy="580536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117360" y="1914480"/>
            <a:ext cx="6039000" cy="4943520"/>
          </a:xfrm>
          <a:prstGeom prst="rect">
            <a:avLst/>
          </a:prstGeom>
          <a:ln w="0">
            <a:noFill/>
          </a:ln>
          <a:effectLst>
            <a:outerShdw dist="50911" dir="18900000" blurRad="0" rotWithShape="0">
              <a:srgbClr val="000000">
                <a:alpha val="56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0"/>
          <p:cNvSpPr/>
          <p:nvPr/>
        </p:nvSpPr>
        <p:spPr>
          <a:xfrm>
            <a:off x="0" y="1773360"/>
            <a:ext cx="9144000" cy="50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008000" y="-100080"/>
            <a:ext cx="8101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Формы записи кратких ответов непосредственно в тесте КИМ и в бланке №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774800"/>
          <a:ext cx="9144000" cy="4967280"/>
        </p:xfrm>
        <a:graphic>
          <a:graphicData uri="http://schemas.openxmlformats.org/drawingml/2006/table">
            <a:tbl>
              <a:tblPr/>
              <a:tblGrid>
                <a:gridCol w="4124160"/>
                <a:gridCol w="5019840"/>
              </a:tblGrid>
              <a:tr h="828720">
                <a:tc>
                  <a:txBody>
                    <a:bodyPr lIns="90000" rIns="90000" anchor="t">
                      <a:noAutofit/>
                    </a:bodyPr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ние с записью ответ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виде одной циф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anchor="t">
                      <a:noAutofit/>
                    </a:bodyPr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ние с записью ответ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виде последовательности циф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anchor="t">
                      <a:noAutofit/>
                    </a:bodyPr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ния на установление соответствия элементов двух множест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ние с записью ответ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виде слова / словосочетания, чис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пись в бланк №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4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1656000" cy="649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3" descr=""/>
          <p:cNvPicPr/>
          <p:nvPr/>
        </p:nvPicPr>
        <p:blipFill>
          <a:blip r:embed="rId2"/>
          <a:stretch/>
        </p:blipFill>
        <p:spPr>
          <a:xfrm>
            <a:off x="4727520" y="2708280"/>
            <a:ext cx="4138560" cy="8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4284720" y="5087880"/>
            <a:ext cx="4728960" cy="57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4556160" y="3760920"/>
            <a:ext cx="3760920" cy="96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4197240" y="5962680"/>
            <a:ext cx="4838760" cy="56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116000" y="44280"/>
            <a:ext cx="78120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роверка развернутых ответов ЕГ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429000" y="836640"/>
            <a:ext cx="5715000" cy="602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2565360"/>
            <a:ext cx="6095880" cy="447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О.А.Решетникова</cp:lastModifiedBy>
  <cp:lastPrinted>2014-09-25T10:46:37Z</cp:lastPrinted>
  <dcterms:modified xsi:type="dcterms:W3CDTF">2015-02-18T11:15:04Z</dcterms:modified>
  <cp:revision>525</cp:revision>
  <dc:subject/>
  <dc:title>Презентация PowerPoint</dc:title>
</cp:coreProperties>
</file>