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</p:sldMasterIdLst>
  <p:notesMasterIdLst>
    <p:notesMasterId r:id="rId55"/>
  </p:notesMasterIdLst>
  <p:sldIdLst>
    <p:sldId id="256" r:id="rId56"/>
    <p:sldId id="257" r:id="rId57"/>
    <p:sldId id="258" r:id="rId58"/>
    <p:sldId id="259" r:id="rId59"/>
    <p:sldId id="260" r:id="rId60"/>
    <p:sldId id="261" r:id="rId61"/>
    <p:sldId id="262" r:id="rId62"/>
    <p:sldId id="263" r:id="rId63"/>
    <p:sldId id="264" r:id="rId64"/>
    <p:sldId id="265" r:id="rId65"/>
    <p:sldId id="266" r:id="rId66"/>
    <p:sldId id="267" r:id="rId67"/>
    <p:sldId id="268" r:id="rId68"/>
    <p:sldId id="269" r:id="rId69"/>
    <p:sldId id="270" r:id="rId70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notesMaster" Target="notesMasters/notesMaster1.xml"/><Relationship Id="rId56" Type="http://schemas.openxmlformats.org/officeDocument/2006/relationships/slide" Target="slides/slide1.xml"/><Relationship Id="rId57" Type="http://schemas.openxmlformats.org/officeDocument/2006/relationships/slide" Target="slides/slide2.xml"/><Relationship Id="rId58" Type="http://schemas.openxmlformats.org/officeDocument/2006/relationships/slide" Target="slides/slide3.xml"/><Relationship Id="rId59" Type="http://schemas.openxmlformats.org/officeDocument/2006/relationships/slide" Target="slides/slide4.xml"/><Relationship Id="rId60" Type="http://schemas.openxmlformats.org/officeDocument/2006/relationships/slide" Target="slides/slide5.xml"/><Relationship Id="rId61" Type="http://schemas.openxmlformats.org/officeDocument/2006/relationships/slide" Target="slides/slide6.xml"/><Relationship Id="rId62" Type="http://schemas.openxmlformats.org/officeDocument/2006/relationships/slide" Target="slides/slide7.xml"/><Relationship Id="rId63" Type="http://schemas.openxmlformats.org/officeDocument/2006/relationships/slide" Target="slides/slide8.xml"/><Relationship Id="rId64" Type="http://schemas.openxmlformats.org/officeDocument/2006/relationships/slide" Target="slides/slide9.xml"/><Relationship Id="rId65" Type="http://schemas.openxmlformats.org/officeDocument/2006/relationships/slide" Target="slides/slide10.xml"/><Relationship Id="rId66" Type="http://schemas.openxmlformats.org/officeDocument/2006/relationships/slide" Target="slides/slide11.xml"/><Relationship Id="rId67" Type="http://schemas.openxmlformats.org/officeDocument/2006/relationships/slide" Target="slides/slide12.xml"/><Relationship Id="rId68" Type="http://schemas.openxmlformats.org/officeDocument/2006/relationships/slide" Target="slides/slide13.xml"/><Relationship Id="rId69" Type="http://schemas.openxmlformats.org/officeDocument/2006/relationships/slide" Target="slides/slide14.xml"/><Relationship Id="rId70" Type="http://schemas.openxmlformats.org/officeDocument/2006/relationships/slide" Target="slides/slide15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6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sldImg"/>
          </p:nvPr>
        </p:nvSpPr>
        <p:spPr>
          <a:xfrm>
            <a:off x="91800" y="746280"/>
            <a:ext cx="66135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 type="ftr" idx="16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6"/>
          <p:cNvSpPr>
            <a:spLocks noGrp="1"/>
          </p:cNvSpPr>
          <p:nvPr>
            <p:ph type="sldNum" idx="16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0DBC-3B1D-492B-8E73-75519F88BF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13560" cy="3720960"/>
          </a:xfrm>
          <a:prstGeom prst="rect">
            <a:avLst/>
          </a:prstGeom>
          <a:ln w="0">
            <a:noFill/>
          </a:ln>
        </p:spPr>
      </p:sp>
      <p:sp>
        <p:nvSpPr>
          <p:cNvPr id="2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647C-655C-4E7D-871D-51A3858D19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13560" cy="3720960"/>
          </a:xfrm>
          <a:prstGeom prst="rect">
            <a:avLst/>
          </a:prstGeom>
          <a:ln w="0">
            <a:noFill/>
          </a:ln>
        </p:spPr>
      </p:sp>
      <p:sp>
        <p:nvSpPr>
          <p:cNvPr id="2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C4C2-1F01-466D-9AB0-ED1C2B20FE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13560" cy="3720960"/>
          </a:xfrm>
          <a:prstGeom prst="rect">
            <a:avLst/>
          </a:prstGeom>
          <a:ln w="0">
            <a:noFill/>
          </a:ln>
        </p:spPr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78E4-9A2A-420F-85C9-6E846D86B2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13560" cy="3720960"/>
          </a:xfrm>
          <a:prstGeom prst="rect">
            <a:avLst/>
          </a:prstGeom>
          <a:ln w="0">
            <a:noFill/>
          </a:ln>
        </p:spPr>
      </p:sp>
      <p:sp>
        <p:nvSpPr>
          <p:cNvPr id="2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9BF5-305C-4466-A5F8-7F893F1E28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13560" cy="3720960"/>
          </a:xfrm>
          <a:prstGeom prst="rect">
            <a:avLst/>
          </a:prstGeom>
          <a:ln w="0">
            <a:noFill/>
          </a:ln>
        </p:spPr>
      </p:sp>
      <p:sp>
        <p:nvSpPr>
          <p:cNvPr id="2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A1C4-7FE4-4CE8-98E0-AC679BD99A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13560" cy="3720960"/>
          </a:xfrm>
          <a:prstGeom prst="rect">
            <a:avLst/>
          </a:prstGeom>
          <a:ln w="0">
            <a:noFill/>
          </a:ln>
        </p:spPr>
      </p:sp>
      <p:sp>
        <p:nvSpPr>
          <p:cNvPr id="2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2F7E-E7AA-4652-94BC-99E0BB6BCF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13560" cy="3720960"/>
          </a:xfrm>
          <a:prstGeom prst="rect">
            <a:avLst/>
          </a:prstGeom>
          <a:ln w="0">
            <a:noFill/>
          </a:ln>
        </p:spPr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E29E-9B0F-4A22-A0BC-2097AA9483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13560" cy="3720960"/>
          </a:xfrm>
          <a:prstGeom prst="rect">
            <a:avLst/>
          </a:prstGeom>
          <a:ln w="0">
            <a:noFill/>
          </a:ln>
        </p:spPr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C161-1A59-49AB-AA7A-C728CA84F7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13560" cy="3720960"/>
          </a:xfrm>
          <a:prstGeom prst="rect">
            <a:avLst/>
          </a:prstGeom>
          <a:ln w="0">
            <a:noFill/>
          </a:ln>
        </p:spPr>
      </p:sp>
      <p:sp>
        <p:nvSpPr>
          <p:cNvPr id="2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C5E7-908E-4F38-BB3C-0324DA09A5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13560" cy="3720960"/>
          </a:xfrm>
          <a:prstGeom prst="rect">
            <a:avLst/>
          </a:prstGeom>
          <a:ln w="0">
            <a:noFill/>
          </a:ln>
        </p:spPr>
      </p:sp>
      <p:sp>
        <p:nvSpPr>
          <p:cNvPr id="2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4F3E-B027-467D-AF02-3863C043B9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72C-0191-4509-AC56-E76271A8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9CE-94FF-431A-8C42-BE8D2F63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4413E-554D-4669-8AA8-1146147A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DC326-BF08-41AD-AD23-2BC18E71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55D61-6C8A-4DE7-9271-D11EA6AD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D367A-A1C9-400B-ADB0-535D00BE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C8385-F5DA-4F6B-95D2-696F2EAF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43C96-A788-4909-83C3-FB66021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AC564-680E-4617-8555-DFD502C4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E76E5-952E-4EC3-AEB8-D2086698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1B7E3-C038-4641-836F-BF1549A4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1D766-7113-4033-83C4-7AB99D12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A96-ADF5-4931-AFED-4F3EAC3A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8D87A-7F6D-4EEB-895A-6C8986AB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7AAA2-0124-4D81-BF32-C833C882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40B66-73AC-40D0-94A4-1A20D08C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C2B50-D24F-4EB3-B587-4BB66C8F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7BACA-E0B4-445C-9899-06E76AD2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22E01-8E03-423C-8993-86E5CA10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E1494-0A9B-464E-8BCE-E4CCAC8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62096-33A6-429D-A9FB-29B7ED32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D5F4A-966F-42C7-8DCC-2EB46415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47F1D-E413-48B5-9A0A-C560D416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9C4-36C1-4A8F-BBDC-469F508F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48098-D32C-4D03-872F-ECC3C096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7E8D5-18FE-432B-9FF7-2E42F09A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02D75-B3D0-4CE9-A6D7-216976AC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B38F3-A1F1-41EE-A060-0D2D1CD4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E5841-EF90-40B7-B0E4-32180D24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5C37E-8A18-4CAC-BABC-30A5F5E0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093BD-3667-4FF6-B6B7-D038A104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477F2-85BE-44F7-8277-F7438D3D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E7DC2-2BA9-46F9-8D14-2E79FCD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6EB2B-01E6-4AD4-ACAB-03523B0A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B103-F81D-4CA8-BB27-8CA1E873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B0CDD-3A45-4370-9D72-4181A3AB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F67CB-B020-466F-8CBE-70531D3F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7FD6E-B201-401A-8440-403016D9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7AAB3-6C81-499F-87E5-818402FD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1CC83-8439-4F4C-8EF0-7C41DE3D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91585-A5E2-4E15-AAAA-BCBEBA75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55FE2-8648-4461-8AF6-8C37950D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7FAF3-1EA9-474A-90AC-602C4867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69653-253F-4765-AA99-3409B008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A962C-4E21-4B47-B4D4-C2B06DD3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8F7A-A895-4258-A66A-9E4969FE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71B91-439D-46C2-A2C6-80B8F90D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4F735-A6FB-475B-91F0-C3F2935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3035D-3296-437C-BB9D-E5D99E7D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C4BB5-7F4C-4A6D-B760-00EBE4F1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50064-83A7-4B55-95D5-BA81288F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896EB-9D87-47BE-B0D0-1419CDCC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7BB5D-DBD3-4FE0-8A8E-2CD2DFDB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33F46-AC12-46C2-A063-59C27BF1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472D0-0986-4623-9F62-58B35A94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E33A5-C0B5-4099-98AC-96CDCA81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DED6-2FC8-4691-B859-8EB604CC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721AB-E6E1-4713-AEBC-EC599DFC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BE80F-9C48-412B-AD10-B1A8E0B8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800D9-46E7-4A80-878A-F890C2F7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B8030-288E-492A-AAFA-3C0F5BA0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5959E-3B81-4220-BAB5-048ADA5F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28D1E-5544-406B-A166-130CE2BA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B0F71-7720-4F2A-A770-B9553FFD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AED04-5AC5-47D8-A5C3-56669269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F77B3-C829-4C0A-AA03-078221D2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7DD14-7627-4740-9551-ECB3E0E5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F9FA-511B-4248-9AB9-3AC7AC4C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02C26-A2C3-43CD-8AD7-DF17DDF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D6F71-F8D8-4672-986F-C1E5C726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A3707-8E2D-4F84-87DC-03C6EFDD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3D422-B722-4011-8090-9920104C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F6326-AD10-4CBA-A9AE-AECCE556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24EFD-A56B-419E-B3AF-8804C986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2C6FB-96FE-4419-A0B4-A559941E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89359-0897-4AE9-B5F3-3DA66763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D7C6E-B87A-48B6-8E72-3AB3B37C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6B618-69F0-4679-B931-7F817B27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A611-71FE-4B30-BC76-D751E1DE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1B677-8A75-4172-A431-491EF602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8400F-8F9B-4A38-B244-2FDE94E8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80360-48FE-40CA-856C-6843D39A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E402A-FC21-4DD0-904D-D1C8B6D8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D092C-4CA0-42F9-BA3C-8EDC9540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54952-6E3F-4B33-ACA8-E630F960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71A313-26DF-4275-B80C-29C43815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347DA-8120-417D-B4D8-502AD9AA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D9624-4280-4614-ACBB-D545FA2F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01C56-165E-4116-B03C-D08F0DD4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B086-B427-4422-BCE7-EABA6466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F8D0E-5952-48E1-BA1F-17949FB5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6BC422-FFB5-44D1-88F2-1CE1CC34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BC314-580E-44D7-8D34-2732B3AE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056DF-82FD-4FAE-BB87-BA1A4327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424B0-795C-44B7-9AEA-0F01EFBB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78D29-3579-40C7-ABAE-98F2B5C3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53366-AC6F-4410-A91A-A0FF4508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C7745-DFD2-4B1F-8BFF-4612AE6B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D86EC-21DA-441C-891D-53A9D5DF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AADD1-ADCD-49CC-9C6C-689D4FAC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7B7D-04CF-42B1-83F7-A4621C0D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82E451-85F0-4766-BED1-0068E3AD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04B82-E187-49AD-8C49-7534A43D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6497F-F618-4986-8B8C-10498D03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14A08-2951-4176-957F-CF223F8E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B3FBB-E021-485A-9C43-A924735C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510E5-6002-418E-9945-FB122FC1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E952A-52C7-4297-AFBD-A997EE85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9A144-0E6F-46AF-B36D-715ABDFA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60F66-0C8F-4B82-8BBB-12526B13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7E460-2BC0-4007-AF03-1B971543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502-F8AD-4EDE-AAAE-253AF6EA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FE45-ED57-4EAF-95BF-A0965428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1BB0A-D05A-4562-B10A-6B750A7D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89551-9A8F-4B5B-82CA-13283AC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D143B-BBDE-410F-8CD0-23508296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E0073-501F-48A4-AD25-E87F11A9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A82C9-459B-45EE-B810-5E8A48E4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588EB-6DDD-4CD8-8170-F7ADC6FF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5FB48-FFE2-45B5-B9D8-D881AB21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F2791-D6B0-4457-B462-5F110254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7586E1-20C0-4DD3-8217-3CDD6A80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8274C8-E6C8-40CE-BBC3-B9A7B79F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0904-A555-43AB-B4C3-613BA1F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7D7A8-4C8B-4AF0-96A5-EF9BD0ED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27596-59AD-48AD-B599-8D6F4F98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BA511-CE8A-4AA1-BD55-B31B5A10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8182CB-F755-4A49-950F-A0F17A95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8E73FB-9FEF-4F91-BAD5-EF28DBEA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E35699-3606-4825-80A4-A4E7B38C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B48AB-0950-4C69-8153-C2BFB531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921C3-0FB3-4192-94D9-A6419365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73157-9061-482D-8529-7F2809EE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D2DCF-BF92-40D5-A047-CFE1D2A8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7836-F097-49E6-8CC9-BD137848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25976-F741-4944-8E32-C9232C94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5DCC07-47DA-40F1-9D96-7BF942F6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749976-3304-46E4-B41C-C7918D86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49420-7A70-4295-BED0-93B47B81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61D3F-88BC-491F-9543-7F99A388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7A3D8-6E4D-4A2E-B650-A78E41EF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6EEE7C-DAE3-465D-9A23-1289C9AE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579FC1-0247-49E3-9F0A-28D5EC2F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89E5B1-537D-4A2F-B06F-4F315510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D84949-7C22-4A1E-83A7-4185172A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20F7-5107-41BB-A8F5-36EB4205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7738E-2486-47B5-A621-D07EE45E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EDBB7-72EA-4D7D-AF9F-DCA8F92C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0720FD-C8D8-4418-98B9-E1AD88E1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F131B-73D0-41DA-A6F6-431E7AF1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F25944-BB83-4FBC-97D1-701D4F6B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1E98C3-8914-4927-90DF-DB49A6A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60207D-FA52-4F1F-B691-99295DEC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82976D-2999-4F18-9FEA-5BB4C32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201BCB-B142-4DCB-B3A2-21E3C88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E7EAD-77D7-4493-9401-13C2124A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D248-E71A-44AB-BA98-87E5803C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480721-D4B7-4BB0-8630-07012CAD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7F8326-A838-4ECB-9103-45FD321C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33E285-0328-4C38-8443-0E20095C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20B485-46FD-4B5C-884E-581107F6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ABEBA2-F73F-422F-A971-9E5E2C13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20226-B4D6-43B0-9BED-11E40CA8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326B2-C885-4A7D-A8E6-8DFEAA96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6EBF8B-106A-43DF-839A-001F9D89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778F1-59D8-440F-9344-61CDEA5E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2B918E-761E-463F-B78E-CA91F267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B5E3-414E-49F9-AFD1-EB481C9A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F2FD7D-D098-4317-BEF1-E8876C23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9D62D-8FF3-4D7B-A6C2-15D611B4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72D50C-7709-42E4-8A74-BB8A136D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31DFE1-A9DD-43FA-A532-7AD6BEEE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DE1DA0-1305-45F1-B053-0D2F51EA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1306A-1737-476A-B44E-B47CF20C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CC594-DACC-4654-B438-A87D247F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D5B849-09F0-4F13-A800-9C350DBE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77978B-0C11-4377-93D3-37C2891B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A781C8-3145-4034-B9AC-6BC95323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1AD8-AB0A-466A-AABA-D9923848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8EC806-9F27-4132-B05E-57970605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D84B2E-57F7-4352-871B-A7B9F366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8270EF-08AB-4825-8BEB-552B6A73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1758E5-0281-4344-ADE4-783A8174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53F5DE-BE40-45D0-80BC-47093F21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74702D-D52C-4700-8B25-4991FB96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6D15EC-B818-4EAD-BB7F-9FF3C720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D69F69-361A-415A-A664-BEA2E4D8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657CB3-3DCB-4237-B728-F6B22820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6138A9-3DE5-4CF6-AC99-B01FFDF3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E5752-A25E-40F1-B819-27405049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CF7526-9527-4819-888E-56900F01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C01B83-FBC3-4EB0-988F-1B168E10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96F1DE-8C25-47B1-86F9-DB6E703F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FAF72E-C0F4-46BD-97BC-B9AB62A2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F00FC4-D1ED-4986-A4D8-2981A934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B4E66A-2B4E-4365-A7C4-BBB51901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CEE758-0083-443B-A625-A239EA4C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6B6483-2BDD-4F2E-81A6-ACE0C0F0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467C41-6EF0-4891-B8FC-98BC326E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2548F9-0D5C-4024-87B8-85D2BCB0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9231-9FAE-4976-82A9-76201EB7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1F9AE7-D0C5-41C9-B6B2-6D5CE0BF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D9B7E4-759B-4F69-B0A2-5AAA1DB7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685C23-7047-4555-BA02-4F7C0C71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93A72F-A5DB-4A3F-92C8-B524A78D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BFCEE3-BF88-4FBA-9B84-45CD8E8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CF77C8-C2C2-4954-BC65-008DF2B5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5DE940-8C3A-42FE-87B7-91554009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DACC5B-CC3B-416B-805A-1B077EE1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DC37C6-F143-4CD1-B5C9-92967402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84080A-939A-4EF2-A10B-78BAAE0A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F0C4-7B98-41C7-B5B2-A5C314EB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4780CC-7FF0-48F3-B024-03E901D0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36C2B5-60A3-4178-9113-D2BD9A3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D0E3A4-D624-41BD-89B6-CED1102E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82F986-A32F-46BD-8E27-C295039C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815563-48F5-41BB-A927-97A27211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722310-9B4C-438E-BF15-A2558CCA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B63B1B-FE18-4D22-8AA8-4C123361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B18A43-8EB2-4914-88E2-E6272FEB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9E8A44-917C-451B-9469-19C1EBBC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362BA4-F38C-408E-904A-A142AE6D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F7B-96D2-47FD-958D-6FE086AE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765F-5CE0-49C2-A617-A2291670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F663CF-9767-45FE-A63F-703D2790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34D11A-66BD-4624-94C1-46E2D26F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760E4C-D4FD-46D9-BE33-0C99D745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BCCB94-29B1-4186-AAFC-D6EBFA72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D41F5D-C2E7-42A3-A0D4-D0DD5FA8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CB3276-1149-46B5-83F8-7C144665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92ED48-2F57-4492-9F7D-DFE5E516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0E6D37-03D5-4C2C-ACA1-B81D7C63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E04A03-8A45-4CC9-A74C-E53CE474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627E6A-EC5B-4810-A8B9-1ACDAD14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2CBF-EA30-443E-8EC3-180F134A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911E76-2BD0-4E29-B2E0-87424928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EA163D-C5B2-46B7-BF96-995DEAE6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FCBA91-3A32-47A2-AC8C-29DA6D25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4C563E-AE3E-4D61-AF81-E26C1C86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83D8CE-607A-4277-B04C-193AE91E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6791AB-6F2F-471A-BEBB-79616A02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C8B2B2-E3B6-451C-92B1-0990BC80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391DF3-4E57-4032-9F80-29DD49C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EA1B8F-C274-47C7-ABB9-A7B21B10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94D5D1-0EA8-4985-98E3-D3485657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09E7-CA08-4755-BE8A-10E6275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7EBF6A-6754-4A41-BFBE-7F4EAF5A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7E7936-59B4-4903-B1AB-DD95CFAB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7FA616-CFC7-49BA-918E-E0E84C89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64A8F5-3F43-4F8C-8908-610A1BFD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95DA97-0974-4A25-BFA4-34936739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410BF0-87E6-473A-B906-5CDE6024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99638E-A4FA-4813-8FE4-F25E2EF8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682821-8E91-427B-A6F0-4A0A0A1C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11EFC6-BB84-4C91-937F-DD1622B9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A97671-F63B-4843-99B0-A698265F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840E-1D60-47BB-BE16-D88EC66D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934286-8F8A-4FE5-A924-8714B839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1A9111-C081-4233-A1E3-49C5AD78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3AED6E-72C3-4056-85E6-A65CEB36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50598C-E614-40C6-B540-8EDA34F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D2852F-9302-4EA4-B2E3-3A5E9BE2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3B0FBC-B31D-46F9-86B8-BF991568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1092CF-137D-4BBA-809A-B8971B46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271F1E-D079-4FC3-B4B5-C9B8EFFB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5458EF-6B9D-419E-87B6-019C677A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7BD0C4-F109-4326-BC91-15824EFE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C8C0-B986-4A81-885A-740D93EF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510AC2-A652-46A4-B9B0-B406E93F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E42FB1-46FF-48D9-B100-F4BC50BB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6A5EC6-BD89-4817-8854-0944C398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4346F1-FE3D-4621-AEDD-10C4CE85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29C014-0026-4D15-BA3E-78503BE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DB4E2A-ADCD-4EB3-8541-EC07C504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DB3286-141A-4F16-B8E7-E1EEE92B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458DA0-BDC8-4835-A1F6-25114782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AEEFA6-C55C-4226-85C2-82DD3901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48B3D2-2596-4E6F-B84C-45BEA742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1A056-C98D-477C-B27D-86A03E6B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6C2AF1-6164-4F57-AAF9-E711B47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1C06D7-D4A5-4289-B6FE-AEA37DE8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0F04D5-1D49-49DD-8635-468EC3F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E2C59C-481D-45F6-85BA-4DE402C3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6F553F-2BAA-40EE-B7B2-5C507B8B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C82250-9259-43B9-9239-07D00A83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5C0ACE-A6F3-4B98-B233-4BFA4BB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95D47E-A967-45E6-8F87-8EAF64B3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09457F-3F66-446B-B947-9CD2B5D2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44B037-09C1-41E3-A24D-B4380226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D432-A101-4E28-877E-D05CE90D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CD76BD-B8A3-49D3-B221-DE0B5E40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5C9799-7FBD-4220-9D46-09EF2272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68E15C-134E-4FDD-A9B3-035DD4B8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902C30-CD08-4BDE-B489-3FD5F77D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603C5D-F8BC-4898-A388-61EFB258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FA612C-E313-4FA8-BC90-EC591FC4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C9DFEE-1E32-4C54-ACC4-5428CEFD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BF6649-5CA0-46D6-AC7A-CA680229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BF3B0E-2E11-4316-A372-6DACF28D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835A08-0020-4BC8-A84B-D52F014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33047-E2C4-4119-9A2C-3B42EB22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AD80D5-5151-470B-BAD6-A6A0E4A9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6B0A55-6885-4D24-B0A7-AECD0D03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15E787-90A6-4BDD-BB79-F4A740DA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9B630E-0788-4C2D-9B4B-CC9FE623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48C024-66A9-46C0-8D4F-67CA4E6D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6B06DA-DD48-4C0D-88CF-FD24BD65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B2FC64-3D66-4C6F-B0D1-5E8C102E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B3F442-B15F-4643-8AD7-C738923C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BEE856-4DE1-4E31-9E56-AF955F35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35A086-3759-4124-961D-72EA74C5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BDAA3-D92E-4243-B716-27A9F829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403226-7166-458D-AE0B-5AA50D12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2C9099-0495-4AE9-8FC1-D8CE962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7F77CF-037B-478B-A7BB-16452D89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34B703-81A8-4E4B-87B0-40C52856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502368-0F65-4A50-897D-453CAAE2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D16C72-E5E6-476A-8516-525ABEA8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B4AD0B-5EEF-423E-A5C9-EE86FFEB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BF2F2E-9D1B-4B85-AE7B-61840E46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7ACC74-5987-4FF2-BFA2-7DECE337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091A26-9871-452A-9F43-52A77CF4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718E-28F5-4E9C-AE4C-0E1E6466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6D5E13-0D30-4D6D-A138-74A6F672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8BAE22-7498-4EC8-A5FF-43BABAE2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B302FE-A529-48E9-AB4C-9199FBE2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3C5EE8-30F7-42DE-A64D-47449987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6CB48A-E0F5-46F4-9452-1764A385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927CD6-CDA2-4E5A-9583-1526C547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294381-955D-4EA2-BA6C-AC3A9D90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9697E4-65C3-468D-8D63-1C2F951C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796761-9790-40E8-B8AA-AD61D733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7D2DD1-8C13-40DD-9866-5DD96829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B0B-9A9C-4544-8414-2066AF14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1CE3-0FCF-44B5-A556-7B04414F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9C77C3-9CA9-4DC0-99EF-95A7F6B9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542B76-FA28-42C6-9EBB-6791557D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D1550F-DC5C-4DB3-BBEE-25185B6E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8C3090-4341-45DF-8082-B123B5C4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B94F39-95A4-4338-A58D-8FB065CF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6EC7B3-93C7-4603-8F0F-6EE7B1F6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E10C0F-1CB9-492B-AA0C-3DD49A0F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45D1DE-65F9-4E9E-9E28-E447ED85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68AB14-B62F-4AB4-8275-146667E0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385DFA-8106-4669-AE65-91E8AB44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53FB-0556-43FB-8611-F3094523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CFF69C-FEEC-48FD-A438-50514C65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E88BFC-1AB9-4B86-82F0-A6CD538E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CCB51D-417F-4F22-BD74-23CA38C5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428507-26B0-4982-BF08-1536A866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951D1E-6162-4674-9661-8BEE284B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AF1B89-F6C9-4A47-83F6-D9B0C1AC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E32122-0BE7-401A-9396-1356F62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90BB72-F7D5-4AC6-A319-3523C72A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80C1F9-704B-4979-BA28-BE5EB968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388863-89D3-4B73-866C-41EA3E2D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1E397-6A8A-445D-AD0C-DBE907D7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027A197-00A9-42A1-B2FB-6567FCE1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319315-8EA1-4E8D-B600-517AB471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6DDBAC-4307-4DAE-9A95-A3BFF5D2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F6D747-F3C8-41ED-B2E5-11D69F88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113904-229E-4CCC-A7F4-4FFF21C7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61C2CD-9BBC-45F6-9A1C-03E00929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819BD9-DCD4-4287-91AF-33A0BA78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F33B47-60B5-4FBF-B59F-154A8733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3EE566-FEC4-49C3-A61E-1A5BAFFF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3CC0EF-66A8-4F67-892B-6C48F427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BF889-5CCC-406B-935A-8A45E924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9356E9-8883-4549-AC6E-F804439B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0397F2-07C0-487D-9252-BEA09DDC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2795F2-391C-407C-881D-2093B234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6992CDB-B5D7-4A8C-A591-D3D2BA07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066C3A-6872-4769-82B0-206AFD60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74374BF-7F7A-4977-8D60-8F8F9AB6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19ED1E-7F67-433F-8638-697EDF67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80195B-E9BD-4323-8205-2160E6A0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D6268A-840F-4994-B2BD-13BB0A1E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D0E5EC-FC00-41EA-A3C2-F9D6E28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2DEF-2082-4971-A92D-2A6A8435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332D7B-F4B7-4B46-95A8-0181FC08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502F7A-1D6B-46D1-A1F7-2FD85B39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2DABBF-470D-4592-B690-2EA0F8B6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D6661D-8DAD-4903-B76D-4D9129A0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EA1619-41FF-42B3-8BD9-9367ECAA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09ACDC-7970-4C82-AC3D-86DA268A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D5A7E1-5A67-48AC-8D9D-F6DD2C37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1AE204-48CD-4399-97C9-34451073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71A18D-6306-44E2-8734-64758ABF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82C4FD-10E3-4AE8-8E8C-1973437F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9C4BC-40EF-49DD-9EAC-6EF51A00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E19BAA-2C09-4581-8336-6590CA60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3844D9-9B35-4060-ADCB-420D72A6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F43A98-7064-47D5-B544-3F9F98AF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AE4AF06-A8C4-48AA-9696-0B6BD3BB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CED375-7EC3-46D4-9C10-593D60D4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21E1EA-883A-4F74-8E38-0AB2C930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B93F5B-B398-4D59-A019-FDA843B8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E2365FF-4B90-40BF-AB8C-6F66E5DB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D3BD071-775D-4420-A076-59AE441C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08D4FAC-6750-4156-B690-FA93EC16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2090-E97F-402A-A469-182A2144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ECC7E9F-CF7D-43E5-9CE7-431D9B5E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303CFB-C17E-444F-ABD4-982F2837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EB6C2FD-6F04-4021-9D1A-6024C042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0D497F-198A-49F0-B32B-A2B9B35D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4A0E02-CD98-4672-A6AF-DE1B65B0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426002-A048-46EB-965F-7D17CE6B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77E0CC-811D-4C81-A5C5-E079F9CA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4FB601-C193-4C8D-B9D0-80AAAE6A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E04AC0-9840-4610-9EFA-00BA0BC0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39F1B1-AD39-4467-A619-57518373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4F1D-8812-4D80-A0DF-62C827AA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9A1B9F-C39D-441D-803F-A08B6CFF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4E98183-5BBF-4530-BA9C-19767382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66EBE0-619C-4CF5-863D-ED816CB5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B356A84-C193-4BC3-B8AF-06BE3216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4BDA7C4-C451-4FE0-A8D0-BE5337A5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F03A2F-B274-4103-9612-27090151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8BCF6BD-329C-4EFC-93C9-ED82EE0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2C3F7C-A0BE-40AD-AB0D-BC78B50A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42DCA9-D47C-4BFB-BB16-E3653113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57BC00-DBF4-41C4-8359-01029574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B618D-AFD1-43E8-BC68-5D709040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B82C18-348D-40A5-84DE-7730D7ED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8274C5-ACD1-4485-8CC4-B585034B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2725D2-1293-4575-9E06-127C41AD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03EF60-A36B-45E7-95D2-C98D403B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3308FA-F31E-4B78-8959-88463ED6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EB9B6C-6142-40A6-9989-26E2BA8E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080C4CD-02C4-45AD-8AE9-7D7D7097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4DCC7B-545F-4D92-BFE3-7FFB709F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880083A-E769-4E58-9E55-B00E2042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726166-4AF9-401F-BAA3-CEFDE21F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AFE48-D2C1-479B-9DDA-4A051CCB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972A28-9AD2-4975-964D-9228638F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A199FD-99F1-4A91-A509-E821E25D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81E814-97E1-49EA-B9D2-94C8D0D2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0242557-61E8-4420-B762-3B61E760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87C8C56-CD6A-4C7D-B344-3C520AD1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CDCCDB-93B0-448B-A596-A53CBD06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9A77A07-554E-4145-90B9-08FC5CF8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82DC6CC-8DF2-4E1D-ABF7-4C5B177B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7ECEE9-80B8-4072-ACCC-AE2E01CF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BF0624-DC6D-4F46-B3A9-5FE8C793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EA1-E4D1-46E8-966D-60DDE04A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24BEB-61A1-46E9-8E4B-BD7BF956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73D682-052C-467C-9D0C-6994CF91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27586E-C6AB-4083-893A-01A14666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B7EA56-7F1E-465D-942A-834ABDEB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AFEBF5B-05AC-4C45-951A-3999868F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8D682E-0837-4CA9-8D90-E513230A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ACF7CEF-2949-4D2C-8F76-B6E3BE25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E4D6B1-4919-4D09-8384-832A65A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FECF4A5-DA7C-406F-82B1-02CF7215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3BCBBE5-02F8-4E6C-B6D7-0E56B1B6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AF538F3-6B66-456F-A80B-1E9009AC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16B82-8B6B-4D94-848D-7D982198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D97326F-75B7-4935-80B1-F82A7A79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9B0FF05-8A6D-424A-88FE-0C7969A4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F9C4910-851F-425F-B7F4-3B4E119B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A8A77E9-124C-4652-A589-CED16BE8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CAF8CD0-7EC0-49F1-BBFF-D408176F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3E357D-3C21-441A-A060-6DC52AD9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89C31A9-7CCE-4EA9-8A71-6AA71040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4D32D6-75D4-40C7-BFCD-8B689A5F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9454EC-9FB8-4CB0-B591-2227C2DC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EFA0FF-8563-4757-9D55-CA1F904A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A586C-2EB0-4542-B3FD-1D09965B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63CDDA-D840-4E0E-BCFA-228157E6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C45E556-464A-42C3-8F29-6CFDD1ED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158226E-3030-4314-B049-07E4B239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CC7063B-18CF-4F1C-B369-BDE434CE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F9E524C-063C-44E8-A533-63C32FD8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2AB9F7-84F6-4152-80D3-915D25AB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93C603-C2DE-4CCA-B223-2B06EAA6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254E75A-2FD9-4361-89D9-636AF94C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F507A5-966E-486B-99E5-688AF39A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92E8864-75DA-4780-9E84-251281BF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8DA83-7261-43F3-9BE9-ECE7CF9F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6FEFAB-E8AC-41D7-8A30-20A28FDC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73D47A-3B6A-4AED-BC48-EACDDC66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DF29336-5DFB-4208-AF9C-87FD71FA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7352A7-FED1-460A-AD19-1D990DA0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97027B0-04F0-4571-917B-B521E408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8C504F-95FC-4518-BB3B-4D38626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D19FE4A-B97F-4AD9-86B0-44076629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0BC37F-0CDE-4F4A-AFFC-D80C55DB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B916BD9-DEEA-4D54-BD8C-96896254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280E529-9E4A-4BA4-A28B-E86FD5DC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3E083-50B0-496B-9A23-36CBC304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AC4F388-8C39-48EB-869C-CF108E42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8419135-E74F-409B-87C2-ED3B2F57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0E1E583-4A63-4794-A196-080B6C76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D994B4-A690-4B77-A308-1452E07F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8CD8C0A-67CE-4B12-8D97-58F0C096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67A86F2-5EE7-4C04-B090-F91DCC1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B63D912-1C6B-484B-9E78-3B3B0498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D0D4FAA-5A29-4E1F-9731-F597AC98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1E6A56-05EA-43DB-B70A-3BF4EA3E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BE7F201-371B-4735-B048-BF7B10F0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50EF7-F10D-4425-9D59-14B3A55E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B30DA98-C324-4931-B56E-DB29F0EB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D330982-4108-4290-8B96-9F5CA11F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060F7D-C5E8-4777-BB20-79168056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380EA0A-17B0-4A62-8643-09DC1453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8273655-B0C8-4517-A50A-6E4BA112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DB7740F-681C-41CD-80E9-9EA307B7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987598-998B-4514-AFE8-1AB0927B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2D15147-B70C-4938-A732-C99F4BF8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8EF0E4A-4682-482B-9B2B-A9C48E6D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574658-47D1-45C0-A8BF-D4762AE4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C7104-1B6E-46E4-85E8-256607E4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7A66CF0-96FB-45AC-8049-99C9BF19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58CDBE6-F10F-497C-BA5A-29B04552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0BBC76-1467-4DE9-9CD5-5C01491E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71C194-BB0D-4A07-A625-F49BCD7A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B1A2885-F022-496A-B15A-EBB76510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2BB5F4-776F-402C-8429-23E0FAE1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6860E3-3485-4EF0-BE71-AFD14A5A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09785DE-7D74-4310-B0AA-C502A429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1EC9802-98DF-4DEF-8D25-7FB44198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9089DF-9752-4299-9507-B12EE104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2FAC7-6A30-47F5-9EDD-FA5EF4C1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377C9D-3746-4C17-ABA3-6A11C6F5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D388D3B-27DA-42A4-8AD9-590699B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7EDFE61-6F0D-4E34-97D5-956335D6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C469408-7B94-491E-8A18-10806C0B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731A40D-557B-42E1-98B5-1D3888F8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E75925D-E89E-4EA4-9A8E-1851543F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3BE93D-5120-4BB4-8406-B8AE85DF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A00FAE-063D-4D38-8EA2-981C2084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113A5D5-4BBB-4748-8ECB-882C1B5C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F37D770-8520-48A0-AE61-FA81C12E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51398-7CDA-483C-BFC0-B63EBE62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FD08355-ECDE-4342-9DDE-44F3CA4A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FD34083-DCBE-46B0-9D18-6889EB60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5B47536-3F52-475B-9363-489C66A7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A65C584-CD16-415B-A58D-C9DA37E3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4FDEBBF-47BB-4346-A254-3EBB3522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4B5D04-50DD-4EB9-B999-C67014A6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610AE99-7D70-46D8-B222-31950301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8130E80-151C-43D3-83C3-CBA3354C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A515ED-4122-4666-B325-CDD5746C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D8D3AF1-63A0-4C14-8FE2-0F64FDE4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0C4B2-4CF6-4618-B484-D3648525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FE0B51D-327C-4C0D-8489-12A00F47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F760181-9B81-4304-9518-C8BF5C33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621199A-24FE-407C-B3BD-74A91803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323DFAD-929A-4F0E-8DB9-40DCD801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4D30244-1D78-4D5E-A663-B615F3AA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64F9172-8C70-4D34-9A8E-53F10A5B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DC20DD3-E1C4-4D15-8336-B8FDE22A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07E246-6EE4-4BE3-A3A1-E3117DEE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21B063F-FBF4-416A-8260-11588C2A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E51C583-E475-489B-9E9B-3F7507FA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171-60D8-4B71-A17D-40685047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E876D-79AB-4070-9D5C-40B87DD0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0AC5EF5-4D07-4AFB-B4F0-8A12ABAD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33D256E-4FD1-4D1F-9934-3CDDE640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69CD5E2-D855-4D46-B898-6A170CE3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3B3B687-01B1-4A56-AD3F-0A22C4E6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9C758B2-2309-42B7-8C5C-9D9F55AB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10839B3-F0DB-4A0B-8E9B-F210A596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A6DF914-11E9-435E-944A-8A868E48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2BC7B07-BC7B-4DA8-B8EA-CCB2ACC3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B182683-8B27-4DE2-9AD8-FB42E3CF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173DBE6-C6A8-48B0-A1DB-F43CCF30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C4999-B01E-40E7-A037-2F288534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1F5F3D-58E0-4CA5-9584-CA8BA455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D890356-20DD-4D90-A997-4C598F20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B1C3207-E77C-4985-9324-905FEF9C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7156C95-110E-41A6-B728-FA27F4BE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850E53E-1C7A-4B50-9087-B4DF1960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5CCA3A1-1CE6-46D2-AAFD-3D4D1B04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45E074E-7A38-46E4-BF19-A19B6148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1C0D894-75F9-4C96-BD45-0DA84BDF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27814B0-D3BB-44F4-BE6A-0474ECEC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6384B71-3FB0-4FE9-83AA-0341AEE8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8E79A-275A-4A06-B824-BAE0C0E4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4063A11-5388-4F82-8F10-350E22FB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9CD56E9-E6B8-4F64-AAF2-5B7E11F0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BF65D08-0FFB-491E-AD8E-24B3D95B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6DC7949-DDF3-4267-B80C-F8AD09D7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87155C6-509E-407E-A16A-FC713BD5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5E7C48F-A254-4B28-B5FD-B8927434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9C0823D-6552-4472-B3C4-4238CFFE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75E60D2-507F-4F59-AE9A-254E055D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6AEB101-92EB-48FA-B105-EFF8D4B4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60C768B-EA00-4F0A-9300-44E8C882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71BE3-9F04-43BC-8923-C9AAF682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D1E11CC-3576-41DD-A13F-866A9BDF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66C7DC9-FB23-46AF-93A2-39EDA1F3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136E5BA-824C-4D5D-8662-BB752963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E9776C0-0ABE-481C-BA1D-16FD22A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7DC652F-1ACE-46AD-906F-73CAE278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662CED1-6F74-444F-9BB9-FBEF12E6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B222986-263A-420F-98CD-19AFE3D2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450C-BE9E-48DE-821E-01884836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EA71B-69B7-4E19-B2A7-CD3A3297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07C53-E8C5-45C6-B785-5BFE4903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AE8DB-E4E5-45A2-AD09-46D9486B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7024D-546D-4D8F-9E29-5FCF8E1F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32E30-6461-4BD2-AD2E-A2EC0981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044-8B1A-4438-BA77-E4D9022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6E5AE-A29C-4D44-80A2-12C7BD08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CE237-9F09-4F7C-9379-57A8729B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B3F27-1C08-4628-9B5C-15101B68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F5544-43FB-4324-BCA5-170FEBC2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1208B-4CD9-4D94-8224-57999E71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3B1B6-5D1E-4B8F-9088-9A0CE2EF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6372-890C-4F5D-9061-F52557C9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15436-DDE5-4096-AEBF-431B0C9F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5079A-2BBB-40C6-8C06-17838941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ADD72-2FCA-4EE2-BD8E-D8CE067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4DA-579A-490E-B4CF-C07D6E13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0BE67-1874-4D96-A029-F2A51F50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9B831-634B-4C15-8B55-3FB537E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06D07-C2ED-41DD-8014-F4B6DBB4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A99ED-78F4-4B80-93C6-B258567A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17F08-DD87-4C61-8345-CA129A3E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1E391-1CD7-4E80-B89B-89570A72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C4AAF-CA45-44C8-A1D9-B74150FF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5B268-E04D-41A3-9836-1924E9B6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F3193-7D48-4A4A-8FA6-21E1878A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335D7-2753-4024-90C2-CE4E3B27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659-5ECF-48D9-A04E-F1AF0A83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2F8F0-772D-4533-9EF0-1A7985D2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502FE-8C57-40EF-8BBE-9B521CA8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E33A1-1741-47B9-A147-13287678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F7AE6-060D-4F3A-8ADD-FC17C0A6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D3277-8A1C-4AB4-8315-26B9F0B9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B1160-F8D8-422D-B585-A4F13ED2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8286C-61D6-42D7-8259-EC22A39F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40B47-7AF1-4AF8-9E84-5B66DE73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86A22-5B0A-42AE-B9AE-C4836091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CAEDE-06F3-4BE5-BF15-A35E10EC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FD5C-EC3E-4C8B-9BDA-E64235C29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A4F9-4EA6-4954-8091-8AE695311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5378-E723-497B-9D0C-7C495A80B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1213-A4CE-4BD5-A23A-D1C0744E2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A82C-3F3F-43D2-B8AB-0AD4F893CE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A2DC-C7D0-4A11-B642-B6DADCDDC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025B-7408-4353-ABE3-66A53076E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78DD-0BD3-46FB-8CA3-A977039F3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7515-9D3F-4E0B-B0D3-6EDBA07EC7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EE6A-D60A-4C77-82DD-63CBADDDA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ADA7-A241-4CAE-A2A1-EBB62F5DD1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1246-DB7A-4DCF-BE16-6864616B5D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74AB-732A-4486-A318-0381BBF977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8C67-543A-4D13-B137-3E3BD5A8B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843A-AD02-4096-A286-A07295F451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033D-370F-41EB-A4FF-1CCB1A01F5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3376-D629-4F31-BBDD-69F38620C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AD65-4FF5-4F9D-B666-D83DEBF69E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6BB6-E922-4E11-AF92-BAA62BB055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996D-6283-475D-BCA4-DA03A079D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967B-9E12-402F-AECB-DD2E4C8B4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7B1F-5F08-435C-8E4F-6BB22909B7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1763-BAEC-47A9-B974-271FC2D56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9B80-0C2A-440F-8096-CE2DF79B0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1BA1-073E-4E86-B5B2-9E131330D7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D392-52C0-4A19-9228-FD2B09410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AF8B-A4CD-44DB-8584-6E9186A2E7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079B-CAE9-4AF0-8120-56560EA9AB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2EC5-8B25-4FFD-94EE-E48048B30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17B2-C161-4EDD-88E9-6AF0306698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832A-C6E8-4AB2-BC7A-4691E1B7A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E7BF-FFA1-481B-8EA2-C5A98EB414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A47D-F9CF-45D0-AC66-67E1D8DFCB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37CE-2741-4439-9964-AC5D36937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5957-4B6A-4074-BD9E-C747FA22C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89D0-B727-4262-9A8C-6AF0FF374B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56BD-CB35-4849-9684-BF84A214C6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EED0-C996-4117-9FE2-4571E50419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22D4-BD65-4345-9D9F-33CFC35012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EDB6-7829-4EF4-83B7-2EB841B06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FA9A-5024-4813-AE5B-BABE3EF34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3AD7-A10E-47F7-B758-BA84304C8A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13BE-8929-4DA0-92BE-70AE79A95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74B6-A219-43D5-AAC3-816875FDB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7182-C024-4C4A-9285-2FD12633C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7813-97E0-43E1-961D-DE1D5E622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DD3E-681D-43D9-B8BF-11D6462B9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29F2-0B93-4D0A-8537-315A3CB0C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F1AA-0962-40BA-9A3B-E588E05F3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31E1-417B-4A4E-BA99-3295E0EF8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DB96-33CE-4787-A1B8-A4B486093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7D0A-698F-4F36-9B51-8CA4CCDF6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A664-B659-45E7-946B-891C2A061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TextBox 1"/>
          <p:cNvSpPr/>
          <p:nvPr/>
        </p:nvSpPr>
        <p:spPr>
          <a:xfrm>
            <a:off x="482760" y="2066760"/>
            <a:ext cx="8646840" cy="9471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ambria"/>
              </a:rPr>
              <a:t>Направления развития системы оценки качества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Box 2"/>
          <p:cNvSpPr/>
          <p:nvPr/>
        </p:nvSpPr>
        <p:spPr>
          <a:xfrm>
            <a:off x="3034440" y="3147840"/>
            <a:ext cx="3189240" cy="5806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Руководитель Рособрнадз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3192"/>
                </a:solidFill>
                <a:latin typeface="Cambria"/>
              </a:rPr>
              <a:t>С.С. Крав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TextBox 15"/>
          <p:cNvSpPr/>
          <p:nvPr/>
        </p:nvSpPr>
        <p:spPr>
          <a:xfrm>
            <a:off x="1454040" y="268200"/>
            <a:ext cx="720108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Особенности проведения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Прямоугольник 23"/>
          <p:cNvSpPr/>
          <p:nvPr/>
        </p:nvSpPr>
        <p:spPr>
          <a:xfrm>
            <a:off x="1763640" y="1276200"/>
            <a:ext cx="6193080" cy="79056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3192"/>
                </a:solidFill>
                <a:latin typeface="Cambria"/>
              </a:rPr>
              <a:t>ППЭ  оборудуются средствами видеонаблюдения, стационарными                   и переносными металлоискателями и по усмотрению региона средствами подавления сигналов сотовой свя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Прямоугольник 24"/>
          <p:cNvSpPr/>
          <p:nvPr/>
        </p:nvSpPr>
        <p:spPr>
          <a:xfrm>
            <a:off x="1763640" y="3147840"/>
            <a:ext cx="6193080" cy="57636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2e3192"/>
                </a:solidFill>
                <a:uFillTx/>
                <a:latin typeface="Cambria"/>
              </a:rPr>
              <a:t>Добровольная</a:t>
            </a:r>
            <a:r>
              <a:rPr b="1" lang="ru-RU" sz="1400" spc="-1" strike="noStrike">
                <a:solidFill>
                  <a:srgbClr val="2e3192"/>
                </a:solidFill>
                <a:latin typeface="Cambria"/>
              </a:rPr>
              <a:t>  сдача обучающимися, проживающими на территории КФО в 201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Прямоугольник 25"/>
          <p:cNvSpPr/>
          <p:nvPr/>
        </p:nvSpPr>
        <p:spPr>
          <a:xfrm>
            <a:off x="1763640" y="2325600"/>
            <a:ext cx="6193080" cy="60660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3192"/>
                </a:solidFill>
                <a:latin typeface="Cambria"/>
              </a:rPr>
              <a:t>Запрет на использование средств связи и справочных материалов участниками и организатор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TextBox 15"/>
          <p:cNvSpPr/>
          <p:nvPr/>
        </p:nvSpPr>
        <p:spPr>
          <a:xfrm>
            <a:off x="1471680" y="262080"/>
            <a:ext cx="7200720" cy="489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e3192"/>
                </a:solidFill>
                <a:latin typeface="Cambria"/>
              </a:rPr>
              <a:t>ЕГЭ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Прямоугольник 21"/>
          <p:cNvSpPr/>
          <p:nvPr/>
        </p:nvSpPr>
        <p:spPr>
          <a:xfrm>
            <a:off x="5006880" y="2293920"/>
            <a:ext cx="3813120" cy="53496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Совершенствование структуры  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Прямоугольник 14"/>
          <p:cNvSpPr/>
          <p:nvPr/>
        </p:nvSpPr>
        <p:spPr>
          <a:xfrm>
            <a:off x="5003640" y="3013200"/>
            <a:ext cx="3813480" cy="64908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Базовый и профильный уровни по матема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Прямоугольник 17"/>
          <p:cNvSpPr/>
          <p:nvPr/>
        </p:nvSpPr>
        <p:spPr>
          <a:xfrm>
            <a:off x="4992840" y="1646280"/>
            <a:ext cx="3813120" cy="50328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Устная часть по иностранному язы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Прямоугольник 20"/>
          <p:cNvSpPr/>
          <p:nvPr/>
        </p:nvSpPr>
        <p:spPr>
          <a:xfrm>
            <a:off x="5006880" y="3844800"/>
            <a:ext cx="3813120" cy="53676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Итоговое сочинение как допуск к ГИ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Прямоугольник 22"/>
          <p:cNvSpPr/>
          <p:nvPr/>
        </p:nvSpPr>
        <p:spPr>
          <a:xfrm>
            <a:off x="662040" y="1635120"/>
            <a:ext cx="3811680" cy="62064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Печать КИМ в ПП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Прямоугольник 23"/>
          <p:cNvSpPr/>
          <p:nvPr/>
        </p:nvSpPr>
        <p:spPr>
          <a:xfrm>
            <a:off x="650880" y="3230640"/>
            <a:ext cx="3811680" cy="50328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Исключение из расписания ЕГЭ дополнительного эта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Прямоугольник 24"/>
          <p:cNvSpPr/>
          <p:nvPr/>
        </p:nvSpPr>
        <p:spPr>
          <a:xfrm>
            <a:off x="682560" y="3897360"/>
            <a:ext cx="3811680" cy="50328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Увеличение количества заданий в открытом банке на 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Прямоугольник 25"/>
          <p:cNvSpPr/>
          <p:nvPr/>
        </p:nvSpPr>
        <p:spPr>
          <a:xfrm>
            <a:off x="662040" y="2381400"/>
            <a:ext cx="3811680" cy="68580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Оптимизация  сети ППЭ с увеличением количества онлайн-аудито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TextBox 15"/>
          <p:cNvSpPr/>
          <p:nvPr/>
        </p:nvSpPr>
        <p:spPr>
          <a:xfrm>
            <a:off x="1454040" y="268200"/>
            <a:ext cx="720108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Особенности проведения О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Прямоугольник 22"/>
          <p:cNvSpPr/>
          <p:nvPr/>
        </p:nvSpPr>
        <p:spPr>
          <a:xfrm>
            <a:off x="1835280" y="1995480"/>
            <a:ext cx="6192720" cy="43164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2e3192"/>
                </a:solidFill>
                <a:uFillTx/>
                <a:latin typeface="Cambria"/>
              </a:rPr>
              <a:t>Добровольная</a:t>
            </a:r>
            <a:r>
              <a:rPr b="1" lang="ru-RU" sz="1400" spc="-1" strike="noStrike">
                <a:solidFill>
                  <a:srgbClr val="2e3192"/>
                </a:solidFill>
                <a:latin typeface="Cambria"/>
              </a:rPr>
              <a:t>  сдача обучающимися, проживающими на территории КФО в 201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Прямоугольник 23"/>
          <p:cNvSpPr/>
          <p:nvPr/>
        </p:nvSpPr>
        <p:spPr>
          <a:xfrm>
            <a:off x="1835280" y="1276200"/>
            <a:ext cx="6192720" cy="50328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3192"/>
                </a:solidFill>
                <a:latin typeface="Cambria"/>
              </a:rPr>
              <a:t>Организация и проведение экзаменов является региональным полномоч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Прямоугольник 24"/>
          <p:cNvSpPr/>
          <p:nvPr/>
        </p:nvSpPr>
        <p:spPr>
          <a:xfrm>
            <a:off x="1835280" y="3363840"/>
            <a:ext cx="6192720" cy="107964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3192"/>
                </a:solidFill>
                <a:latin typeface="Cambria"/>
              </a:rPr>
              <a:t>Обеспечение ППЭ </a:t>
            </a:r>
            <a:r>
              <a:rPr b="1" lang="ru-RU" sz="1400" spc="-1" strike="noStrike" u="sng">
                <a:solidFill>
                  <a:srgbClr val="2e3192"/>
                </a:solidFill>
                <a:uFillTx/>
                <a:latin typeface="Cambria"/>
              </a:rPr>
              <a:t>по решению</a:t>
            </a:r>
            <a:r>
              <a:rPr b="1" lang="ru-RU" sz="1400" spc="-1" strike="noStrike">
                <a:solidFill>
                  <a:srgbClr val="2e3192"/>
                </a:solidFill>
                <a:latin typeface="Cambria"/>
              </a:rPr>
              <a:t> субъекта РФ стационарными и переносными металлоискателями, средствами видеонаблюдения, средствами подавления сигналов подвижной свя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Прямоугольник 25"/>
          <p:cNvSpPr/>
          <p:nvPr/>
        </p:nvSpPr>
        <p:spPr>
          <a:xfrm>
            <a:off x="1835280" y="2612880"/>
            <a:ext cx="6192720" cy="60660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3192"/>
                </a:solidFill>
                <a:latin typeface="Cambria"/>
              </a:rPr>
              <a:t>Формирование КИМ из открытого банка заданий на региональном уров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TextBox 15"/>
          <p:cNvSpPr/>
          <p:nvPr/>
        </p:nvSpPr>
        <p:spPr>
          <a:xfrm>
            <a:off x="1403280" y="339840"/>
            <a:ext cx="7488360" cy="8254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mbria"/>
              </a:rPr>
              <a:t>Особенности проведения ГВЭ в 9-х и 11-х клас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Прямоугольник 13"/>
          <p:cNvSpPr/>
          <p:nvPr/>
        </p:nvSpPr>
        <p:spPr>
          <a:xfrm>
            <a:off x="2008080" y="1276200"/>
            <a:ext cx="5797800" cy="223200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mbria"/>
                <a:ea typeface="Arial"/>
              </a:rPr>
              <a:t>Провод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Cambria"/>
                <a:ea typeface="Arial"/>
              </a:rPr>
              <a:t>для обучающихся КФО в 2015 г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Cambria"/>
                <a:ea typeface="Arial"/>
              </a:rPr>
              <a:t>для лиц с ограниченными возможностями здоровья и инвалидов, детей-инвали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Cambria"/>
                <a:ea typeface="Arial"/>
              </a:rPr>
              <a:t>для обучающихся в учреждениях, исполняющих наказани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Cambria"/>
                <a:ea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Cambria"/>
                <a:ea typeface="Arial"/>
              </a:rPr>
              <a:t>виде лишения свободы, освобождаемых от отбывания наказ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TextBox 15"/>
          <p:cNvSpPr/>
          <p:nvPr/>
        </p:nvSpPr>
        <p:spPr>
          <a:xfrm>
            <a:off x="1332000" y="195120"/>
            <a:ext cx="7488000" cy="8254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Мероприятия по развитию оценочных проце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Прямоугольник 13"/>
          <p:cNvSpPr/>
          <p:nvPr/>
        </p:nvSpPr>
        <p:spPr>
          <a:xfrm>
            <a:off x="1692360" y="987480"/>
            <a:ext cx="6751440" cy="172872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2e3192"/>
                </a:solidFill>
                <a:uFillTx/>
                <a:latin typeface="Cambria"/>
                <a:ea typeface="Arial"/>
              </a:rPr>
              <a:t>Национальные исследования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- Качество математического образования 5-7 классы (28 октября 2014 г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- Качество начального общего образования (14 апреля 2015 г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3192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Качество образования в области информатики и ИКТ 8-9 классы (октябрь 2015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Прямоугольник 7"/>
          <p:cNvSpPr/>
          <p:nvPr/>
        </p:nvSpPr>
        <p:spPr>
          <a:xfrm>
            <a:off x="1692360" y="3579840"/>
            <a:ext cx="6751440" cy="57636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Независимая оценка уровня подготовл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студентов 1 и 2 курсов (январь 2015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Прямоугольник 8"/>
          <p:cNvSpPr/>
          <p:nvPr/>
        </p:nvSpPr>
        <p:spPr>
          <a:xfrm>
            <a:off x="1708200" y="4300560"/>
            <a:ext cx="6751440" cy="57456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Всероссийские проверочные работы (с 2016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Прямоугольник 9"/>
          <p:cNvSpPr/>
          <p:nvPr/>
        </p:nvSpPr>
        <p:spPr>
          <a:xfrm>
            <a:off x="1692360" y="2859120"/>
            <a:ext cx="6751440" cy="57636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Мониторинг остаточных знаний студентов-первокурсников (октябрь-ноябрь 2014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TextBox 1"/>
          <p:cNvSpPr/>
          <p:nvPr/>
        </p:nvSpPr>
        <p:spPr>
          <a:xfrm>
            <a:off x="1246320" y="2500200"/>
            <a:ext cx="6622560" cy="5814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192"/>
                </a:solidFill>
                <a:latin typeface="Cambria"/>
              </a:rPr>
              <a:t>БЛАГОДАРИМ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Подзаголовок 4"/>
          <p:cNvSpPr/>
          <p:nvPr/>
        </p:nvSpPr>
        <p:spPr>
          <a:xfrm>
            <a:off x="758880" y="331920"/>
            <a:ext cx="712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3" name="Picture 5" descr="Сайт г. Кольчугино Владимирской обл"/>
          <p:cNvPicPr/>
          <p:nvPr/>
        </p:nvPicPr>
        <p:blipFill>
          <a:blip r:embed="rId2"/>
          <a:stretch/>
        </p:blipFill>
        <p:spPr>
          <a:xfrm>
            <a:off x="6931080" y="225360"/>
            <a:ext cx="2011320" cy="2530440"/>
          </a:xfrm>
          <a:prstGeom prst="rect">
            <a:avLst/>
          </a:prstGeom>
          <a:ln w="0">
            <a:noFill/>
          </a:ln>
        </p:spPr>
      </p:pic>
      <p:sp>
        <p:nvSpPr>
          <p:cNvPr id="2184" name="Прямоугольник 4"/>
          <p:cNvSpPr/>
          <p:nvPr/>
        </p:nvSpPr>
        <p:spPr>
          <a:xfrm>
            <a:off x="216000" y="3603600"/>
            <a:ext cx="541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3192"/>
                </a:solidFill>
                <a:latin typeface="Cambria"/>
                <a:ea typeface="Arial"/>
              </a:rPr>
              <a:t>Президент Российской Федерации В.В. Пут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e3192"/>
                </a:solidFill>
                <a:latin typeface="Cambria"/>
                <a:ea typeface="Arial"/>
              </a:rPr>
              <a:t>15 октября 2014 года, г. Пен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Прямоугольник 6"/>
          <p:cNvSpPr/>
          <p:nvPr/>
        </p:nvSpPr>
        <p:spPr>
          <a:xfrm>
            <a:off x="192240" y="1690560"/>
            <a:ext cx="707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  <a:ea typeface="Arial"/>
              </a:rPr>
              <a:t>«ЕГЭ в России в целом сыграл положительную роль и как элемент противодействия коррупции в сфере образования, и как возможность абитуриентам из различных регионов поступать в ведущие российские вузы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Прямоугольник 12"/>
          <p:cNvSpPr/>
          <p:nvPr/>
        </p:nvSpPr>
        <p:spPr>
          <a:xfrm>
            <a:off x="1187280" y="1995480"/>
            <a:ext cx="2890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TextBox 15"/>
          <p:cNvSpPr/>
          <p:nvPr/>
        </p:nvSpPr>
        <p:spPr>
          <a:xfrm>
            <a:off x="1476360" y="341280"/>
            <a:ext cx="7488360" cy="429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e3192"/>
                </a:solidFill>
                <a:latin typeface="Cambria"/>
              </a:rPr>
              <a:t>Повышение объективности ЕГ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Прямоугольник 6"/>
          <p:cNvSpPr/>
          <p:nvPr/>
        </p:nvSpPr>
        <p:spPr>
          <a:xfrm>
            <a:off x="2109960" y="3147840"/>
            <a:ext cx="6406920" cy="107964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Письмо Д.В. Ливанова об оценке качества образования в части неиспользования результатов ЕГЭ для оценки работы педагогов, директоров школ и муниципалит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e3192"/>
                </a:solidFill>
                <a:latin typeface="Cambria"/>
              </a:rPr>
              <a:t>(от 27 июня 2014 года №ДЛ-187</a:t>
            </a:r>
            <a:r>
              <a:rPr b="1" i="1" lang="en-US" sz="1600" spc="-1" strike="noStrike">
                <a:solidFill>
                  <a:srgbClr val="2e3192"/>
                </a:solidFill>
                <a:latin typeface="Cambria"/>
              </a:rPr>
              <a:t>/</a:t>
            </a:r>
            <a:r>
              <a:rPr b="1" i="1" lang="ru-RU" sz="1600" spc="-1" strike="noStrike">
                <a:solidFill>
                  <a:srgbClr val="2e3192"/>
                </a:solidFill>
                <a:latin typeface="Cambria"/>
              </a:rPr>
              <a:t>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Прямоугольник 8"/>
          <p:cNvSpPr/>
          <p:nvPr/>
        </p:nvSpPr>
        <p:spPr>
          <a:xfrm>
            <a:off x="2125800" y="1924200"/>
            <a:ext cx="6406920" cy="95868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тмена показателя эффективности деятельности губернаторов, связанного с ЕГ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(Указ Президента РФ от 2 мая 2014 г. № 2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0" name="Рисунок 2" descr="image001"/>
          <p:cNvPicPr/>
          <p:nvPr/>
        </p:nvPicPr>
        <p:blipFill>
          <a:blip r:embed="rId2"/>
          <a:stretch/>
        </p:blipFill>
        <p:spPr>
          <a:xfrm>
            <a:off x="36360" y="1779480"/>
            <a:ext cx="195588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TextBox 15"/>
          <p:cNvSpPr/>
          <p:nvPr/>
        </p:nvSpPr>
        <p:spPr>
          <a:xfrm>
            <a:off x="1403280" y="125640"/>
            <a:ext cx="763272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e3192"/>
                </a:solidFill>
                <a:latin typeface="Cambria"/>
              </a:rPr>
              <a:t>Результаты экзаменов в Крымском федеральном округе  в 2014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2" name=""/>
          <p:cNvGraphicFramePr/>
          <p:nvPr/>
        </p:nvGraphicFramePr>
        <p:xfrm>
          <a:off x="2050920" y="1382760"/>
          <a:ext cx="3384720" cy="3421080"/>
        </p:xfrm>
        <a:graphic>
          <a:graphicData uri="http://schemas.openxmlformats.org/drawingml/2006/table">
            <a:tbl>
              <a:tblPr/>
              <a:tblGrid>
                <a:gridCol w="1729080"/>
                <a:gridCol w="863280"/>
                <a:gridCol w="792360"/>
              </a:tblGrid>
              <a:tr h="43596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b9b8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Средний тестов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b9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b9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К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55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6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30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38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5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6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6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Информатика и И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5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6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5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5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38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5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5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Англий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4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7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5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3" name=""/>
          <p:cNvGraphicFramePr/>
          <p:nvPr/>
        </p:nvGraphicFramePr>
        <p:xfrm>
          <a:off x="5435640" y="1382760"/>
          <a:ext cx="1657440" cy="3421080"/>
        </p:xfrm>
        <a:graphic>
          <a:graphicData uri="http://schemas.openxmlformats.org/drawingml/2006/table">
            <a:tbl>
              <a:tblPr/>
              <a:tblGrid>
                <a:gridCol w="865080"/>
                <a:gridCol w="792360"/>
              </a:tblGrid>
              <a:tr h="4359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Количество участ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b9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1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b9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К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22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734 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720 5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188 2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82 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55 7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139 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145 6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22 0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71 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434 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39 7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4" name="Прямоугольник 5"/>
          <p:cNvSpPr/>
          <p:nvPr/>
        </p:nvSpPr>
        <p:spPr>
          <a:xfrm>
            <a:off x="971640" y="987480"/>
            <a:ext cx="73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Пункт проведения экзаменов организован в г. Севастоп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TextBox 15"/>
          <p:cNvSpPr/>
          <p:nvPr/>
        </p:nvSpPr>
        <p:spPr>
          <a:xfrm>
            <a:off x="1403280" y="381960"/>
            <a:ext cx="763272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Планирование ЕГЭ на 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6" name=""/>
          <p:cNvGraphicFramePr/>
          <p:nvPr/>
        </p:nvGraphicFramePr>
        <p:xfrm>
          <a:off x="4932360" y="1711440"/>
          <a:ext cx="3672000" cy="1725480"/>
        </p:xfrm>
        <a:graphic>
          <a:graphicData uri="http://schemas.openxmlformats.org/drawingml/2006/table">
            <a:tbl>
              <a:tblPr/>
              <a:tblGrid>
                <a:gridCol w="2303640"/>
                <a:gridCol w="1368360"/>
              </a:tblGrid>
              <a:tr h="652320">
                <a:tc gridSpan="2">
                  <a:txBody>
                    <a:bodyPr lIns="7560" rIns="7560" tIns="97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Республика Кр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lIns="7560" rIns="7560" tIns="97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Количество зарегистрированных на ЕГЭ в 2015 год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7560" rIns="7560" tIns="97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Количество ППЭ на 201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20840"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19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7" name=""/>
          <p:cNvGraphicFramePr/>
          <p:nvPr/>
        </p:nvGraphicFramePr>
        <p:xfrm>
          <a:off x="1187280" y="1708200"/>
          <a:ext cx="3745080" cy="1725480"/>
        </p:xfrm>
        <a:graphic>
          <a:graphicData uri="http://schemas.openxmlformats.org/drawingml/2006/table">
            <a:tbl>
              <a:tblPr/>
              <a:tblGrid>
                <a:gridCol w="2305080"/>
                <a:gridCol w="1440000"/>
              </a:tblGrid>
              <a:tr h="652320">
                <a:tc gridSpan="2"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г. Севаст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680"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Количество зарегистрированных на ЕГЭ в 2015 год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e3192"/>
                          </a:solidFill>
                          <a:latin typeface="Cambria"/>
                        </a:rPr>
                        <a:t>Количество ППЭ на 201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20480"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98" name="Прямоугольник 6"/>
          <p:cNvSpPr/>
          <p:nvPr/>
        </p:nvSpPr>
        <p:spPr>
          <a:xfrm>
            <a:off x="1187280" y="3579840"/>
            <a:ext cx="73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Для граждан Республики Крыма и Севастополя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в 2015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</a:rPr>
              <a:t>году сдача ЕГЭ            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не обязате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TextBox 15"/>
          <p:cNvSpPr/>
          <p:nvPr/>
        </p:nvSpPr>
        <p:spPr>
          <a:xfrm>
            <a:off x="1403280" y="-19800"/>
            <a:ext cx="7632720" cy="8254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Тематика вопросов, поступивших </a:t>
            </a:r>
            <a:br>
              <a:rPr sz="2400"/>
            </a:b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из Республики Кр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Прямоугольник 6"/>
          <p:cNvSpPr/>
          <p:nvPr/>
        </p:nvSpPr>
        <p:spPr>
          <a:xfrm>
            <a:off x="1042920" y="685800"/>
            <a:ext cx="936144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Формы проведения ГИ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возможности внесения изменений в Порядок проведения ГИ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по образовательным программам среднего общего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в вопросе пересдачи ЕГЭ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порядке организации и проведения ГВ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(инструкции для организаторов в ППЭ)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форме бланков экзаменационной работы для ГВЭ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порядке формирования предметных комиссий для провер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результатов ГВ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         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Порядок регистрации на ГИ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порядке регистрации лиц, не имеющих докумен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удостоверяющих личность,  а также обучаю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на экстернатной форме обучения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б особенностях регистрации выпускников прошл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TextBox 15"/>
          <p:cNvSpPr/>
          <p:nvPr/>
        </p:nvSpPr>
        <p:spPr>
          <a:xfrm>
            <a:off x="1403280" y="-19800"/>
            <a:ext cx="7632720" cy="8254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Тематика вопросов, поступивших </a:t>
            </a:r>
            <a:br>
              <a:rPr sz="2400"/>
            </a:b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из Республики Кр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Прямоугольник 6"/>
          <p:cNvSpPr/>
          <p:nvPr/>
        </p:nvSpPr>
        <p:spPr>
          <a:xfrm>
            <a:off x="1166760" y="888840"/>
            <a:ext cx="936144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Порядок формирования сети пунктов проведения экзаме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распределении зарегистрированных участников между ППЭ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порядке подбора и распределения руководителей и организа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между ППЭ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сроках формирования базы организа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Подбор и обучение организаторов ППЭ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категориях персонала, подлежащих обучению работниками Центра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подтверждении прохождения обучения, о сроке действия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        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Проверка работ участник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         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принципе расчета количества членов ПК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        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привлечении персонала для обработки экзаменационных раб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       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Техническое сопровождение ГИ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         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схеме взаимодействия информационной системы РЦОИ и МСУ(ОО)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        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механизме получения ПО на регистрацию ГИА-9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        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б оптимальном количестве рабочих станций Test Read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        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для проведения ГИА (ЕГЭ) исходя из расчета 15000 выпуск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TextBox 15"/>
          <p:cNvSpPr/>
          <p:nvPr/>
        </p:nvSpPr>
        <p:spPr>
          <a:xfrm>
            <a:off x="1403280" y="-19800"/>
            <a:ext cx="7632720" cy="8254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Тематика вопросов, поступивших </a:t>
            </a:r>
            <a:br>
              <a:rPr sz="2400"/>
            </a:b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из г. Севастопо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Прямоугольник 6"/>
          <p:cNvSpPr/>
          <p:nvPr/>
        </p:nvSpPr>
        <p:spPr>
          <a:xfrm>
            <a:off x="1434960" y="816120"/>
            <a:ext cx="9361800" cy="59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 мере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ответственности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органа исполнительной в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осуществляющего управление в сфере образов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за проведение ГИА 2015 года и о делегированных полномочиях РЦОИ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Об отсутствии средств в бюджете города на программ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обеспечение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ГИА-9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О возможности выпусков школ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КФО в 2015 году, котор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сдадут ЕГЭ, но результаты их не устроят, сдавать вступите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экзамены в вузы КФО</a:t>
            </a:r>
            <a:r>
              <a:rPr b="1" lang="en-US" sz="1600" spc="-1" strike="noStrike">
                <a:solidFill>
                  <a:srgbClr val="2e3192"/>
                </a:solidFill>
                <a:latin typeface="Cambria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Arial"/>
              </a:rPr>
              <a:t>Об условиях приема учащихся </a:t>
            </a: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11 классов из Донец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и Луганской областей в вузы КФ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3192"/>
                </a:solidFill>
                <a:latin typeface="Cambr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TextBox 15"/>
          <p:cNvSpPr/>
          <p:nvPr/>
        </p:nvSpPr>
        <p:spPr>
          <a:xfrm>
            <a:off x="1438200" y="371520"/>
            <a:ext cx="76852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Расписание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Объект 2"/>
          <p:cNvSpPr/>
          <p:nvPr/>
        </p:nvSpPr>
        <p:spPr>
          <a:xfrm>
            <a:off x="4643280" y="-2666880"/>
            <a:ext cx="5977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Прямоугольник 25"/>
          <p:cNvSpPr/>
          <p:nvPr/>
        </p:nvSpPr>
        <p:spPr>
          <a:xfrm>
            <a:off x="1515960" y="843120"/>
            <a:ext cx="6656400" cy="156672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2e3192"/>
                </a:solidFill>
                <a:uFillTx/>
                <a:latin typeface="Cambria"/>
              </a:rPr>
              <a:t>14 февраля 2015 года </a:t>
            </a:r>
            <a:r>
              <a:rPr b="1" lang="ru-RU" sz="1400" spc="-1" strike="noStrike">
                <a:solidFill>
                  <a:srgbClr val="2e3192"/>
                </a:solidFill>
                <a:latin typeface="Cambria"/>
              </a:rPr>
              <a:t>(русский язык, географ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3192"/>
                </a:solidFill>
                <a:latin typeface="Cambria"/>
              </a:rPr>
              <a:t>выпускники прошлых л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3192"/>
                </a:solidFill>
                <a:latin typeface="Cambria"/>
              </a:rPr>
              <a:t>лица, имеющие неудовлетворительный результат в прошлые г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обучающиеся образовательных организаций, расположенных за пределами территории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3192"/>
                </a:solidFill>
                <a:latin typeface="Cambria"/>
              </a:rPr>
              <a:t>обучающиеся XI (XII) классов, освоившие предмет и имеющие годовые отметки не ниже удовлетворительных по всем учебным предметам учебного плана за предпоследний год обучения</a:t>
            </a:r>
            <a:r>
              <a:rPr b="0" lang="en-US" sz="1200" spc="-1" strike="noStrike">
                <a:solidFill>
                  <a:srgbClr val="2e3192"/>
                </a:solidFill>
                <a:latin typeface="Cambr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Прямоугольник 2"/>
          <p:cNvSpPr/>
          <p:nvPr/>
        </p:nvSpPr>
        <p:spPr>
          <a:xfrm>
            <a:off x="7064280" y="795240"/>
            <a:ext cx="142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mbria"/>
                <a:ea typeface="Arial"/>
              </a:rPr>
              <a:t>регистр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mbria"/>
                <a:ea typeface="Arial"/>
              </a:rPr>
              <a:t>до 01.12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Прямоугольник 27"/>
          <p:cNvSpPr/>
          <p:nvPr/>
        </p:nvSpPr>
        <p:spPr>
          <a:xfrm>
            <a:off x="1515960" y="2470320"/>
            <a:ext cx="6656400" cy="190008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2e3192"/>
                </a:solidFill>
                <a:uFillTx/>
                <a:latin typeface="Cambria"/>
              </a:rPr>
              <a:t>23 марта – 24 апреля 2015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3192"/>
                </a:solidFill>
                <a:latin typeface="Cambria"/>
              </a:rPr>
              <a:t>выпускники прошлых ле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3192"/>
                </a:solidFill>
                <a:latin typeface="Cambria"/>
              </a:rPr>
              <a:t>лица, имеющие неудовлетворительный результат в прошлые г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3192"/>
                </a:solidFill>
                <a:latin typeface="Cambria"/>
              </a:rPr>
              <a:t>обучающиеся XI (XII) классов, освоившие предмет и имеющие годовые отметки не ниже удовлетворительных по всем учебным предметам учебного плана за предпоследний год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обучающиеся образовательных организаций, расположенных за пределами территории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обучающиеся образовательных организаций среднего профессионального образования</a:t>
            </a:r>
            <a:r>
              <a:rPr b="0" lang="en-US" sz="1200" spc="-1" strike="noStrike">
                <a:solidFill>
                  <a:srgbClr val="ff0000"/>
                </a:solidFill>
                <a:latin typeface="Cambr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e3192"/>
                </a:solidFill>
                <a:latin typeface="Cambria"/>
              </a:rPr>
              <a:t>обучающиеся, имеющие допуск педагогического сове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Прямоугольник 28"/>
          <p:cNvSpPr/>
          <p:nvPr/>
        </p:nvSpPr>
        <p:spPr>
          <a:xfrm>
            <a:off x="1562040" y="4516560"/>
            <a:ext cx="6610320" cy="453960"/>
          </a:xfrm>
          <a:prstGeom prst="rect">
            <a:avLst/>
          </a:prstGeom>
          <a:solidFill>
            <a:srgbClr val="b9cde5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2e3192"/>
                </a:solidFill>
                <a:uFillTx/>
                <a:latin typeface="Cambria"/>
                <a:ea typeface="Arial"/>
              </a:rPr>
              <a:t>25 мая – 26 июня 2015 г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e3192"/>
                </a:solidFill>
                <a:latin typeface="Cambria"/>
                <a:ea typeface="Arial"/>
              </a:rPr>
              <a:t>все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TextBox 30"/>
          <p:cNvSpPr/>
          <p:nvPr/>
        </p:nvSpPr>
        <p:spPr>
          <a:xfrm>
            <a:off x="6659640" y="242712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mbria"/>
                <a:ea typeface="Arial"/>
              </a:rPr>
              <a:t>Сроки регистрации продл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mbria"/>
                <a:ea typeface="Arial"/>
              </a:rPr>
              <a:t>до 01.03.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TextBox 11"/>
          <p:cNvSpPr/>
          <p:nvPr/>
        </p:nvSpPr>
        <p:spPr>
          <a:xfrm>
            <a:off x="6659640" y="442584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mbria"/>
                <a:ea typeface="Arial"/>
              </a:rPr>
              <a:t>Сроки регистрации продл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mbria"/>
                <a:ea typeface="Arial"/>
              </a:rPr>
              <a:t>до 01.03.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2:04:26Z</dcterms:created>
  <dc:creator>danilov@halfbudget.com</dc:creator>
  <dc:description/>
  <dc:language>en-US</dc:language>
  <cp:lastModifiedBy>User</cp:lastModifiedBy>
  <cp:lastPrinted>2015-02-16T14:33:14Z</cp:lastPrinted>
  <dcterms:modified xsi:type="dcterms:W3CDTF">2015-02-18T11:34:48Z</dcterms:modified>
  <cp:revision>34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ea">
    <vt:lpwstr/>
  </property>
  <property fmtid="{D5CDD505-2E9C-101B-9397-08002B2CF9AE}" pid="3" name="CommDirection">
    <vt:lpwstr/>
  </property>
  <property fmtid="{D5CDD505-2E9C-101B-9397-08002B2CF9AE}" pid="4" name="ContentTypeId">
    <vt:lpwstr>0x010100F8A57D39EA87654A826E1AE073001366</vt:lpwstr>
  </property>
  <property fmtid="{D5CDD505-2E9C-101B-9397-08002B2CF9AE}" pid="5" name="Department">
    <vt:lpwstr>29;#ДМП|3e3ca49e-6427-40d8-bc11-0597c9532f93</vt:lpwstr>
  </property>
  <property fmtid="{D5CDD505-2E9C-101B-9397-08002B2CF9AE}" pid="6" name="DocType">
    <vt:lpwstr/>
  </property>
  <property fmtid="{D5CDD505-2E9C-101B-9397-08002B2CF9AE}" pid="7" name="DocTypeChoose">
    <vt:lpwstr>Презентация</vt:lpwstr>
  </property>
  <property fmtid="{D5CDD505-2E9C-101B-9397-08002B2CF9AE}" pid="8" name="IconOverlay">
    <vt:lpwstr/>
  </property>
  <property fmtid="{D5CDD505-2E9C-101B-9397-08002B2CF9AE}" pid="9" name="Program">
    <vt:lpwstr/>
  </property>
  <property fmtid="{D5CDD505-2E9C-101B-9397-08002B2CF9AE}" pid="10" name="Program_Value">
    <vt:lpwstr/>
  </property>
  <property fmtid="{D5CDD505-2E9C-101B-9397-08002B2CF9AE}" pid="11" name="Project">
    <vt:lpwstr>Рособрнадзор</vt:lpwstr>
  </property>
  <property fmtid="{D5CDD505-2E9C-101B-9397-08002B2CF9AE}" pid="12" name="Project_Value">
    <vt:lpwstr>80bbf775-14f1-11e1-8ae5-003048d4ff32</vt:lpwstr>
  </property>
  <property fmtid="{D5CDD505-2E9C-101B-9397-08002B2CF9AE}" pid="13" name="TaxCatchAll">
    <vt:lpwstr>29;#</vt:lpwstr>
  </property>
  <property fmtid="{D5CDD505-2E9C-101B-9397-08002B2CF9AE}" pid="14" name="Uniq">
    <vt:lpwstr/>
  </property>
  <property fmtid="{D5CDD505-2E9C-101B-9397-08002B2CF9AE}" pid="15" name="_dlc_DocId">
    <vt:lpwstr>C7SY476UVPAM-52-228396</vt:lpwstr>
  </property>
  <property fmtid="{D5CDD505-2E9C-101B-9397-08002B2CF9AE}" pid="16" name="_dlc_DocIdItemGuid">
    <vt:lpwstr>fc33d8bf-fcc2-4c62-975b-fa0018f44cac</vt:lpwstr>
  </property>
  <property fmtid="{D5CDD505-2E9C-101B-9397-08002B2CF9AE}" pid="17" name="_dlc_DocIdUrl">
    <vt:lpwstr>http://mp27/Docs/_layouts/DocIdRedir.aspx?ID=C7SY476UVPAM-52-228396, C7SY476UVPAM-52-228396</vt:lpwstr>
  </property>
  <property fmtid="{D5CDD505-2E9C-101B-9397-08002B2CF9AE}" pid="18" name="a39f889c817340af9831b8d13b13a208">
    <vt:lpwstr/>
  </property>
  <property fmtid="{D5CDD505-2E9C-101B-9397-08002B2CF9AE}" pid="19" name="g943717a092c4fc1b62636c74327ccfa">
    <vt:lpwstr>ДМП|3e3ca49e-6427-40d8-bc11-0597c9532f93</vt:lpwstr>
  </property>
  <property fmtid="{D5CDD505-2E9C-101B-9397-08002B2CF9AE}" pid="20" name="l6ea12c2109f40bda277d1a9858ecc92">
    <vt:lpwstr/>
  </property>
</Properties>
</file>