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5551560" y="-36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3215880" y="504720"/>
            <a:ext cx="3367080" cy="25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0" y="639720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5551560" y="6397200"/>
            <a:ext cx="42465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1220-83A4-4A75-836C-6D9137AC1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6A08-17DC-4101-AC6A-51652E578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CEE3-A291-461E-B818-374C86A92E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21624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79200" y="3198960"/>
            <a:ext cx="7840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Номер слайда 3"/>
          <p:cNvSpPr/>
          <p:nvPr/>
        </p:nvSpPr>
        <p:spPr>
          <a:xfrm>
            <a:off x="5551560" y="6397560"/>
            <a:ext cx="4246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F0AF-4F99-444E-AC1D-0EDBCA91AE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9568A-994A-4DD7-BACC-F906CBC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F629C-CC3D-4A53-B578-AE87FB45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D0B5B-8500-4346-8D07-357CFD18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22FF-C9CD-4981-916D-DEEA16C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F970D-91B2-4B22-8EE3-1C5F8887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DCCC2-2713-449B-BF94-5B16BF1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CD09-7020-48ED-95AD-E1039011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848E-BB47-4B83-8BBB-D8E187F1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74AD-0A20-491B-B741-35E86B92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E2553-17D0-4D30-92C4-051569DB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AB109-B91E-4CFD-8362-B67DC8DF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F25D2-FA92-4261-92B8-66D3AAA2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27539-3AD7-47B7-9A41-D647E8A2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3214D-AC06-4DF6-AEB7-BE86EE93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75BA1-66DD-4BB9-A0CB-ECC17384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EA2F2-77AB-4543-9A75-F571022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2CC6-2924-4752-838D-B17EC9A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6E0F7-D4FD-4DAE-BBD6-4D602A5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B3172-CCEA-49AE-A333-CED76C5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1283-770B-4679-A65B-292F7A35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1C6F4-E88A-49EB-A3FE-43013885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B6A8B-3A20-483C-B842-85152938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11D7B-99B7-4A78-9CA0-D5E3AA0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552E5-851F-4D41-B509-9AFB6801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49A8F-09C2-4012-851F-082B4F79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2BDA7-BC98-4E26-9844-E25EFD33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07DC5-64FD-4A2E-9FE9-ED445DC4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C4A0F-09EA-4300-B1E9-FE288A16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D111B-1DB3-4BBC-89E5-8513B029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C176C-0DC4-464A-9150-CA0CBAA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E88-4A43-4BEC-AB38-6B111ED4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FCB21-460A-47FF-83C3-95AADCFA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2C9CD-3B7C-4943-9BB6-1A609A2A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23728-F7E6-4F93-A9E6-6CFDBF7C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D737-7591-4D85-83EC-D7FDDDAA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26D9-BF3D-4ED3-BF72-B49F0F29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61582-6EF7-4F73-9953-10B93002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DAB75-66C2-492E-8725-65C163EB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5884A-9244-43BA-8BE9-25D76AA1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B072-C870-4354-9772-BBA1990A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ED676-2BC0-4D16-8382-4D4E559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A8F-3F63-4459-97B3-C9C8935D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72986-59EC-49B2-BF5C-5107FA4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0AB5C-E68C-428E-8BF3-99F4CA7A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CD54-BCC8-4E63-88B6-AB171508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8BDCA-FF53-45ED-A4F8-45066F92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DECD0-F5C5-4B06-B4A7-77A5651B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005-2145-48E8-994F-D49EE459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079-0B40-4729-9D05-4145BD89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F30-B5E7-4787-920A-6B59EB0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441-FFD0-4AFE-9026-844D762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365-5D1E-45D2-BFB4-C05034DD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770-0324-4EAD-98FB-D801F28D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E3E-F2EF-4DB4-9FB1-898CB5E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119-FECC-4DA9-9D6B-17477FC8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F88-D51C-489D-8E05-CEFB4BBB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C3F-7EF7-4DD2-91FC-483F577D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7D17-AB37-4A72-9784-DEDF13BF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2620-7B4C-4D37-A81C-F695222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2766-F837-4CEB-8822-4C7F285B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5FDB-1766-45A7-8949-0D76093D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47B-87B8-4205-8C34-39A35473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C806-6459-4BA4-A9D7-C37232A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EC95-1E80-46C3-9BDA-8249546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45E-A0ED-4581-983D-D4C09968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47C6-A7F9-45BD-B88C-1E5248C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AE97-9EDE-4412-BB78-4F286CEB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4F0D-CA77-41DD-8B26-CF2831DE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96C-05BF-4B37-A6CB-1581CFD2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46FB-C507-4C4E-8555-CDC569CC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4955-D457-4132-98F2-0B82B40A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9724-B6BA-48F3-8BB7-27D5D61A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791B-056F-4641-B382-190273B1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24FB-853C-4FA1-B420-B6E16FC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D0B9-2AE7-4C2C-9CE8-D42F3DC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34E7-B759-4527-A739-8F211251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C94A-60E2-4929-B49E-9C28520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D1BF-A359-4595-A011-14D177B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E974-6B80-4B80-8240-CC705658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C007-EC33-4271-8124-B34D1DD3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0AC2-BB9A-483D-B299-65F017A0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D5F3-19AB-4FCA-98E6-AAED869F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4974-EE5A-4090-8415-EA7BBF45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8C0E1-2803-4B8D-8D53-8A08388E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BDB2-6879-4D59-BA7B-E12E750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6BAE-4206-4C52-B481-76A4E94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9F81-5028-4609-8E78-6C49FF64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E183-4E9E-48E0-A16D-ACE0CDF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C45D-782D-42A1-8135-7E207D84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46B6-2615-42DD-AE49-9F473D8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47AB-1EA2-4A64-AD21-8C3F5863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6EC9-B069-47FC-ADCE-8B33F911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7C887-71FD-4720-9BB0-3EFE55E9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28BB5-837B-476E-8FD3-9BB8E1AA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6888-6740-4994-8F91-DED50095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C86B8-DDBA-4282-9806-A2896AC1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A159-0E7C-4198-B548-3D354662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B7408-F80A-4182-BDC5-0BDD150D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8D38-D41A-44A8-8521-284BA6B9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1FD2-97FC-4599-8379-C3463F62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D323-233B-4911-B40E-998F87C1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5A526-C85A-4D02-96D3-D4224FFA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0C575-D322-4A91-A910-E6B24AE2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E692-4DE7-4D35-9CE7-0C03A509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F6F3A-65EB-4CB0-B44C-81790116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2EE67-30A7-4CA5-A3A8-BB3E01CC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8BEBC-FE30-4829-9761-18D492A5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8D1F-F049-465E-B2F3-0A8047C6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D82E-35AE-4DD5-98FA-3CF28A43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3D37A-A69E-464D-9CB1-A279F6E0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D9A53-E35E-4F6E-95F6-15C349F8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4A620-0B1E-4CA7-9818-5008F02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0116-1ECF-42AD-9846-812FE59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4D28F-3FB0-441E-9962-A1E81403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5A39-09DF-4759-B849-E6B9E9A6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3728-5038-41F8-ACFA-EE961F8A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4665-4DDD-42A1-8B3F-C18C0324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95BDF-6650-4771-87D1-6606E716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840F8-C7D7-4519-B6D2-2166EB0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F1D9-2020-4055-9FB4-FF1A7F4B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541C-A86A-46FF-A309-E8B0CB2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5DEB-C086-44D2-8B70-809840F6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260E-3399-478B-8358-4D81A21A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E11E5-3280-4B73-A2F4-F3B1C5A8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3DBC-9306-402E-B248-23652C8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E1A02-7BB1-4C24-907B-B91496F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A238F-14B1-4681-BDED-AEBEA2FC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63E5-679F-40F3-AD8C-D3A591E2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77E90-3DBA-45FB-9A83-8EF260EC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4776-2138-43B9-8CCB-B6618A10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6F5A-CE8A-4958-B848-6D3AD653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BEC2-5F97-444D-8036-53F6D44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6104-2AD9-4B43-B47C-A67F359D6F00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441A-5E2C-4123-98AE-408D8D12B6D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2738-D009-4B2D-B55E-8E5B5450B2E2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2FF3-1498-4FCD-A1E3-659A5C55C39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7" descr="фон copy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3CA-A0DB-48D2-BC5F-6FD780D30E46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E7A-1B18-4BDE-9DEE-60F12B62E8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619A-43B0-4A7B-A451-EDEF3C9C7A17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C62-F1A0-4B5F-A6A4-76A6A1AA63A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3A8-E3F7-417D-BDC6-9F39F3C11602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F39D-6453-4828-8743-2A673B3D179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BBC0-C9DF-4DBC-ABE2-8A8678AB4DE5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71EE-4EA3-489D-B053-FF32AE44F01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2BFE-76A1-40DF-A64A-0A399841E558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7A46-BAA1-4D92-ADFE-4F2AD7D4E2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809C-E96F-4116-8D9B-67C9E42EF702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D13-B289-4654-870B-71497E2D481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1DC6-A16E-4F98-8056-6B41BBFE8700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9B7-F273-4137-B3FB-64AF4A3A59B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53D1-1F29-4264-9390-90EF64AB51DD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28D5-EF79-4716-A9ED-701D33B1155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-12600" y="-27000"/>
            <a:ext cx="9163080" cy="971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ECDF-15EF-457C-B912-73BFD35EC2ED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202D-1141-4876-83FF-1C38E60CF6F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3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test@rustest.ru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24000" y="1916280"/>
            <a:ext cx="860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Информационно-технологическое обеспечение ГИА в 2015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187720" y="5384880"/>
            <a:ext cx="669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ономаренко 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Директор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ФГБУ «Федеральный центр тестир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3"/>
          <p:cNvSpPr/>
          <p:nvPr/>
        </p:nvSpPr>
        <p:spPr>
          <a:xfrm flipH="1">
            <a:off x="3044520" y="5742000"/>
            <a:ext cx="6072120" cy="0"/>
          </a:xfrm>
          <a:prstGeom prst="line">
            <a:avLst/>
          </a:prstGeom>
          <a:ln w="9360">
            <a:solidFill>
              <a:srgbClr val="3c5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3357720" y="657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3" descr="http://www.volkovysk.grodno.unibel.by/sm.aspx?uid=814"/>
          <p:cNvPicPr/>
          <p:nvPr/>
        </p:nvPicPr>
        <p:blipFill>
          <a:blip r:embed="rId1"/>
          <a:srcRect l="0" t="0" r="0" b="9105"/>
          <a:stretch/>
        </p:blipFill>
        <p:spPr>
          <a:xfrm>
            <a:off x="6084720" y="5202360"/>
            <a:ext cx="2487960" cy="165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3"/>
          <p:cNvSpPr/>
          <p:nvPr/>
        </p:nvSpPr>
        <p:spPr>
          <a:xfrm>
            <a:off x="324000" y="105264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Базовый уровень по матема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7"/>
          <p:cNvSpPr/>
          <p:nvPr/>
        </p:nvSpPr>
        <p:spPr>
          <a:xfrm>
            <a:off x="31680" y="1484280"/>
            <a:ext cx="889812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Базовый экзамен ЕГЭ проводится для выпускников текущего года и выпускников СПО по жел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Базовые экзамены проводятся в П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В состав заданий КИМ для базового экзамена входят задания только с ответом в краткой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КИМ тиражируются на федеральном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ланирование базового экзамена осуществляется аналогично подготовке проведения других экзаменов в Подсистеме Р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ервичная обработка бланков и расчет результатов проводятся в стандартном режиме ЕГЭ, за исключением экспертизы, экспертиза не провод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6666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3"/>
          <p:cNvSpPr/>
          <p:nvPr/>
        </p:nvSpPr>
        <p:spPr>
          <a:xfrm>
            <a:off x="324000" y="105264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Иностранные языки с устной ча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7"/>
          <p:cNvSpPr/>
          <p:nvPr/>
        </p:nvSpPr>
        <p:spPr>
          <a:xfrm>
            <a:off x="31680" y="1611360"/>
            <a:ext cx="88981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Задания устного экзамена предполагают ответ участника в форме монологических высказываний, без участия экзаменатора-собес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Участник сдает экзамен на компьютере с установленным специализированным ПО и подключенной гарнитурой (рабочем месте учас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Для проведения устного экзамена используется два типа аудиторий: подготовки и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Для сдачи экзамена используются электронные КИМ, которые записаны на компакт-диск, вложенный в доставочный пакет (используется технология печати КИМ в ППЭ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Для использования электронных КИМ при сдаче экзамена, необходимо наличие ключа доступа к электронным КИМ и персональной ЭП Члена ГЭ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Ключи доступа к электронным КИМ распространяются через специализированный Федеральный портал непосредственно перед экзаменом, для скачивания ключа доступа к КИМ также используется ЭП Члена ГЭ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1125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Единая горячая линия ЕГЭ для РЦО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http://www.kirov.izbirkom.ru/etc/russia_map_1.gif"/>
          <p:cNvPicPr/>
          <p:nvPr/>
        </p:nvPicPr>
        <p:blipFill>
          <a:blip r:embed="rId1"/>
          <a:stretch/>
        </p:blipFill>
        <p:spPr>
          <a:xfrm>
            <a:off x="0" y="1925640"/>
            <a:ext cx="8570880" cy="4309920"/>
          </a:xfrm>
          <a:prstGeom prst="rect">
            <a:avLst/>
          </a:prstGeom>
          <a:ln w="0">
            <a:noFill/>
          </a:ln>
        </p:spPr>
      </p:pic>
      <p:sp>
        <p:nvSpPr>
          <p:cNvPr id="523" name="Полилиния 21"/>
          <p:cNvSpPr/>
          <p:nvPr/>
        </p:nvSpPr>
        <p:spPr>
          <a:xfrm>
            <a:off x="5857920" y="1857240"/>
            <a:ext cx="3071880" cy="2571840"/>
          </a:xfrm>
          <a:custGeom>
            <a:avLst/>
            <a:gdLst/>
            <a:ahLst/>
            <a:rect l="l" t="t" r="r" b="b"/>
            <a:pathLst>
              <a:path stroke="0" w="3071842" h="2357454">
                <a:moveTo>
                  <a:pt x="8" y="0"/>
                </a:moveTo>
                <a:lnTo>
                  <a:pt x="3071842" y="0"/>
                </a:lnTo>
                <a:lnTo>
                  <a:pt x="3071842" y="1659742"/>
                </a:lnTo>
                <a:lnTo>
                  <a:pt x="2374130" y="2357454"/>
                </a:lnTo>
                <a:lnTo>
                  <a:pt x="8" y="2357454"/>
                </a:lnTo>
                <a:lnTo>
                  <a:pt x="8" y="0"/>
                </a:lnTo>
                <a:close/>
              </a:path>
              <a:path stroke="0" w="3071842" h="2357454">
                <a:moveTo>
                  <a:pt x="2374130" y="2357454"/>
                </a:moveTo>
                <a:lnTo>
                  <a:pt x="2513672" y="1799284"/>
                </a:lnTo>
                <a:lnTo>
                  <a:pt x="3071842" y="1659742"/>
                </a:lnTo>
                <a:lnTo>
                  <a:pt x="2374130" y="2357454"/>
                </a:lnTo>
                <a:close/>
              </a:path>
              <a:path fill="none" w="3071842" h="2357454">
                <a:moveTo>
                  <a:pt x="2374130" y="2357454"/>
                </a:moveTo>
                <a:lnTo>
                  <a:pt x="2513672" y="1799284"/>
                </a:lnTo>
                <a:lnTo>
                  <a:pt x="3071842" y="1659742"/>
                </a:lnTo>
                <a:lnTo>
                  <a:pt x="2374130" y="2357454"/>
                </a:lnTo>
                <a:lnTo>
                  <a:pt x="8" y="2357454"/>
                </a:lnTo>
                <a:cubicBezTo>
                  <a:pt x="5" y="1602596"/>
                  <a:pt x="3" y="847739"/>
                  <a:pt x="0" y="92881"/>
                </a:cubicBezTo>
                <a:cubicBezTo>
                  <a:pt x="3" y="61921"/>
                  <a:pt x="5" y="30960"/>
                  <a:pt x="8" y="0"/>
                </a:cubicBezTo>
                <a:lnTo>
                  <a:pt x="80963" y="13"/>
                </a:lnTo>
                <a:lnTo>
                  <a:pt x="3071842" y="0"/>
                </a:lnTo>
                <a:lnTo>
                  <a:pt x="3071842" y="1659742"/>
                </a:lnTo>
              </a:path>
            </a:pathLst>
          </a:custGeom>
          <a:solidFill>
            <a:srgbClr val="ffffb7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3" descr="http://itf.by/images/stories/tech_support_icon.jpg"/>
          <p:cNvPicPr/>
          <p:nvPr/>
        </p:nvPicPr>
        <p:blipFill>
          <a:blip r:embed="rId2"/>
          <a:stretch/>
        </p:blipFill>
        <p:spPr>
          <a:xfrm>
            <a:off x="3429000" y="3776760"/>
            <a:ext cx="627120" cy="625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5" descr="http://21region.org/uploads/posts/2008-08/1220076460_user-256x256.png"/>
          <p:cNvPicPr/>
          <p:nvPr/>
        </p:nvPicPr>
        <p:blipFill>
          <a:blip r:embed="rId3"/>
          <a:stretch/>
        </p:blipFill>
        <p:spPr>
          <a:xfrm>
            <a:off x="3071880" y="164304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3" descr="http://web-promise.com/images/help.jpg"/>
          <p:cNvPicPr/>
          <p:nvPr/>
        </p:nvPicPr>
        <p:blipFill>
          <a:blip r:embed="rId4"/>
          <a:stretch/>
        </p:blipFill>
        <p:spPr>
          <a:xfrm>
            <a:off x="6572160" y="5145120"/>
            <a:ext cx="1498680" cy="1334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https://encrypted-tbn3.google.com/images?q=tbn:ANd9GcRte1Bv6YZ171kWBtt3yqn8uZbKRxbYFDz2sjlKUk9oHjVl7X5R"/>
          <p:cNvPicPr/>
          <p:nvPr/>
        </p:nvPicPr>
        <p:blipFill>
          <a:blip r:embed="rId5"/>
          <a:stretch/>
        </p:blipFill>
        <p:spPr>
          <a:xfrm>
            <a:off x="5931000" y="2755800"/>
            <a:ext cx="645840" cy="505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9" descr="http://desc.cnt.itdelo.com/images/5829612.jpg"/>
          <p:cNvPicPr/>
          <p:nvPr/>
        </p:nvPicPr>
        <p:blipFill>
          <a:blip r:embed="rId6"/>
          <a:stretch/>
        </p:blipFill>
        <p:spPr>
          <a:xfrm>
            <a:off x="5992920" y="3511440"/>
            <a:ext cx="573120" cy="427320"/>
          </a:xfrm>
          <a:prstGeom prst="rect">
            <a:avLst/>
          </a:prstGeom>
          <a:ln w="0">
            <a:noFill/>
          </a:ln>
        </p:spPr>
      </p:pic>
      <p:sp>
        <p:nvSpPr>
          <p:cNvPr id="529" name="Скругленный прямоугольник 28"/>
          <p:cNvSpPr/>
          <p:nvPr/>
        </p:nvSpPr>
        <p:spPr>
          <a:xfrm>
            <a:off x="6572160" y="2000160"/>
            <a:ext cx="235764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онсуль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о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ege@help.rustes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кругленный прямоугольник 29"/>
          <p:cNvSpPr/>
          <p:nvPr/>
        </p:nvSpPr>
        <p:spPr>
          <a:xfrm>
            <a:off x="6572160" y="2714760"/>
            <a:ext cx="241956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истема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Инцид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Verdana"/>
              </a:rPr>
              <a:t>help.rustes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3" descr="http://seoinet.ru/wp-content/uploads/2011/02/E-mail.jpg"/>
          <p:cNvPicPr/>
          <p:nvPr/>
        </p:nvPicPr>
        <p:blipFill>
          <a:blip r:embed="rId7"/>
          <a:stretch/>
        </p:blipFill>
        <p:spPr>
          <a:xfrm>
            <a:off x="5931000" y="2000160"/>
            <a:ext cx="641160" cy="523800"/>
          </a:xfrm>
          <a:prstGeom prst="rect">
            <a:avLst/>
          </a:prstGeom>
          <a:ln w="0">
            <a:noFill/>
          </a:ln>
        </p:spPr>
      </p:pic>
      <p:sp>
        <p:nvSpPr>
          <p:cNvPr id="532" name="Скругленный прямоугольник 31"/>
          <p:cNvSpPr/>
          <p:nvPr/>
        </p:nvSpPr>
        <p:spPr>
          <a:xfrm>
            <a:off x="6572160" y="3500280"/>
            <a:ext cx="2428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онсуль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о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леф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2486160" y="282744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льзователи, ОИВ, РЦ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2714760" y="47880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ния техподдержки 1-го уровня (24/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"/>
          <p:cNvSpPr/>
          <p:nvPr/>
        </p:nvSpPr>
        <p:spPr>
          <a:xfrm>
            <a:off x="2357280" y="57880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хподдерж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Группа 36"/>
          <p:cNvGrpSpPr/>
          <p:nvPr/>
        </p:nvGrpSpPr>
        <p:grpSpPr>
          <a:xfrm>
            <a:off x="642960" y="5286240"/>
            <a:ext cx="1523880" cy="1165320"/>
            <a:chOff x="642960" y="5286240"/>
            <a:chExt cx="1523880" cy="1165320"/>
          </a:xfrm>
        </p:grpSpPr>
        <p:pic>
          <p:nvPicPr>
            <p:cNvPr id="537" name="Picture 2" descr="http://rutvn.ru/images/stories/PPPoE/call_center_user_4192.jpg"/>
            <p:cNvPicPr/>
            <p:nvPr/>
          </p:nvPicPr>
          <p:blipFill>
            <a:blip r:embed="rId8"/>
            <a:srcRect l="23520" t="12579" r="20464" b="12727"/>
            <a:stretch/>
          </p:blipFill>
          <p:spPr>
            <a:xfrm>
              <a:off x="642960" y="5286240"/>
              <a:ext cx="64044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2" descr="http://rutvn.ru/images/stories/PPPoE/call_center_user_4192.jpg"/>
            <p:cNvPicPr/>
            <p:nvPr/>
          </p:nvPicPr>
          <p:blipFill>
            <a:blip r:embed="rId9"/>
            <a:srcRect l="23520" t="12579" r="20464" b="12727"/>
            <a:stretch/>
          </p:blipFill>
          <p:spPr>
            <a:xfrm>
              <a:off x="1110600" y="5286240"/>
              <a:ext cx="64044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" descr="http://rutvn.ru/images/stories/PPPoE/call_center_user_4192.jpg"/>
            <p:cNvPicPr/>
            <p:nvPr/>
          </p:nvPicPr>
          <p:blipFill>
            <a:blip r:embed="rId10"/>
            <a:srcRect l="23520" t="12579" r="20464" b="12727"/>
            <a:stretch/>
          </p:blipFill>
          <p:spPr>
            <a:xfrm>
              <a:off x="1526400" y="5286240"/>
              <a:ext cx="64044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" descr="http://rutvn.ru/images/stories/PPPoE/call_center_user_4192.jpg"/>
            <p:cNvPicPr/>
            <p:nvPr/>
          </p:nvPicPr>
          <p:blipFill>
            <a:blip r:embed="rId11"/>
            <a:srcRect l="23520" t="12579" r="20464" b="12727"/>
            <a:stretch/>
          </p:blipFill>
          <p:spPr>
            <a:xfrm>
              <a:off x="1318320" y="5597640"/>
              <a:ext cx="64044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2" descr="http://rutvn.ru/images/stories/PPPoE/call_center_user_4192.jpg"/>
            <p:cNvPicPr/>
            <p:nvPr/>
          </p:nvPicPr>
          <p:blipFill>
            <a:blip r:embed="rId12"/>
            <a:srcRect l="23520" t="12579" r="20464" b="12727"/>
            <a:stretch/>
          </p:blipFill>
          <p:spPr>
            <a:xfrm>
              <a:off x="850680" y="5545800"/>
              <a:ext cx="640440" cy="85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2" name="Picture 13" descr="http://itf.by/images/stories/tech_support_icon.jpg"/>
          <p:cNvPicPr/>
          <p:nvPr/>
        </p:nvPicPr>
        <p:blipFill>
          <a:blip r:embed="rId13"/>
          <a:stretch/>
        </p:blipFill>
        <p:spPr>
          <a:xfrm>
            <a:off x="3571920" y="4133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3" descr="http://itf.by/images/stories/tech_support_icon.jpg"/>
          <p:cNvPicPr/>
          <p:nvPr/>
        </p:nvPicPr>
        <p:blipFill>
          <a:blip r:embed="rId14"/>
          <a:stretch/>
        </p:blipFill>
        <p:spPr>
          <a:xfrm>
            <a:off x="3071880" y="413388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ая соединительная линия 44"/>
          <p:cNvSpPr/>
          <p:nvPr/>
        </p:nvSpPr>
        <p:spPr>
          <a:xfrm>
            <a:off x="3639960" y="3571920"/>
            <a:ext cx="0" cy="1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Соединительная линия уступом 39"/>
          <p:cNvCxnSpPr>
            <a:stCxn id="546" idx="0"/>
            <a:endCxn id="547" idx="6"/>
          </p:cNvCxnSpPr>
          <p:nvPr/>
        </p:nvCxnSpPr>
        <p:spPr>
          <a:xfrm flipH="1" flipV="1" rot="5400000">
            <a:off x="2192040" y="4138200"/>
            <a:ext cx="304200" cy="131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8" name="Соединительная линия уступом 42"/>
          <p:cNvCxnSpPr>
            <a:stCxn id="549" idx="0"/>
            <a:endCxn id="550" idx="2"/>
          </p:cNvCxnSpPr>
          <p:nvPr/>
        </p:nvCxnSpPr>
        <p:spPr>
          <a:xfrm flipV="1" rot="16200000">
            <a:off x="5688000" y="3311640"/>
            <a:ext cx="304200" cy="2966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1" name="Овал 47"/>
          <p:cNvSpPr/>
          <p:nvPr/>
        </p:nvSpPr>
        <p:spPr>
          <a:xfrm flipH="1">
            <a:off x="3604320" y="350028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48"/>
          <p:cNvSpPr/>
          <p:nvPr/>
        </p:nvSpPr>
        <p:spPr>
          <a:xfrm flipH="1">
            <a:off x="3604320" y="367668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49"/>
          <p:cNvSpPr/>
          <p:nvPr/>
        </p:nvSpPr>
        <p:spPr>
          <a:xfrm flipH="1">
            <a:off x="2999520" y="460836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50"/>
          <p:cNvSpPr/>
          <p:nvPr/>
        </p:nvSpPr>
        <p:spPr>
          <a:xfrm flipH="1">
            <a:off x="1652760" y="49467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51"/>
          <p:cNvSpPr/>
          <p:nvPr/>
        </p:nvSpPr>
        <p:spPr>
          <a:xfrm flipH="1">
            <a:off x="7286760" y="49467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2"/>
          <p:cNvSpPr/>
          <p:nvPr/>
        </p:nvSpPr>
        <p:spPr>
          <a:xfrm flipH="1">
            <a:off x="4285440" y="460836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53"/>
          <p:cNvSpPr/>
          <p:nvPr/>
        </p:nvSpPr>
        <p:spPr>
          <a:xfrm>
            <a:off x="5937120" y="40006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7 (495) 989–11–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58"/>
          <p:cNvSpPr/>
          <p:nvPr/>
        </p:nvSpPr>
        <p:spPr>
          <a:xfrm>
            <a:off x="2428920" y="5572080"/>
            <a:ext cx="3929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C:\Documents and Settings\AKuznetsov\Мои документы\Мои рисунки\logoGCSS.gif"/>
          <p:cNvPicPr/>
          <p:nvPr/>
        </p:nvPicPr>
        <p:blipFill>
          <a:blip r:embed="rId1"/>
          <a:stretch/>
        </p:blipFill>
        <p:spPr>
          <a:xfrm>
            <a:off x="7524720" y="1341360"/>
            <a:ext cx="1352520" cy="935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2"/>
          <p:cNvSpPr/>
          <p:nvPr/>
        </p:nvSpPr>
        <p:spPr>
          <a:xfrm>
            <a:off x="-541440" y="299736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хем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5867280" y="30686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хем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14"/>
          <p:cNvSpPr/>
          <p:nvPr/>
        </p:nvSpPr>
        <p:spPr>
          <a:xfrm>
            <a:off x="826920" y="981000"/>
            <a:ext cx="69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Доставка экзаменационн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матери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Стрелка вниз 15"/>
          <p:cNvSpPr/>
          <p:nvPr/>
        </p:nvSpPr>
        <p:spPr>
          <a:xfrm>
            <a:off x="6372360" y="3429000"/>
            <a:ext cx="484200" cy="43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9"/>
          <p:cNvSpPr/>
          <p:nvPr/>
        </p:nvSpPr>
        <p:spPr>
          <a:xfrm>
            <a:off x="468360" y="6093000"/>
            <a:ext cx="8215200" cy="6123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Arial"/>
              </a:rPr>
              <a:t>Выдача неиспользованных остатков ЭМ со склада через 10 дней после окончания периода сдачи ЕГЭ во всех субъектах Р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трелка вниз 16"/>
          <p:cNvSpPr/>
          <p:nvPr/>
        </p:nvSpPr>
        <p:spPr>
          <a:xfrm>
            <a:off x="1476360" y="3429000"/>
            <a:ext cx="484200" cy="43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трелка вниз 20"/>
          <p:cNvSpPr/>
          <p:nvPr/>
        </p:nvSpPr>
        <p:spPr>
          <a:xfrm>
            <a:off x="3995640" y="256536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3348000" y="256536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Ц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3"/>
          <p:cNvSpPr/>
          <p:nvPr/>
        </p:nvSpPr>
        <p:spPr>
          <a:xfrm>
            <a:off x="4427640" y="350028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Ц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4427640" y="472428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Ц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-468360" y="501336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член Г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трелка вниз 28"/>
          <p:cNvSpPr/>
          <p:nvPr/>
        </p:nvSpPr>
        <p:spPr>
          <a:xfrm>
            <a:off x="6443640" y="4724280"/>
            <a:ext cx="484200" cy="4334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трелка вниз 29"/>
          <p:cNvSpPr/>
          <p:nvPr/>
        </p:nvSpPr>
        <p:spPr>
          <a:xfrm>
            <a:off x="1763640" y="5013360"/>
            <a:ext cx="484200" cy="43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TextBox 30"/>
          <p:cNvGrpSpPr/>
          <p:nvPr/>
        </p:nvGrpSpPr>
        <p:grpSpPr>
          <a:xfrm>
            <a:off x="2766960" y="1981080"/>
            <a:ext cx="2963880" cy="476280"/>
            <a:chOff x="2766960" y="1981080"/>
            <a:chExt cx="2963880" cy="476280"/>
          </a:xfrm>
        </p:grpSpPr>
        <p:pic>
          <p:nvPicPr>
            <p:cNvPr id="570" name="TextBox 30" descr=""/>
            <p:cNvPicPr/>
            <p:nvPr/>
          </p:nvPicPr>
          <p:blipFill>
            <a:blip r:embed="rId2"/>
            <a:stretch/>
          </p:blipFill>
          <p:spPr>
            <a:xfrm>
              <a:off x="2766960" y="1981080"/>
              <a:ext cx="2963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2771640" y="198900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Типограф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TextBox 31"/>
          <p:cNvGrpSpPr/>
          <p:nvPr/>
        </p:nvGrpSpPr>
        <p:grpSpPr>
          <a:xfrm>
            <a:off x="2048040" y="3060720"/>
            <a:ext cx="4103640" cy="474480"/>
            <a:chOff x="2048040" y="3060720"/>
            <a:chExt cx="4103640" cy="474480"/>
          </a:xfrm>
        </p:grpSpPr>
        <p:pic>
          <p:nvPicPr>
            <p:cNvPr id="573" name="TextBox 31" descr=""/>
            <p:cNvPicPr/>
            <p:nvPr/>
          </p:nvPicPr>
          <p:blipFill>
            <a:blip r:embed="rId3"/>
            <a:stretch/>
          </p:blipFill>
          <p:spPr>
            <a:xfrm>
              <a:off x="2048040" y="3060720"/>
              <a:ext cx="4103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050920" y="3068640"/>
              <a:ext cx="40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егиональный скл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TextBox 32"/>
          <p:cNvGrpSpPr/>
          <p:nvPr/>
        </p:nvGrpSpPr>
        <p:grpSpPr>
          <a:xfrm>
            <a:off x="171360" y="3925800"/>
            <a:ext cx="3541680" cy="1090800"/>
            <a:chOff x="171360" y="3925800"/>
            <a:chExt cx="3541680" cy="1090800"/>
          </a:xfrm>
        </p:grpSpPr>
        <p:pic>
          <p:nvPicPr>
            <p:cNvPr id="576" name="TextBox 32" descr=""/>
            <p:cNvPicPr/>
            <p:nvPr/>
          </p:nvPicPr>
          <p:blipFill>
            <a:blip r:embed="rId4"/>
            <a:stretch/>
          </p:blipFill>
          <p:spPr>
            <a:xfrm>
              <a:off x="171360" y="3925800"/>
              <a:ext cx="354168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179280" y="3933720"/>
              <a:ext cx="3529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еупаковка сотрудниками РЦОИ, выдача члену ГЭК в день экзаме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TextBox 33"/>
          <p:cNvGrpSpPr/>
          <p:nvPr/>
        </p:nvGrpSpPr>
        <p:grpSpPr>
          <a:xfrm>
            <a:off x="4853160" y="3925800"/>
            <a:ext cx="3541680" cy="596880"/>
            <a:chOff x="4853160" y="3925800"/>
            <a:chExt cx="3541680" cy="596880"/>
          </a:xfrm>
        </p:grpSpPr>
        <p:pic>
          <p:nvPicPr>
            <p:cNvPr id="579" name="TextBox 33" descr=""/>
            <p:cNvPicPr/>
            <p:nvPr/>
          </p:nvPicPr>
          <p:blipFill>
            <a:blip r:embed="rId5"/>
            <a:stretch/>
          </p:blipFill>
          <p:spPr>
            <a:xfrm>
              <a:off x="4853160" y="3925800"/>
              <a:ext cx="3541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859280" y="3933720"/>
              <a:ext cx="352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ставка до ППЭ, выдача члену ГЭ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TextBox 34"/>
          <p:cNvGrpSpPr/>
          <p:nvPr/>
        </p:nvGrpSpPr>
        <p:grpSpPr>
          <a:xfrm>
            <a:off x="171360" y="5510160"/>
            <a:ext cx="3541680" cy="414360"/>
            <a:chOff x="171360" y="5510160"/>
            <a:chExt cx="3541680" cy="414360"/>
          </a:xfrm>
        </p:grpSpPr>
        <p:pic>
          <p:nvPicPr>
            <p:cNvPr id="582" name="TextBox 34" descr=""/>
            <p:cNvPicPr/>
            <p:nvPr/>
          </p:nvPicPr>
          <p:blipFill>
            <a:blip r:embed="rId6"/>
            <a:stretch/>
          </p:blipFill>
          <p:spPr>
            <a:xfrm>
              <a:off x="171360" y="5510160"/>
              <a:ext cx="35416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79280" y="551664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ставка до ПП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TextBox 35"/>
          <p:cNvGrpSpPr/>
          <p:nvPr/>
        </p:nvGrpSpPr>
        <p:grpSpPr>
          <a:xfrm>
            <a:off x="3846600" y="5224320"/>
            <a:ext cx="5126040" cy="596880"/>
            <a:chOff x="3846600" y="5224320"/>
            <a:chExt cx="5126040" cy="596880"/>
          </a:xfrm>
        </p:grpSpPr>
        <p:pic>
          <p:nvPicPr>
            <p:cNvPr id="585" name="TextBox 35" descr=""/>
            <p:cNvPicPr/>
            <p:nvPr/>
          </p:nvPicPr>
          <p:blipFill>
            <a:blip r:embed="rId7"/>
            <a:stretch/>
          </p:blipFill>
          <p:spPr>
            <a:xfrm>
              <a:off x="3846600" y="5224320"/>
              <a:ext cx="5126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5229360"/>
              <a:ext cx="511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Из ППЭ в РЦОИ – использованные Э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Из ППЭ на склад – неиспользованные Э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Цели проек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72520" y="211896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овышение объективности процедур ГИ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создание равных условий для всех участников ГИА</a:t>
            </a:r>
            <a:r>
              <a:rPr b="0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Заголовок 1"/>
          <p:cNvSpPr/>
          <p:nvPr/>
        </p:nvSpPr>
        <p:spPr>
          <a:xfrm>
            <a:off x="257040" y="2963880"/>
            <a:ext cx="8229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одержимое 2"/>
          <p:cNvSpPr/>
          <p:nvPr/>
        </p:nvSpPr>
        <p:spPr>
          <a:xfrm>
            <a:off x="257040" y="3500280"/>
            <a:ext cx="8712360" cy="3241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Анализ мониторинга проведения ЕГЭ –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Организация и проведение мониторинга ГИА –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Создание и обеспечение функционирования групп контроля и идентификации КИМ в сети Интернет в ходе проведения ГИА –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Анализ результатов мониторинга проведения ГИА –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одготовка базы экспертов для осуществления мониторин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Введение в штатный режим системы мониторинга проведения ГИ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роведение Всероссийского семинара по итогам мониторинга проведения ГИА-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C:\Users\Samarin\AppData\Local\Microsoft\Windows\Temporary Internet Files\Low\Content.IE5\KP111620\MC900441310[1].PNG"/>
          <p:cNvPicPr/>
          <p:nvPr/>
        </p:nvPicPr>
        <p:blipFill>
          <a:blip r:embed="rId1"/>
          <a:stretch/>
        </p:blipFill>
        <p:spPr>
          <a:xfrm>
            <a:off x="785880" y="20844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C:\Users\Samarin\AppData\Local\Microsoft\Windows\Temporary Internet Files\Low\Content.IE5\KP111620\MC900441310[1].PNG"/>
          <p:cNvPicPr/>
          <p:nvPr/>
        </p:nvPicPr>
        <p:blipFill>
          <a:blip r:embed="rId2"/>
          <a:stretch/>
        </p:blipFill>
        <p:spPr>
          <a:xfrm>
            <a:off x="792000" y="2530440"/>
            <a:ext cx="439920" cy="4446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8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ниторинг проведения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390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Verdana"/>
                <a:ea typeface="Calibri"/>
              </a:rPr>
              <a:t>Нарушения, выявленные экспертами в 2014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Группа 15"/>
          <p:cNvGrpSpPr/>
          <p:nvPr/>
        </p:nvGrpSpPr>
        <p:grpSpPr>
          <a:xfrm>
            <a:off x="608040" y="1863720"/>
            <a:ext cx="7792920" cy="1014480"/>
            <a:chOff x="608040" y="1863720"/>
            <a:chExt cx="7792920" cy="1014480"/>
          </a:xfrm>
        </p:grpSpPr>
        <p:grpSp>
          <p:nvGrpSpPr>
            <p:cNvPr id="596" name="TextBox 7"/>
            <p:cNvGrpSpPr/>
            <p:nvPr/>
          </p:nvGrpSpPr>
          <p:grpSpPr>
            <a:xfrm>
              <a:off x="5665680" y="1863720"/>
              <a:ext cx="2735280" cy="1014480"/>
              <a:chOff x="5665680" y="1863720"/>
              <a:chExt cx="2735280" cy="1014480"/>
            </a:xfrm>
          </p:grpSpPr>
          <p:pic>
            <p:nvPicPr>
              <p:cNvPr id="597" name="TextBox 7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5680" y="1863720"/>
                <a:ext cx="2735280" cy="10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>
                <a:off x="5672160" y="2018520"/>
                <a:ext cx="2723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83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d2d8a"/>
                    </a:solidFill>
                    <a:latin typeface="Arial"/>
                    <a:ea typeface="Times New Roman"/>
                  </a:rPr>
                  <a:t>нарушени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Группа 14"/>
            <p:cNvGrpSpPr/>
            <p:nvPr/>
          </p:nvGrpSpPr>
          <p:grpSpPr>
            <a:xfrm>
              <a:off x="608040" y="1868040"/>
              <a:ext cx="4876920" cy="1005120"/>
              <a:chOff x="608040" y="1868040"/>
              <a:chExt cx="4876920" cy="1005120"/>
            </a:xfrm>
          </p:grpSpPr>
          <p:grpSp>
            <p:nvGrpSpPr>
              <p:cNvPr id="600" name="TextBox 2"/>
              <p:cNvGrpSpPr/>
              <p:nvPr/>
            </p:nvGrpSpPr>
            <p:grpSpPr>
              <a:xfrm>
                <a:off x="608040" y="1868040"/>
                <a:ext cx="4209840" cy="1005120"/>
                <a:chOff x="608040" y="1868040"/>
                <a:chExt cx="4209840" cy="1005120"/>
              </a:xfrm>
            </p:grpSpPr>
            <p:pic>
              <p:nvPicPr>
                <p:cNvPr id="601" name="TextBox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8040" y="1868040"/>
                  <a:ext cx="420984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2" name=""/>
                <p:cNvSpPr/>
                <p:nvPr/>
              </p:nvSpPr>
              <p:spPr>
                <a:xfrm>
                  <a:off x="612360" y="2170800"/>
                  <a:ext cx="4201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d2d8a"/>
                      </a:solidFill>
                      <a:latin typeface="Arial"/>
                      <a:ea typeface="Times New Roman"/>
                    </a:rPr>
                    <a:t>Участники ЕГ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Стрелка вправо 11"/>
              <p:cNvGrpSpPr/>
              <p:nvPr/>
            </p:nvGrpSpPr>
            <p:grpSpPr>
              <a:xfrm>
                <a:off x="4987800" y="2208960"/>
                <a:ext cx="497160" cy="322920"/>
                <a:chOff x="4987800" y="2208960"/>
                <a:chExt cx="497160" cy="322920"/>
              </a:xfrm>
            </p:grpSpPr>
            <p:pic>
              <p:nvPicPr>
                <p:cNvPr id="604" name="Стрелка вправо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87800" y="2208960"/>
                  <a:ext cx="497160" cy="32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5" name=""/>
                <p:cNvSpPr/>
                <p:nvPr/>
              </p:nvSpPr>
              <p:spPr>
                <a:xfrm>
                  <a:off x="5000760" y="2303640"/>
                  <a:ext cx="400680" cy="13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6" name="Группа 17"/>
          <p:cNvGrpSpPr/>
          <p:nvPr/>
        </p:nvGrpSpPr>
        <p:grpSpPr>
          <a:xfrm>
            <a:off x="636480" y="3174840"/>
            <a:ext cx="7794720" cy="1016280"/>
            <a:chOff x="636480" y="3174840"/>
            <a:chExt cx="7794720" cy="1016280"/>
          </a:xfrm>
        </p:grpSpPr>
        <p:grpSp>
          <p:nvGrpSpPr>
            <p:cNvPr id="607" name="TextBox 4"/>
            <p:cNvGrpSpPr/>
            <p:nvPr/>
          </p:nvGrpSpPr>
          <p:grpSpPr>
            <a:xfrm>
              <a:off x="636480" y="3174840"/>
              <a:ext cx="4232160" cy="1016280"/>
              <a:chOff x="636480" y="3174840"/>
              <a:chExt cx="4232160" cy="1016280"/>
            </a:xfrm>
          </p:grpSpPr>
          <p:pic>
            <p:nvPicPr>
              <p:cNvPr id="608" name="TextBox 4" descr=""/>
              <p:cNvPicPr/>
              <p:nvPr/>
            </p:nvPicPr>
            <p:blipFill>
              <a:blip r:embed="rId4"/>
              <a:stretch/>
            </p:blipFill>
            <p:spPr>
              <a:xfrm>
                <a:off x="636480" y="3174840"/>
                <a:ext cx="4232160" cy="10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645120" y="3331080"/>
                <a:ext cx="4219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d2d8a"/>
                    </a:solidFill>
                    <a:latin typeface="Arial"/>
                    <a:ea typeface="Times New Roman"/>
                  </a:rPr>
                  <a:t>Лица, задействованные в организации проведения ЕГ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Группа 16"/>
            <p:cNvGrpSpPr/>
            <p:nvPr/>
          </p:nvGrpSpPr>
          <p:grpSpPr>
            <a:xfrm>
              <a:off x="5051160" y="3181680"/>
              <a:ext cx="3380040" cy="1006560"/>
              <a:chOff x="5051160" y="3181680"/>
              <a:chExt cx="3380040" cy="1006560"/>
            </a:xfrm>
          </p:grpSpPr>
          <p:grpSp>
            <p:nvGrpSpPr>
              <p:cNvPr id="611" name="TextBox 8"/>
              <p:cNvGrpSpPr/>
              <p:nvPr/>
            </p:nvGrpSpPr>
            <p:grpSpPr>
              <a:xfrm>
                <a:off x="5711400" y="3181680"/>
                <a:ext cx="2719800" cy="1006560"/>
                <a:chOff x="5711400" y="3181680"/>
                <a:chExt cx="2719800" cy="1006560"/>
              </a:xfrm>
            </p:grpSpPr>
            <p:pic>
              <p:nvPicPr>
                <p:cNvPr id="612" name="TextBox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1400" y="3181680"/>
                  <a:ext cx="2719800" cy="100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>
                  <a:off x="5716800" y="3331800"/>
                  <a:ext cx="2708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329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d2d8a"/>
                      </a:solidFill>
                      <a:latin typeface="Arial"/>
                      <a:ea typeface="Times New Roman"/>
                    </a:rPr>
                    <a:t>нарушен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Стрелка вправо 12"/>
              <p:cNvGrpSpPr/>
              <p:nvPr/>
            </p:nvGrpSpPr>
            <p:grpSpPr>
              <a:xfrm>
                <a:off x="5051160" y="3521160"/>
                <a:ext cx="496440" cy="321480"/>
                <a:chOff x="5051160" y="3521160"/>
                <a:chExt cx="496440" cy="321480"/>
              </a:xfrm>
            </p:grpSpPr>
            <p:pic>
              <p:nvPicPr>
                <p:cNvPr id="615" name="Стрелка вправо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51160" y="3521160"/>
                  <a:ext cx="496440" cy="32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"/>
                <p:cNvSpPr/>
                <p:nvPr/>
              </p:nvSpPr>
              <p:spPr>
                <a:xfrm>
                  <a:off x="5063040" y="3615840"/>
                  <a:ext cx="400320" cy="13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7" name="Группа 21"/>
          <p:cNvGrpSpPr/>
          <p:nvPr/>
        </p:nvGrpSpPr>
        <p:grpSpPr>
          <a:xfrm>
            <a:off x="652320" y="4449600"/>
            <a:ext cx="7778880" cy="1016280"/>
            <a:chOff x="652320" y="4449600"/>
            <a:chExt cx="7778880" cy="1016280"/>
          </a:xfrm>
        </p:grpSpPr>
        <p:grpSp>
          <p:nvGrpSpPr>
            <p:cNvPr id="618" name="TextBox 9"/>
            <p:cNvGrpSpPr/>
            <p:nvPr/>
          </p:nvGrpSpPr>
          <p:grpSpPr>
            <a:xfrm>
              <a:off x="5695920" y="4449600"/>
              <a:ext cx="2735280" cy="1016280"/>
              <a:chOff x="5695920" y="4449600"/>
              <a:chExt cx="2735280" cy="1016280"/>
            </a:xfrm>
          </p:grpSpPr>
          <p:pic>
            <p:nvPicPr>
              <p:cNvPr id="619" name="TextBox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695920" y="4449600"/>
                <a:ext cx="2735280" cy="10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5701680" y="4604040"/>
                <a:ext cx="2724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d2d8a"/>
                    </a:solidFill>
                    <a:latin typeface="Arial"/>
                    <a:ea typeface="Times New Roman"/>
                  </a:rPr>
                  <a:t>нарушени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Группа 18"/>
            <p:cNvGrpSpPr/>
            <p:nvPr/>
          </p:nvGrpSpPr>
          <p:grpSpPr>
            <a:xfrm>
              <a:off x="652320" y="4450680"/>
              <a:ext cx="4890240" cy="1008720"/>
              <a:chOff x="652320" y="4450680"/>
              <a:chExt cx="4890240" cy="1008720"/>
            </a:xfrm>
          </p:grpSpPr>
          <p:grpSp>
            <p:nvGrpSpPr>
              <p:cNvPr id="622" name="TextBox 5"/>
              <p:cNvGrpSpPr/>
              <p:nvPr/>
            </p:nvGrpSpPr>
            <p:grpSpPr>
              <a:xfrm>
                <a:off x="652320" y="4450680"/>
                <a:ext cx="4211640" cy="1008720"/>
                <a:chOff x="652320" y="4450680"/>
                <a:chExt cx="4211640" cy="1008720"/>
              </a:xfrm>
            </p:grpSpPr>
            <p:pic>
              <p:nvPicPr>
                <p:cNvPr id="623" name="TextBox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2320" y="4455000"/>
                  <a:ext cx="421164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>
                  <a:off x="658440" y="4450680"/>
                  <a:ext cx="4197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2d2d8a"/>
                      </a:solidFill>
                      <a:latin typeface="Arial"/>
                      <a:ea typeface="Times New Roman"/>
                    </a:rPr>
                    <a:t>Сотрудники МВД, ФСБ, прокуратуры, общественные наблюдател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Стрелка вправо 13"/>
              <p:cNvGrpSpPr/>
              <p:nvPr/>
            </p:nvGrpSpPr>
            <p:grpSpPr>
              <a:xfrm>
                <a:off x="5045760" y="4793040"/>
                <a:ext cx="496800" cy="320400"/>
                <a:chOff x="5045760" y="4793040"/>
                <a:chExt cx="496800" cy="320400"/>
              </a:xfrm>
            </p:grpSpPr>
            <p:pic>
              <p:nvPicPr>
                <p:cNvPr id="626" name="Стрелка вправо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045760" y="4793040"/>
                  <a:ext cx="496800" cy="320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7" name=""/>
                <p:cNvSpPr/>
                <p:nvPr/>
              </p:nvSpPr>
              <p:spPr>
                <a:xfrm>
                  <a:off x="5055480" y="4888800"/>
                  <a:ext cx="400320" cy="13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8" name="TextBox 22"/>
          <p:cNvSpPr/>
          <p:nvPr/>
        </p:nvSpPr>
        <p:spPr>
          <a:xfrm>
            <a:off x="644400" y="5797440"/>
            <a:ext cx="774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Общее количество выявленных нарушений по итогам проведенного мониторинга 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2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3" descr=""/>
          <p:cNvPicPr/>
          <p:nvPr/>
        </p:nvPicPr>
        <p:blipFill>
          <a:blip r:embed="rId1"/>
          <a:stretch/>
        </p:blipFill>
        <p:spPr>
          <a:xfrm>
            <a:off x="3789360" y="34639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0" name="TextBox 4" descr=""/>
          <p:cNvPicPr/>
          <p:nvPr/>
        </p:nvPicPr>
        <p:blipFill>
          <a:blip r:embed="rId2"/>
          <a:stretch/>
        </p:blipFill>
        <p:spPr>
          <a:xfrm>
            <a:off x="3780000" y="3718080"/>
            <a:ext cx="1346040" cy="720720"/>
          </a:xfrm>
          <a:prstGeom prst="rect">
            <a:avLst/>
          </a:prstGeom>
          <a:ln w="0">
            <a:noFill/>
          </a:ln>
        </p:spPr>
      </p:pic>
      <p:sp>
        <p:nvSpPr>
          <p:cNvPr id="631" name="Овал 11"/>
          <p:cNvSpPr/>
          <p:nvPr/>
        </p:nvSpPr>
        <p:spPr>
          <a:xfrm>
            <a:off x="6164280" y="4470480"/>
            <a:ext cx="144360" cy="14436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6053040" y="5446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4"/>
          <p:cNvSpPr/>
          <p:nvPr/>
        </p:nvSpPr>
        <p:spPr>
          <a:xfrm>
            <a:off x="6561000" y="3309840"/>
            <a:ext cx="144720" cy="14472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6437160" y="4251240"/>
            <a:ext cx="23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тель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17"/>
          <p:cNvSpPr/>
          <p:nvPr/>
        </p:nvSpPr>
        <p:spPr>
          <a:xfrm>
            <a:off x="5938920" y="2301840"/>
            <a:ext cx="144360" cy="14436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8"/>
          <p:cNvSpPr/>
          <p:nvPr/>
        </p:nvSpPr>
        <p:spPr>
          <a:xfrm>
            <a:off x="6062760" y="188928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ганы исполнительно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0"/>
          <p:cNvSpPr/>
          <p:nvPr/>
        </p:nvSpPr>
        <p:spPr>
          <a:xfrm rot="10800000">
            <a:off x="3846240" y="1466640"/>
            <a:ext cx="1098360" cy="4910040"/>
          </a:xfrm>
          <a:prstGeom prst="ellipse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1"/>
          <p:cNvSpPr/>
          <p:nvPr/>
        </p:nvSpPr>
        <p:spPr>
          <a:xfrm>
            <a:off x="4206960" y="1442880"/>
            <a:ext cx="142920" cy="14292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3"/>
          <p:cNvSpPr/>
          <p:nvPr/>
        </p:nvSpPr>
        <p:spPr>
          <a:xfrm>
            <a:off x="-14400" y="4329000"/>
            <a:ext cx="21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ственные наблюд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4"/>
          <p:cNvSpPr/>
          <p:nvPr/>
        </p:nvSpPr>
        <p:spPr>
          <a:xfrm rot="8289000">
            <a:off x="3790440" y="1654920"/>
            <a:ext cx="1113120" cy="4599000"/>
          </a:xfrm>
          <a:prstGeom prst="ellipse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5"/>
          <p:cNvSpPr/>
          <p:nvPr/>
        </p:nvSpPr>
        <p:spPr>
          <a:xfrm>
            <a:off x="2681280" y="2263680"/>
            <a:ext cx="142920" cy="14292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7"/>
          <p:cNvSpPr/>
          <p:nvPr/>
        </p:nvSpPr>
        <p:spPr>
          <a:xfrm>
            <a:off x="1908000" y="14130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собрнадз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8"/>
          <p:cNvSpPr/>
          <p:nvPr/>
        </p:nvSpPr>
        <p:spPr>
          <a:xfrm>
            <a:off x="561960" y="188928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ственная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 rot="6559800">
            <a:off x="3771720" y="1985760"/>
            <a:ext cx="1133640" cy="4051440"/>
          </a:xfrm>
          <a:prstGeom prst="ellipse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2351160" y="3300480"/>
            <a:ext cx="144360" cy="14436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2"/>
          <p:cNvSpPr/>
          <p:nvPr/>
        </p:nvSpPr>
        <p:spPr>
          <a:xfrm>
            <a:off x="-17640" y="313992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полномоченные по правам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4"/>
          <p:cNvSpPr/>
          <p:nvPr/>
        </p:nvSpPr>
        <p:spPr>
          <a:xfrm>
            <a:off x="2149560" y="4535640"/>
            <a:ext cx="142920" cy="14436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1"/>
          <p:cNvSpPr/>
          <p:nvPr/>
        </p:nvSpPr>
        <p:spPr>
          <a:xfrm rot="13297200">
            <a:off x="3879360" y="1683720"/>
            <a:ext cx="1109880" cy="4600440"/>
          </a:xfrm>
          <a:prstGeom prst="ellipse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5"/>
          <p:cNvSpPr/>
          <p:nvPr/>
        </p:nvSpPr>
        <p:spPr>
          <a:xfrm rot="4565400">
            <a:off x="3900240" y="1712520"/>
            <a:ext cx="1111320" cy="4600800"/>
          </a:xfrm>
          <a:prstGeom prst="ellipse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6"/>
          <p:cNvSpPr/>
          <p:nvPr/>
        </p:nvSpPr>
        <p:spPr>
          <a:xfrm>
            <a:off x="2906640" y="5657760"/>
            <a:ext cx="144360" cy="14292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38"/>
          <p:cNvSpPr/>
          <p:nvPr/>
        </p:nvSpPr>
        <p:spPr>
          <a:xfrm>
            <a:off x="727200" y="558000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9"/>
          <p:cNvSpPr/>
          <p:nvPr/>
        </p:nvSpPr>
        <p:spPr>
          <a:xfrm>
            <a:off x="5853240" y="5535720"/>
            <a:ext cx="144360" cy="14436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40"/>
          <p:cNvSpPr/>
          <p:nvPr/>
        </p:nvSpPr>
        <p:spPr>
          <a:xfrm>
            <a:off x="6811920" y="31305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Э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"/>
          <p:cNvSpPr/>
          <p:nvPr/>
        </p:nvSpPr>
        <p:spPr>
          <a:xfrm>
            <a:off x="2050920" y="63086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Честность. Объективность. Прозра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3"/>
          <p:cNvSpPr/>
          <p:nvPr/>
        </p:nvSpPr>
        <p:spPr>
          <a:xfrm>
            <a:off x="1692360" y="9079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астники проекта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2015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2"/>
          <p:cNvSpPr/>
          <p:nvPr/>
        </p:nvSpPr>
        <p:spPr>
          <a:xfrm>
            <a:off x="-55440" y="1484280"/>
            <a:ext cx="914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едеральное государственное бюджет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Федеральный центр тестир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Юридический и почтовый адр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19049, Москва, Ленинский проспект, д. 2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2"/>
          <p:cNvSpPr/>
          <p:nvPr/>
        </p:nvSpPr>
        <p:spPr>
          <a:xfrm>
            <a:off x="1643040" y="2492280"/>
            <a:ext cx="614376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3"/>
          <p:cNvSpPr/>
          <p:nvPr/>
        </p:nvSpPr>
        <p:spPr>
          <a:xfrm>
            <a:off x="1763640" y="4076640"/>
            <a:ext cx="614376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3"/>
          <p:cNvSpPr/>
          <p:nvPr/>
        </p:nvSpPr>
        <p:spPr>
          <a:xfrm>
            <a:off x="766800" y="4437000"/>
            <a:ext cx="7500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+7 (495) 530-10-00  секретари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st@rustes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ww.rustest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324000" y="126828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Статистические данные субъектов РФ</a:t>
            </a: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7"/>
          <p:cNvSpPr/>
          <p:nvPr/>
        </p:nvSpPr>
        <p:spPr>
          <a:xfrm>
            <a:off x="324000" y="4869000"/>
            <a:ext cx="8496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7840" indent="-11160" algn="just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1160" algn="just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468360" y="2421000"/>
          <a:ext cx="8136000" cy="1800000"/>
        </p:xfrm>
        <a:graphic>
          <a:graphicData uri="http://schemas.openxmlformats.org/drawingml/2006/table">
            <a:tbl>
              <a:tblPr/>
              <a:tblGrid>
                <a:gridCol w="1500120"/>
                <a:gridCol w="2254320"/>
                <a:gridCol w="2003400"/>
                <a:gridCol w="2378160"/>
              </a:tblGrid>
              <a:tr h="9745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Общее количество участников 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Общее количество ПП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Общее количество аудито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29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762 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 9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60 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25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717 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 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66 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493" name="Прямоугольник 7"/>
          <p:cNvSpPr/>
          <p:nvPr/>
        </p:nvSpPr>
        <p:spPr>
          <a:xfrm>
            <a:off x="395280" y="5157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7840" indent="-11160" algn="just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 ЕГЭ 2014 г. принимали участие 100 человек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из Республики Крым и г. Севастополя в 1 ППЭ в г. Севастопол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324000" y="1052640"/>
            <a:ext cx="866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Статистические данные по подготовке к ЕГЭ в 2015 г. в Республике Кр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и г. Севастоп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84360" y="2708280"/>
          <a:ext cx="8135640" cy="2495520"/>
        </p:xfrm>
        <a:graphic>
          <a:graphicData uri="http://schemas.openxmlformats.org/drawingml/2006/table">
            <a:tbl>
              <a:tblPr/>
              <a:tblGrid>
                <a:gridCol w="1582560"/>
                <a:gridCol w="1441440"/>
                <a:gridCol w="1511280"/>
                <a:gridCol w="1656000"/>
                <a:gridCol w="1944360"/>
              </a:tblGrid>
              <a:tr h="13795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Количество ППЭ 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Количество участников ЕГЭ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Выпускники 11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Количество участников сочинения (из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80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еспублика Кр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8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12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11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580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г. Севастоп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1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3"/>
          <p:cNvSpPr/>
          <p:nvPr/>
        </p:nvSpPr>
        <p:spPr>
          <a:xfrm>
            <a:off x="441360" y="90792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Ведение РИС ГИ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7"/>
          <p:cNvSpPr/>
          <p:nvPr/>
        </p:nvSpPr>
        <p:spPr>
          <a:xfrm>
            <a:off x="31680" y="1341360"/>
            <a:ext cx="91123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452520" indent="-28584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спублика К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ло сдававших итоговое сочинение –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11 5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сего внесено в РИС участников ЕГЭ –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28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астников с документами удостоверяющими личность из других субъектов РФ –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7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планировано человеко-экзаменов –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5 8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 02.02.2015 по 19.02.2015 внесено в РИС 2 793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астников ЕГ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. Севастоп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ло сдававших итоговое сочинение –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2 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сего внесено в РИС участников ЕГЭ –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104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астников с документами удостоверяющими личность из других субъектов РФ –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планировано человеко-экзаменов –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 02.02.2015 по 19.02.2015 внесено в РИС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18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астников ЕГ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Заголовок 1"/>
          <p:cNvSpPr/>
          <p:nvPr/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Verdana"/>
              </a:rPr>
              <a:t>Количество зачисленных граждан Республики Крым в ВУЗы субъектов Российской Федерации</a:t>
            </a:r>
            <a:br>
              <a:rPr sz="15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84360" y="2276640"/>
          <a:ext cx="7704000" cy="4071600"/>
        </p:xfrm>
        <a:graphic>
          <a:graphicData uri="http://schemas.openxmlformats.org/drawingml/2006/table">
            <a:tbl>
              <a:tblPr/>
              <a:tblGrid>
                <a:gridCol w="3944880"/>
                <a:gridCol w="1861920"/>
                <a:gridCol w="1897200"/>
              </a:tblGrid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ол-во зачисл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% об общего чис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Республика Татар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0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Приморский кр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7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6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алининград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Белгород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Брян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Липец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Ростов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Орлов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ур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5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36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Заголовок 1"/>
          <p:cNvSpPr/>
          <p:nvPr/>
        </p:nvSpPr>
        <p:spPr>
          <a:xfrm>
            <a:off x="53964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Наиболее популярные у граждан Республики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и г. Севастопол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ВУЗы субъектов РФ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95280" y="1636560"/>
          <a:ext cx="8569440" cy="4794480"/>
        </p:xfrm>
        <a:graphic>
          <a:graphicData uri="http://schemas.openxmlformats.org/drawingml/2006/table">
            <a:tbl>
              <a:tblPr/>
              <a:tblGrid>
                <a:gridCol w="1698480"/>
                <a:gridCol w="3989520"/>
                <a:gridCol w="1441440"/>
                <a:gridCol w="1440000"/>
              </a:tblGrid>
              <a:tr h="646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убъект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Кол-во зачис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% об общего числа зачис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еспублика Татар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ФГАОУ ВПО "Казанский (Приволжский) федеральный университе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7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Примо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ФГАОУ ВПО "Дальневосточный федеральный университе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7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Калинин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ФГАОУ ВПО "Балтийский  федеральный университет имени Иммануила Кант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еспублика Татар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ФГБОУ ВПО «Казанский государственный энергетический университ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5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ФГБОУ ВПО ВПО "Российский государственный гуманитарный университе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2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Бел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ФГБОУ ВПО «Белгородская государственная сельскохозяйственная академия им. В.Я. Гори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1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1"/>
          <p:cNvSpPr/>
          <p:nvPr/>
        </p:nvSpPr>
        <p:spPr>
          <a:xfrm>
            <a:off x="0" y="105264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Мониторинг технического обеспечения и соблюдения норм ИБ в РЦОИ субъекто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2"/>
          <p:cNvSpPr/>
          <p:nvPr/>
        </p:nvSpPr>
        <p:spPr>
          <a:xfrm>
            <a:off x="0" y="184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Нормативно-правовые акты в сфере защиты персональных данных и информации ограниченного досту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Схема 3" descr=""/>
          <p:cNvPicPr/>
          <p:nvPr/>
        </p:nvPicPr>
        <p:blipFill>
          <a:blip r:embed="rId1"/>
          <a:stretch/>
        </p:blipFill>
        <p:spPr>
          <a:xfrm>
            <a:off x="4091040" y="2610000"/>
            <a:ext cx="4271760" cy="3052440"/>
          </a:xfrm>
          <a:prstGeom prst="rect">
            <a:avLst/>
          </a:prstGeom>
          <a:ln w="0">
            <a:noFill/>
          </a:ln>
        </p:spPr>
      </p:pic>
      <p:sp>
        <p:nvSpPr>
          <p:cNvPr id="505" name="Скругленный прямоугольник 4"/>
          <p:cNvSpPr/>
          <p:nvPr/>
        </p:nvSpPr>
        <p:spPr>
          <a:xfrm>
            <a:off x="324000" y="6113520"/>
            <a:ext cx="849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я региональных информационных систем по требованиям защиты информ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Стрелка вниз 5"/>
          <p:cNvSpPr/>
          <p:nvPr/>
        </p:nvSpPr>
        <p:spPr>
          <a:xfrm>
            <a:off x="5940360" y="5815080"/>
            <a:ext cx="360360" cy="252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6"/>
          <p:cNvSpPr/>
          <p:nvPr/>
        </p:nvSpPr>
        <p:spPr>
          <a:xfrm>
            <a:off x="611280" y="2565360"/>
            <a:ext cx="3097080" cy="3167280"/>
          </a:xfrm>
          <a:custGeom>
            <a:avLst/>
            <a:gdLst>
              <a:gd name="textAreaLeft" fmla="*/ 151200 w 3097080"/>
              <a:gd name="textAreaRight" fmla="*/ 2945880 w 3097080"/>
              <a:gd name="textAreaTop" fmla="*/ 151200 h 3167280"/>
              <a:gd name="textAreaBottom" fmla="*/ 3016080 h 3167280"/>
            </a:gdLst>
            <a:ahLst/>
            <a:rect l="textAreaLeft" t="textAreaTop" r="textAreaRight" b="textAreaBottom"/>
            <a:pathLst>
              <a:path w="21600" h="22090">
                <a:moveTo>
                  <a:pt x="3600" y="0"/>
                </a:moveTo>
                <a:arcTo wR="3600" hR="3600" stAng="16200000" swAng="-5400000"/>
                <a:lnTo>
                  <a:pt x="0" y="18490"/>
                </a:lnTo>
                <a:arcTo wR="3600" hR="3600" stAng="10800000" swAng="-5400000"/>
                <a:lnTo>
                  <a:pt x="18000" y="220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 ПРАВИТЕЛЬСТВА РОССИЙСКОЙ ФЕДЕРАЦИИ ОТ 31 АВГУСТА 2013 Г. N 7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. Федеральная и региональные информационные системы являются государственными информационными систем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трелка вниз 7"/>
          <p:cNvSpPr/>
          <p:nvPr/>
        </p:nvSpPr>
        <p:spPr>
          <a:xfrm>
            <a:off x="2124000" y="5805360"/>
            <a:ext cx="360360" cy="252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Заголовок 1"/>
          <p:cNvSpPr/>
          <p:nvPr/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Требования к помещения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из расчета 10 000 человек</a:t>
            </a:r>
            <a:br>
              <a:rPr sz="16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684360" y="2060640"/>
          <a:ext cx="7775280" cy="4567320"/>
        </p:xfrm>
        <a:graphic>
          <a:graphicData uri="http://schemas.openxmlformats.org/drawingml/2006/table">
            <a:tbl>
              <a:tblPr/>
              <a:tblGrid>
                <a:gridCol w="5283000"/>
                <a:gridCol w="2492280"/>
              </a:tblGrid>
              <a:tr h="64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Наименование поме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Площа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в.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Холл для организации станции прие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абинет для сканирования материалов (5 сканеров 5 ар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6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абинет верификации (8 ар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Сервер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абинет администрирования (2-3 арм, сетевое оборудование, 2 принтер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Кабинет станции экспертизы (3 принтера, 3 ар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5-7 кабинетов для работы экспертной, конфликтной коми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Помещение для временного хранения материалов, находящихся в обрабо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Помещение для хранения материалов ограниченного дост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afb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7" descr="http://www.microsoft.com/global/enterprise/publishingimages/licensemanagement/newsletter/Images/innovation_icon_blue_online_CIO_Newsletter_July2012.png"/>
          <p:cNvPicPr/>
          <p:nvPr/>
        </p:nvPicPr>
        <p:blipFill>
          <a:blip r:embed="rId1"/>
          <a:stretch/>
        </p:blipFill>
        <p:spPr>
          <a:xfrm>
            <a:off x="7450200" y="4707000"/>
            <a:ext cx="1682640" cy="2125440"/>
          </a:xfrm>
          <a:prstGeom prst="rect">
            <a:avLst/>
          </a:prstGeom>
          <a:ln w="0">
            <a:noFill/>
          </a:ln>
        </p:spPr>
      </p:pic>
      <p:sp>
        <p:nvSpPr>
          <p:cNvPr id="512" name="TextBox 3"/>
          <p:cNvSpPr/>
          <p:nvPr/>
        </p:nvSpPr>
        <p:spPr>
          <a:xfrm>
            <a:off x="324000" y="105264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Нововведения в РИС ГИ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7"/>
          <p:cNvSpPr/>
          <p:nvPr/>
        </p:nvSpPr>
        <p:spPr>
          <a:xfrm>
            <a:off x="31680" y="1571760"/>
            <a:ext cx="8898120" cy="53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Изменение бланка ответов № 1 (нет части заданий  с выбором отве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Изменение формата хранения адреса ППЭ и ОО в 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овершенствование формы общественного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(персонификация формы 18-МА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Расширенное журналирование всех действий РЦ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Автоматизация процедуры планирования и обработки ГВ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Внесение в РИС сведений о ППЭ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28584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фанасьев Станислав Алексеевич</dc:creator>
  <dc:description/>
  <dc:language>en-US</dc:language>
  <cp:lastModifiedBy>VAIO-FCT</cp:lastModifiedBy>
  <cp:lastPrinted>2012-09-26T16:35:21Z</cp:lastPrinted>
  <dcterms:modified xsi:type="dcterms:W3CDTF">2015-02-19T09:10:07Z</dcterms:modified>
  <cp:revision>624</cp:revision>
  <dc:subject/>
  <dc:title>Слайд 1</dc:title>
</cp:coreProperties>
</file>