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32E-4000-4792-9BD8-519A3D0E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147-DA55-4422-9C05-42105CA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D86B2-9234-4F21-BBC8-B653DE9F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C01BD-1D17-4572-94CE-371016A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1689-D927-4662-A32A-2401612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2AECE-7BEF-442C-980D-A1FE1A47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28353-A0D6-4175-8FB9-7F956D4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B3666-931D-4C94-BEB2-8BBC5CE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21C0-2BF8-41B2-8A7F-891937E0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064EE-B24D-407B-AE39-943FCD1E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48CC9-8C02-4444-99CA-61CEA41B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F6962-2806-45F2-BC46-535320F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F63-E801-48E6-B476-16CADD60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DD4A0-0F06-4C06-9676-41D57580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970BF-C126-407E-8F50-B334F67A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EC60-A706-4DEF-A9F8-866E34F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C5C9F-F02C-4862-BCDA-6CABC18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5730C-5A50-4E43-8966-885E323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CB143-A486-4C51-8B02-7C97230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BAA47-9BDD-444C-94FB-45F8CDB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C73A4-EECE-4FBD-A097-8E91731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2E8BA-E450-4CB2-B29C-583E8FD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E9A58-CBF9-40B1-9CFB-92F3E52B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787-3210-44E2-B1AD-BE11DAD7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7F3EA-007D-49AF-90E4-5EBF2CB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8F052-4F2F-4EF2-AFE2-D15C49B6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A571E-06BE-478A-AFFB-D482D23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5B380-861D-4EAD-B1FA-F79F796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54B7-6A43-47A5-801A-FD516A66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D9B03-2636-4A33-A33B-5DE9F693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FD2A6-B7D6-4538-966D-346C560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D913-AE71-4653-8767-99C7A24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B6A5-B75C-467D-B17D-DFFA659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EAF0D-8837-4C69-AFE9-90DA89A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3DB-273D-4FFF-ADA3-FEE6FD4D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A5F7A-B96E-4E46-B3E2-3E76C90F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DC13-E163-4408-A649-12C4735B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963A4-A3A6-41D9-824F-9477104A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9EC6-0737-4506-9219-0328C3E5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CDFA2-F975-4487-8884-B2220C5E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15A79-C420-4021-BAF6-B0FB1F0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BCFE0-2F27-4D13-BB8E-DECBCFB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7999D-FE0A-4AA4-8D39-B9AFF23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961F8-4C9D-4D57-B117-167B343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216A4-92C4-4D91-991F-9BA517E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7C7A-9D6E-4A5D-8053-9CCE185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2A4A8-BCA7-4138-B31B-2E1DF35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52FC-EDBD-44FC-9CF1-78CAB8D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8B28-9680-496F-B45B-AC001A4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9B44A-676B-4D16-8C3D-EA939411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538A2-C263-41F4-A41D-E10F9FD0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26EEE-8D92-4CDC-A6AD-39C26D84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6A099-F4A2-42A7-8C56-76145CCC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E0A7C-1F41-4690-B422-0193756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63360-BCE6-4609-9ED9-B848AA11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BA4B6-E921-4C60-B9F9-AAFD849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819B-9AFE-4C90-9B7B-B807DF4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C65B6-E93F-49E8-A04F-C27B808E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DECD6-810F-42C7-909A-4600038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C98C5-D3E8-4E5B-943D-C089BB3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7B911-5CF4-4F6F-9FDB-2EE5D27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FEB2E-C299-4577-9CCA-C393B7B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CCB08-9332-4AB7-B3ED-3FF82F81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1E726-4569-4EF6-9C02-FBC2AC2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2AB08-085E-400F-8C0B-0DEE2D5B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31A29-1942-4644-A17E-83E5D530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19991-DC25-4698-AE5C-D4A08547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B6CC-8659-479E-B04B-52C16A64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4AC61-2514-499B-9F14-8D5A4B4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8ACEB-5A5F-4853-8173-D4E57E5E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6DD8F-B041-4446-8B86-09548A6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3547D-660E-4F48-8DB7-C4C989A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7E8C7-A66B-475B-B379-D7BF6FD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21D12-4DB7-4976-9C23-1A7381B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94F26C-9A8D-4905-A9B0-A3A3D65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76FCD-7A1C-4BB2-846D-6B3D5DD9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5B9BE-A6F8-46E8-85D5-10A96206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A8E28-864C-49AF-BC4F-6BA836F1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F756-CF70-4128-AB9B-F736B6A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48AF6-C983-4E2C-8D1E-227CC03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94BF7-2102-42B2-8067-F68EE7AF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9F301-4311-40B2-9C8D-6D38716E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8E369-5C8A-4A8F-8393-40BDEF4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D6C4A-5E8C-46AB-A229-F798D81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0EAFD-8B43-414E-9032-96FDFCC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1AA48-724F-43CF-9F02-E2C6ADA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28680-22BE-48D9-9E08-0E4CF5C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7E531-3546-400F-8928-7EDA99A2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DCA8C-D298-4D5C-A663-76A98FBF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294-1BA3-4ACB-9788-BCA73458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B0117-BBE8-45F6-B33F-87E7304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15591-CAD5-4169-9CE5-AA482B47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CA42B-7669-44E8-A29D-B328BA6E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3C8A0-9646-4A3D-BF2A-7B09506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E3B02-74F4-441E-99B2-91B06DA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53FBE-8551-41CA-B1C5-B8AFDE8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6EA33-28A6-417B-878C-DD6D8D1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92430-D384-46E1-A04C-6A51D67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83D32-A6EF-4DA4-BF6D-D5232D3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E013C-BEFF-48D1-8AE7-189ED82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10D3-CFAA-4085-B4EB-C5A91C9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C0C0A-84DA-43D1-9B67-8CAECB8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14EA6-B767-4416-BFEA-F3A96BFA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165EC-BC90-4120-B3DF-296B7FF0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6DF2C-DE83-453A-8AED-B396663F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98814-E287-4DDE-81AD-D2828C7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464C4-F601-4052-841D-104AB50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9C938-FD9F-4096-8BA3-1B0875A9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65ABD-65BD-44B5-804E-A4C0DEB9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403A7-11F2-486F-ABF7-AAB7101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FEA05-3855-4F90-A466-B714B3D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50A-D5A8-40D2-A0C8-20A4094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511-E488-4967-9AAA-008F274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D6885-2295-4663-9C72-1B07467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FDC70-458C-4D06-B353-7DC8511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DF3C7-5C50-45EA-BB64-530DB8A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113B1-CDEF-420C-8C4D-E6A6F25C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16699-D8E2-4AAF-8D61-EA878EA4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A9F4-4C6C-47EE-A406-A5F877B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8F1-C0CC-46F6-B1D7-C07CAB2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862E-3CD2-4458-B1D5-B4A113CF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AD0-E976-40C0-A90F-641CD763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4658-0410-4A6D-B169-1596582D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3A2E-6AA7-4E5B-B0C3-7E38A036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4CA9-CB19-48EB-9D92-A55A1B8F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FB89-51B2-418E-97A9-AD880EF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0E93-FC98-43C2-BAB7-E732BA8F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D6D-CD6E-4148-8303-C160E18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EBCD-035E-4D95-B609-A2D0E28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1CE3-EEEC-45B9-B56E-1FC4D1B9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441F-2E2F-40A0-98FA-F8DD30C6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2343-F551-4E94-97E3-BBE99E2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F5DD-0314-46CB-9A84-5E9FAF9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8BAB-1513-409C-BE72-AF65744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C1E4-11B3-41B1-BDA1-F14CB032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E967-8EE5-40CA-BE80-127D0123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6FB8-D29E-42E0-B982-59E85C7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EBA7-B497-4B55-9108-534269B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73A-AF12-4D33-A4D7-1BDB563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1158-C8F4-4413-91A6-369AE7C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ECFE-C0C6-4195-A587-0B0D567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8F1F-0F21-4CFF-8931-2ACBC5B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3F9E-2C45-4EE2-801B-5105E05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EAB7-3ED7-47BD-86D2-AB7C65A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02D9-D772-499F-947A-87E6C0BB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4662-7B50-4747-BEC7-8D2FDEA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1B7C-C5C1-458A-AD92-0A78C875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D6D3-643F-422B-900B-85AE2CE6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C71C-FEB2-43C2-88BA-668DD605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8EF-ED45-425E-8C28-B1847F83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7868-F142-4D3C-AFBF-5174398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9853-DAF7-4122-A84A-E2A08208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8630-887F-4186-A2AA-5F11275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F99E7-A7E7-4160-A868-824835E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2257-B274-4831-BF16-699F324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43BA-73F5-440E-90EA-1B2F5F2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07890-A923-4BAC-892E-76980F7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ADDD-2972-41F6-9740-612B4FE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CD8B-AA46-42E4-896D-A60E1B1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3215-B27F-417A-B283-41F9B714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BA3-55C7-4CE1-AD87-9A16E9DA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7A35-B0A2-4B98-A1C5-8C7D857C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04D8-3C26-4BF3-999F-19C5B49B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E5C3-C700-44C2-B736-F1CE670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DF04-B4D6-4906-92D4-0221D64B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DE3A-E6BB-48C1-8883-620C2DB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E7E2-C213-4268-9163-E09C0F6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9E40-2949-446F-AD96-CF2E3CA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6545-0D41-4561-BB4E-6A20D004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77FB-FE09-4456-8963-4D28861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A72E0-AA13-49B8-96F1-3EC7237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50E-3B03-4023-8B52-8C9E77D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6F51-767A-47A6-AAFE-76A2C32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A2D2-5EA5-49FB-9FF4-C48190D1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C94C-E47F-4000-A31D-81AA77C3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85C3-3A51-4294-ADEA-5F3ACF30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2B546-F54B-42D5-B994-9FB84271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6358-D8E5-4EA3-AB34-2A37439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4D3FE-214A-4F18-BC71-2B4860A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CEB9D-F57F-47AC-810C-18E28B6F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22F0-A62E-472D-B249-52E5F0F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65A9-F75E-4004-8BBE-580A2826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331-7AE6-43C2-B1E2-0D4300A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B621-317F-49E2-88BC-1967C2D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608E-74C4-4DED-BFF3-9391D0A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583B-F011-4303-87C5-D8005E8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D650-B0D2-4151-B71E-3FBB6F5E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E59B-EB52-498B-AB83-31855F91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46EC-1F2B-4775-9B35-32D0EF1B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32FB0-647B-4970-8D2D-DDA43977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2926-59BD-4BE0-AFA0-F4A30B4F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F134-6675-4273-9E79-12B85F8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63085-FBDB-4498-8A7E-A383759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291-3F9F-43F2-8C68-D1E00ED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A669-BE5E-4C76-BAB2-75CAD5B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265C-B520-4EE5-AA1E-B11C4AB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421B-BAA4-4AA8-BD50-5C42043C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B3AE0-6657-4E11-A4D8-548CA73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3495-036D-4BB8-86F6-61CEAF8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F4353-E8BC-484C-9869-1A00795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F092-71BF-425D-882D-F25509DD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2C19-E3B3-40E1-A9BF-9C5A6ED0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04D29-807F-4AFD-AAD8-4496F66F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9B5C2-9B71-455D-AD4B-C49A046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12DF-331D-4F81-B8F3-958C47FF89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F726-5959-4F18-80F4-E0CDDF5AAF0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ED6-2EA4-43CA-852B-73449B4660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C6FB-23BA-45A6-87DE-E354424758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396A-327D-4497-B3AE-20B9414749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B8DB-3904-4896-8D62-7498E12FBA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0C7-61E2-46DE-B761-7A7293E3A7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A2A-B0D4-48E9-97A4-4A59DD7766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B50-4FC1-476D-805C-1FB66741E8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B864-C524-438E-80FF-7C99107EA4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F5AA-BAB6-422B-A0CD-D92856E782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14F8-8EC5-4130-A208-37AFC12F4D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167A-F4A6-4E62-9D34-608C7C45DA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B03-CBFD-4DB0-B806-D57DD23F58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310-9ED1-497D-98A2-2B92F9494C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59A-E394-4F05-8015-C978090DAA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F05-3C4F-4219-A0C2-0F72E2199B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56643e"/>
                </a:solidFill>
                <a:latin typeface="Impact"/>
              </a:rPr>
              <a:t> </a:t>
            </a:r>
            <a:r>
              <a:rPr b="0" lang="ru-RU" sz="4800" spc="-1" strike="noStrike">
                <a:solidFill>
                  <a:srgbClr val="56643e"/>
                </a:solidFill>
                <a:latin typeface="Impact"/>
              </a:rPr>
              <a:t>Особенности общения и </a:t>
            </a:r>
            <a:br>
              <a:rPr sz="4800"/>
            </a:br>
            <a:r>
              <a:rPr b="0" lang="ru-RU" sz="4800" spc="-1" strike="noStrike">
                <a:solidFill>
                  <a:srgbClr val="56643e"/>
                </a:solidFill>
                <a:latin typeface="Impact"/>
              </a:rPr>
              <a:t>социализации ребенка с ОВЗ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7" name="Рисунок 3" descr="1286378467_.shortcut-article.jpg"/>
          <p:cNvPicPr/>
          <p:nvPr/>
        </p:nvPicPr>
        <p:blipFill>
          <a:blip r:embed="rId1"/>
          <a:stretch/>
        </p:blipFill>
        <p:spPr>
          <a:xfrm>
            <a:off x="7072200" y="28584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Под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социализацией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понимается «становление ребенка в системе социальных отношений как компонента этой системы, то есть ребе­нок становится частью социума, при этом происходит усвоение им элемен­тов культуры, социальных норм и ценностей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Инте­грация детей с проблемами в общество предполагает: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воздействие общества и социальной среды на личность ребенка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активное участие в этом процессе самого ребенка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совершенствование самого общества.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Особенности, препятствующие социальному становлению ребенка с ОВЗ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лоскости «Я как самоценность»: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неадекват­ность самооценки, отсутствие устойчивой иерархии мотивов, ведущего вида деятельности и неспособность к целеустремленным действия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лоскости «Я и ты»: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импульсивность, необдуманность поступков, недостаточная воз­можность критически их осмыслить. В межличностных отношениях отмеча­ется лабильность, индифферентное отношение к своему положению в кол­лективе. Для делового общения характерна затрудненность при общении, неудовлетворенная потребность в общени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Особенности, препятствующие социальному становлению ребенка с ОВЗ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лоскости «Я и мир»: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незрелость профессиональных интересов, их недостаточная осознанность и устойчи­вость, представления об окружающем мире фрагментарны и неточны, не от­ражают существующих взаимоотношен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Несмотря на наличие этих особенностей, все исследователи отмечают имеющиеся возможности личностного развития изучаемых детей, т.е. можно говорить о психологических резервах процесса социализации относительно детей с ОВЗ.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468000" y="188640"/>
            <a:ext cx="8280360" cy="70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Значение общения для развития ребенк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Основой развития ребенка на начальном этапе его жизнен­ного пути являются взаимоотношения в системе «взрослый-ребенок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в младенческом возрасте ребенок испытывает дефи­цит общения со взрослыми, это негативно сказывается на интеллектуальной и эмоциональной сферах ребенка, «Я-концепции», его физическом благополуч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развитии общения в качестве целостной деятельности выделяются че­тыре формы: ситуативно-личностное, ситуативно-деловое, внеситуативно-познавательное и внеситуативно-личностное общени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Каждая из названных форм общения способствует разви­тию определенных сторон психики ребенка: ситуативно-личностная стимулирует становление перцептивных действий разных систем и анализаторов; ситуативно-деловая  при­водит к переходу от отдельных действий к предмету деятель­ности и развитию речи; внеситуативно-познавательная помогает ребенку расширить рамки мира, доступного для по­знания; внеситуативно-личностная вводит ребенка в мир социальных отношений и позволяет занять в нем адекватное место.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При достижении определенного уровня развития у ребен­ка возникает потребность быть рядом со сверстником, общать­ся с ни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a53010"/>
                </a:solidFill>
                <a:latin typeface="Century Gothic"/>
              </a:rPr>
              <a:t>Общение со сверстниками отличается от общения со взрос­лыми: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1. Эмоционально насыщено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2. Проявляется в нестандартности высказываний, в отсутствии жестких норм и правил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3. Преобладают инициативные высказывания над ответами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4. Богаче по своему назначению, функциям, разнообразию.</a:t>
            </a:r>
            <a:br>
              <a:rPr sz="2800"/>
            </a:br>
            <a:br>
              <a:rPr sz="2400"/>
            </a:br>
            <a:br>
              <a:rPr sz="32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Общение детей со взрослыми и сверстниками суще­ственно отличается друг от друга и оказывает влияние на раз­ные стороны развития личности. Поэтому организация взаи­модействия детей с ограниченными возможностями здоровья со сверстниками объективно необходима и, следовательно, яв­ляется важнейшей составляющей процесса их социализации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a53010"/>
                </a:solidFill>
                <a:latin typeface="Century Gothic"/>
              </a:rPr>
              <a:t>Группы трудностей, которые чаще всего наблюда­ются в общении детей и подростков с ОВЗ:</a:t>
            </a:r>
            <a:br>
              <a:rPr sz="2600"/>
            </a:br>
            <a:r>
              <a:rPr b="0" lang="ru-RU" sz="2600" spc="-1" strike="noStrike">
                <a:solidFill>
                  <a:srgbClr val="262626"/>
                </a:solidFill>
                <a:latin typeface="Century Gothic"/>
              </a:rPr>
              <a:t> </a:t>
            </a:r>
            <a:r>
              <a:rPr b="0" lang="ru-RU" sz="26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262626"/>
                </a:solidFill>
                <a:latin typeface="Century Gothic"/>
              </a:rPr>
              <a:t> трудности, возникшие в связи с дефектами развития ребенка (нарушение речевого развития, умственная отста­лость, задержки психического развития и др.);</a:t>
            </a:r>
            <a:br>
              <a:rPr sz="2600"/>
            </a:br>
            <a:r>
              <a:rPr b="0" lang="ru-RU" sz="26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262626"/>
                </a:solidFill>
                <a:latin typeface="Century Gothic"/>
              </a:rPr>
              <a:t>  трудности общения, порожденные социальными фак­торами (социальная изоляция и депривация, педагогическая запущенность, трудновоспитуемость и др.);</a:t>
            </a:r>
            <a:br>
              <a:rPr sz="2600"/>
            </a:br>
            <a:r>
              <a:rPr b="0" lang="ru-RU" sz="26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262626"/>
                </a:solidFill>
                <a:latin typeface="Century Gothic"/>
              </a:rPr>
              <a:t>  трудности, обусловленные индивидуально-типологиче­скими особенностями (темперамента, характера, эмоциональ­ных состояний и др.).</a:t>
            </a:r>
            <a:br>
              <a:rPr sz="2600"/>
            </a:br>
            <a:br>
              <a:rPr sz="3200"/>
            </a:br>
            <a:br>
              <a:rPr sz="3200"/>
            </a:b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Трудности общения ребенка с ОВЗ порождают «психологические барьеры», проявляющиеся в неадекватной пассивности, препятствующей деятельности, в усилении отрицательных переживаний и установок, проявляющихся в виде стыда, чувства вины, страха, тревоги, низкой самооценки и др.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Барьеры общения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заимное непонимание или смысловой барьер: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ребенок не понимает требований взрослого потому, что они для него непонятны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 ребенок иначе смотрит на определенные факты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 ребенок может не воспринимать требования взрослого потому, что оно для него приобретает особый смысл (придир­ки, насмешки). Ситуации такого типа особенно могут прояв­ляться во взаимоотношениях с подростком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 требования, даже благожелательные, не воспринимают­ся потому, что они повторяются слишком часто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  требование непосильно для ребенка;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- негативное отношение к педагогу.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57200" y="189000"/>
            <a:ext cx="778680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a53010"/>
                </a:solidFill>
                <a:latin typeface="Times New Roman"/>
                <a:ea typeface="Times New Roman"/>
              </a:rPr>
              <a:t>Барьеры общения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ьер стыда (осознание неполноценност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рьер страха (проявляется в виде агрессивности, состояния подавленности или хронического раздражения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арьер страдания (тревожные переживания, внутренний протест из-за обделенности вниманием и лаской со стороны взрослых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арьер вины (когда что-то не получается, ребенка не замечают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арьер превосходства других (обида, гнев, негодование, заниженная самооценк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ть имеющиеся у ребенка трудности в общении необходимо постепенно, а не одновременно.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05:11Z</dcterms:created>
  <dc:creator>Брызгалов</dc:creator>
  <dc:description/>
  <dc:language>en-US</dc:language>
  <cp:lastModifiedBy>Medved</cp:lastModifiedBy>
  <dcterms:modified xsi:type="dcterms:W3CDTF">2020-03-11T20:14:28Z</dcterms:modified>
  <cp:revision>110</cp:revision>
  <dc:subject/>
  <dc:title>Система тактических установок        по реализации мероприятий                на базе стажировочных площадок по направлениям задачи 1   Федеральной целевой программы развития образования  на 2011- 2015годы</dc:title>
</cp:coreProperties>
</file>