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79C9-3339-413E-97CE-8B8A4F315F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7AF8-50F6-4F61-A127-367987F5C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C7D7-F7AC-4EB3-AE75-CB1C9AEF71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1165-DFE3-414D-A1A2-180F15F74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5210-AD45-488C-ACB0-242F12F66C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6CAE-71E8-4B24-8A25-779B4D14FE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7BB9-ABBF-4BDB-9A8D-A2E882F944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1EE6-A527-443A-952B-75C89C2126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BB6C-0EE1-4F02-A743-8873D875A9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280F-B469-4E4D-AFBF-B296D6A4C1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0337-9F4F-4310-88BD-7D2A61C221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6221-5F85-4AEB-897F-4166C328C9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827C-A1A8-4681-8465-8E746BA826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7506-1DD1-466E-9DD9-63AA5E8BEF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5DC2-02FF-48FE-B722-9CE19CACF2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5BC8-AB0D-41F6-A43D-43F415DBF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3E6C-AF1C-4061-B374-FEA684836B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C8C0-A862-4F2C-9390-B5C10AB4A0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37E4-A669-4C27-973C-BFF8C36552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C335-F915-43EA-9D3D-DBBB049A50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61B8-9DB4-48F3-B436-9E81CE6F4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D8A9-9B24-4CA2-B7AE-B0BD3586BE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9C27-6B97-48BC-85AE-DC3AD8E548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9C24-C135-4CCB-B892-2B4FED11B3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0F0A-7C66-4E31-B500-19F856F6DD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2B68-5223-4428-A5B4-51F972B93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B11E-7157-4ABD-AFAC-AA6E8F979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FBF3-D7B9-4E40-8281-EEBA816FC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0506-9F8E-4BFB-933E-C883AC811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FB72-C29F-415A-B1D9-BB7D873B04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77B2-7AD2-4C81-9381-B408B702F6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0986-A4D6-4A71-9951-2F682A8A70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0E72-450A-4E69-9B04-B4CEEE5AE3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6E44-280A-4571-9FCA-E08088A68D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DD13-F961-4E0F-9CE3-6DF537370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CEE9-79C9-4D3A-87EF-A246BDE543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DAEF-96E0-4687-A40C-9177BE192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14DA-1A24-4047-89BD-3B5D65672C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7C39-B694-4453-9D2C-343767F6CC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DD75-E69B-4A35-844B-4C115D8312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30C7-C6C5-4943-A523-62FA20DA7C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5605-6179-4B57-9EE7-CB72E6885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311F-C14A-4A55-B507-FCEDB5600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8B18-15F6-481D-B25F-F0BCE9E9DE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4E08-9663-435F-84CA-15C89973D6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ABCF-64CA-475C-8783-BC4A6B117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514D-1D02-44ED-8BB4-2E974EEC1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0FEC-AF68-4906-AD2B-F12A7ED054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62B0-98C2-4872-AF8B-1985FF7FA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D20E-CB81-4A9A-9707-C73E3E764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Нижний колонтитул 4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Верхний колонтитул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7E1-22C5-4C94-AF52-5C2DF7DB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CC6-7470-403A-8189-29264AE5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7F8-AE21-4974-92D3-F06778A4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D1A-62A2-4DEC-9832-F38224A3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48CB-0D4B-40C9-ADCB-699C5122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4DF7-39DB-4DB0-A92E-84C96EEE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6C53-C1B0-4DED-A728-21095727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8C9B-33C9-4D03-BF95-8312D277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EF03-EF25-417D-AEEB-6B591A30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F164-08D7-48C5-8684-62AA4DB6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EDAD-34E6-4D18-80B0-7F4FF642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4EF-46F5-41E5-B961-D23C0748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80D5-5103-4BD2-8417-A93A2B1C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9E4D-F4CE-4CF6-814F-F6CFF912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4A53-BE9E-4B0A-A188-AFC45CDB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7942-A034-4E3E-9557-45877296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DFD8-1B4D-457A-B266-F947C33E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FDFD3-B799-4E2B-9522-2EA2D8BF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40EB2-355E-42AD-8011-E3A0C21E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1F32-D275-44EA-A9F4-BF40F0C9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BB79A-9802-4A56-94D1-B53E2423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3996E-ABCD-4A86-B514-E4EA9A0A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72E-CB30-43FA-AB1D-C04DF4DB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21BA-FE57-47D6-A6D9-8145BE9E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7B5D5-4711-4BFB-9F30-A200A109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E46ED-8ADE-45A6-858E-B009225A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09C35-1B0B-44B2-A3F7-43F7CEC7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B13EB-6D49-4925-8A2F-6D9DB512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D0FA-ADA6-4949-AB1F-A47DE2F5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041F-F6EE-4241-8B92-06044632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F27E-D58C-4A60-B97E-0D0959C6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80F3C-ED4D-4A3E-AA2A-50CC58C2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B2AFB-3A3F-41B1-9A53-1A7A70AC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EC5-43BB-4038-B11A-5752A2BE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E2C5D-B006-4B87-82E3-9EE6BECE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00B6F-A83F-4C6B-8185-BF01CFD0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F09CE-7AEC-41EF-A19F-FD2738A4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FA11E-3858-4173-98E1-965C3D4D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1E4CE-D17B-4FC2-BFC7-AE1B403B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AB59A-FAEA-4CAE-B52B-20F54779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EC2D7-A07A-4226-9BAE-E5E5B425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03538-760C-45BA-96B7-8D1DF6BC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9683D-64C6-4F75-9C00-6CC2D0A7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11F9A-E2A8-470A-9C26-1511015F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339-9EA6-40B6-999C-DE0C8AC0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E6245-E057-4F71-8707-F76F152A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53BC3-A3A6-465C-83AA-3F30CE66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16646-2001-4495-BC96-0D4650D8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534D1-091C-452A-A993-70D0F2AC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1A765-113E-42D3-9538-FF5F6686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62CA7-8094-48BB-9DD4-E3923C5A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B91A2-58AD-4FCF-A2B5-D07B8A0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C4423-D262-41AD-BC9C-D6933F33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C2D2C-26A4-4122-859A-A42F6F3A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00492-9563-405E-A5E0-19D59AD3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40B-3D75-40C0-980D-BCC394F0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E1588-E1C2-4111-AAA3-1A27FB67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281-6E07-4C77-BC7C-1F0221AC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F76-8CAE-4162-AF6C-4B982216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132-DC89-4C8C-A7CD-25C79894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D5A8-FB52-4ED7-B106-D7159A8CBE37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C1A9-EC7D-4FD8-B2D5-870CDD48C2E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E90C-CA2D-4B11-B6B4-B85DA9587C6E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D94A-078D-42A8-854E-F9F71A79718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1C1E-EE5C-44D4-B8C5-D84E9011999A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1FDC-2ABB-4F57-B5B7-D2383A58683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693B-6E0C-4697-B5E4-DAC9908C3ACC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1367-32ED-4B63-A578-DCBCCC8AC73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52F8-34A4-4ECD-B41A-83CF8981AA0D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AE6D-955F-4BC0-9FFD-065C93CC638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796000" y="5516280"/>
            <a:ext cx="2836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йленко Ирина Викторовна, </a:t>
            </a:r>
            <a:r>
              <a:rPr b="1" lang="ru-RU" sz="14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методист МБУ ДПО «ИМЦ»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+7978-856-98-72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08000" y="1428840"/>
            <a:ext cx="8856720" cy="16430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alibri"/>
              </a:rPr>
              <a:t>Психолого –педагогические особенности обучающихся с ОВЗ различных нозологий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826920" y="179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Зрительный анализ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https://ds04.infourok.ru/uploads/ex/0e50/00058c8f-e949f6a6/img5.jpg"/>
          <p:cNvPicPr/>
          <p:nvPr/>
        </p:nvPicPr>
        <p:blipFill>
          <a:blip r:embed="rId1"/>
          <a:srcRect l="8235" t="16420" r="10754" b="0"/>
          <a:stretch/>
        </p:blipFill>
        <p:spPr>
          <a:xfrm>
            <a:off x="333360" y="907920"/>
            <a:ext cx="86932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5439"/>
                </a:solidFill>
                <a:latin typeface="Calibri"/>
              </a:rPr>
              <a:t>Специфические особенности детей с нарушениями зрения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71680" y="1447920"/>
            <a:ext cx="82152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Ограничения зрительного восприятия, вызванные слепотой или слабовидением, неизбежно приводят к снижению его скорости, точности, полноты, возникновению трудностей в определении цвета, формы, величины и пространственного расположения предметов, что обусловливает фрагментарность, искаженность восприятия единичных и групповых объектов, замедленность и нечеткость их опознания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Все это затрудняет формирование предметных и пространственных представлений, образных форм психического отражения - образной памяти, наглядно-образного мышления, воображения, нарушает соотношение образного и понятийного в мыслительной деятельности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У детей с нарушениями зрения неодинаковы темпы и уровень сформированности различных видов восприятия (зрительное, слуховое, осязательное и др.) наблюдается диспропорциональность в их становлении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75439"/>
                </a:solidFill>
                <a:latin typeface="Calibri"/>
              </a:rPr>
              <a:t>Специфические особенности развития детей с нарушениями зрения</a:t>
            </a:r>
            <a:endParaRPr b="0" lang="en-US" sz="29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42960" y="144792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специфические особенности общения (вербализм (абстрактное рассуждение), формализм, отсутствие эмоциональности и выразительности речи, преобладание монологической речи и др.)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особенности психофизического развития (отставание в развитии, нарушение и своеобразие развития двигательной активности; нарушение осанки, походки, положения тела при ходьбе и др.)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меет место своеобразие эмоционально-волевой сферы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арушение социальных отношений, ограничению поступающей извне информации и возникновению негативных социальных установок (избегание зрячих, иждивенческие настроения, неадекватное ситуативное поведение др.)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5439"/>
                </a:solidFill>
                <a:latin typeface="Calibri"/>
              </a:rPr>
              <a:t>ООП обучающихся с нарушениями зрения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71680" y="1447560"/>
            <a:ext cx="81151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требность в формировании адекватных зрительных образов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требность в навыках различного рода пространственной ориентировки (на своем теле, рабочей поверхности, микро- и макропространстве и др.), выработке координации глаз-рука, мелкой и крупной моторики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пецифическую потребность в формировании навыков письма и чтения, в том числе на основе шрифта Брайля и с применением соответствующих технических средств письма, в пользовании соответствующими компьютерными программам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требность в специальном развитии познавательной, интеллектуальной деятельности с опорой на сохранные анализаторы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уществует особая потребность обучающихся с нарушениями зрения в овладении широким спектром практических навыков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требность в формировании целого ряда социальных и коммуникативных навыков, в развитии эмоциональной сферы в условиях ограничения зрительного восприятия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ttp://img.uduba.com/uduba.com/user_data/d8/06/d806298ff3a9c90efcb45a65af1a0863_783x0.jpg?uduba_pid=6141737"/>
          <p:cNvPicPr/>
          <p:nvPr/>
        </p:nvPicPr>
        <p:blipFill>
          <a:blip r:embed="rId1"/>
          <a:stretch/>
        </p:blipFill>
        <p:spPr>
          <a:xfrm>
            <a:off x="550800" y="115920"/>
            <a:ext cx="78073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http://img.uduba.com/uduba.com/user_data/9a/b1/9ab1da5258febdacbfced71fb04c5267_783x0.jpg?uduba_pid=6141737"/>
          <p:cNvPicPr/>
          <p:nvPr/>
        </p:nvPicPr>
        <p:blipFill>
          <a:blip r:embed="rId1"/>
          <a:stretch/>
        </p:blipFill>
        <p:spPr>
          <a:xfrm>
            <a:off x="755640" y="119160"/>
            <a:ext cx="7458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http://img.uduba.com/uduba.com/user_data/17/5f/175f48a6f8b51afa22619dcd1baecb2a_783x0.jpg?uduba_pid=6141737"/>
          <p:cNvPicPr/>
          <p:nvPr/>
        </p:nvPicPr>
        <p:blipFill>
          <a:blip r:embed="rId1"/>
          <a:stretch/>
        </p:blipFill>
        <p:spPr>
          <a:xfrm>
            <a:off x="755640" y="130320"/>
            <a:ext cx="72010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img.uduba.com/uduba.com/user_data/8d/a8/8da8c25de6416d744a9d7c37baeae357_783x0.jpg?uduba_pid=6141737"/>
          <p:cNvPicPr/>
          <p:nvPr/>
        </p:nvPicPr>
        <p:blipFill>
          <a:blip r:embed="rId1"/>
          <a:stretch/>
        </p:blipFill>
        <p:spPr>
          <a:xfrm>
            <a:off x="755640" y="0"/>
            <a:ext cx="7458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http://img.uduba.com/uduba.com/user_data/45/66/4566159e33e607c8b588d967b8b7d908_783x0.jpg?uduba_pid=6141737"/>
          <p:cNvPicPr/>
          <p:nvPr/>
        </p:nvPicPr>
        <p:blipFill>
          <a:blip r:embed="rId1"/>
          <a:stretch/>
        </p:blipFill>
        <p:spPr>
          <a:xfrm>
            <a:off x="826920" y="115920"/>
            <a:ext cx="74581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ttp://img.uduba.com/uduba.com/user_data/9d/a2/9da2be5e5c3671b372406f4e0c35e1d5_783x0.jpg?uduba_pid=6141737"/>
          <p:cNvPicPr/>
          <p:nvPr/>
        </p:nvPicPr>
        <p:blipFill>
          <a:blip r:embed="rId1"/>
          <a:stretch/>
        </p:blipFill>
        <p:spPr>
          <a:xfrm>
            <a:off x="900000" y="104760"/>
            <a:ext cx="745812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333360"/>
            <a:ext cx="87138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Актуальность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здоровых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ворожденны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последние годы снизилас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48% до 2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4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ворожденны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ждаются физиологически незрелыми, с проблемами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6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т неврологическую патологию (перинатальное поражение ЦН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школьного возрас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%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росткового возрас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бсолютно здоро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zreniemed.ru/wp-content/uploads/2016/03/blizorukost-dalnozorkost-astigmatizm.png"/>
          <p:cNvPicPr/>
          <p:nvPr/>
        </p:nvPicPr>
        <p:blipFill>
          <a:blip r:embed="rId1"/>
          <a:stretch/>
        </p:blipFill>
        <p:spPr>
          <a:xfrm>
            <a:off x="108000" y="1268280"/>
            <a:ext cx="892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http://img.uduba.com/uduba.com/user_data/df/cb/dfcb73ef8d92b40aff2aa09143eef5fb_783x0.jpg?uduba_pid=6141737"/>
          <p:cNvPicPr/>
          <p:nvPr/>
        </p:nvPicPr>
        <p:blipFill>
          <a:blip r:embed="rId1"/>
          <a:stretch/>
        </p:blipFill>
        <p:spPr>
          <a:xfrm>
            <a:off x="826920" y="115920"/>
            <a:ext cx="7458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http://img.uduba.com/uduba.com/user_data/59/ec/59ec2ed8c2554d47a1cba8ac5ae04280_783x0.jpg?uduba_pid=6141737"/>
          <p:cNvPicPr/>
          <p:nvPr/>
        </p:nvPicPr>
        <p:blipFill>
          <a:blip r:embed="rId1"/>
          <a:stretch/>
        </p:blipFill>
        <p:spPr>
          <a:xfrm>
            <a:off x="944640" y="115920"/>
            <a:ext cx="745812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9870" t="19743" r="9740" b="6493"/>
          <a:stretch/>
        </p:blipFill>
        <p:spPr>
          <a:xfrm>
            <a:off x="755640" y="1263600"/>
            <a:ext cx="7632720" cy="5159520"/>
          </a:xfrm>
          <a:prstGeom prst="rect">
            <a:avLst/>
          </a:prstGeom>
          <a:ln w="0">
            <a:noFill/>
          </a:ln>
        </p:spPr>
      </p:pic>
      <p:sp>
        <p:nvSpPr>
          <p:cNvPr id="272" name="TextBox 1"/>
          <p:cNvSpPr/>
          <p:nvPr/>
        </p:nvSpPr>
        <p:spPr>
          <a:xfrm>
            <a:off x="614520" y="399960"/>
            <a:ext cx="80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Слуховой анализ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6a55"/>
                </a:solidFill>
                <a:latin typeface="Calibri"/>
              </a:rPr>
              <a:t>Специфические закономерности развития детей с нарушениями слуха</a:t>
            </a:r>
            <a:endParaRPr b="0" lang="en-US" sz="29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95280" y="1052280"/>
            <a:ext cx="84297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хие/слабослышащ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ники могут иметь следующие основные особенности речевого развития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вне продуцирования - нарушения произношения; недостаточное усвоение звукового состава слова, которое проявляется в ошибках при произнесении и написании слов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ексическом уровне – ограниченный словарный запас, неточное понимание и неправильное употребление слов, зачастую связанное с неполным овладением контекстным значением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рамматическом уровне – недостатки грамматического строя речи, особенности в усвоении и воспроизведении речевых (грамматических) конструкций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интаксическом уровне – трудности восприятия предложений с нетрадиционным/инвертным порядком слов/словосочетаний и ограниченном понимании читаемого текста. Нарушение слухового восприятия и возникающее в результате этого недоразвитие речи создают своеобразие в познавательном и личностном развитии такого ребенка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560" y="285480"/>
            <a:ext cx="8435880" cy="911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6a55"/>
                </a:solidFill>
                <a:latin typeface="Calibri"/>
              </a:rPr>
              <a:t>Значимые для организации учебного процесса особенности развития детей с нарушениями слуха </a:t>
            </a:r>
            <a:endParaRPr b="0" lang="en-US" sz="28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560" y="1267920"/>
            <a:ext cx="8507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ниженный объем внимания, низкий темп переключения, меньшая устойчивость, затруднения в его распределении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еобладание образной памяти над словесной, преобладание механического запоминания над осмысленным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евалирование наглядных форм мышления над понятийными, зависимость развития словесно-логического мышления от степени развития речи обучающегося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епонимание и трудности дифференциации эмоциональных проявлений окружающих, обедненность эмоциональных проявлений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личие комплекса негативных состояний – неуверенность в себе, страх, гипертрофированная зависимость от близкого взрослого, завышенная самооценка, агрессия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оритетное общение с учителем и ограничение взаимодействия с одноклассниками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76a55"/>
                </a:solidFill>
                <a:latin typeface="Calibri"/>
              </a:rPr>
              <a:t>ООП детей с нарушениями слуха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требность в обучении слухо-зрительному восприятию речи, в использовании различных виды коммуникации;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требность в развитии и использовании слухового восприятия в различных коммуникативных ситуациях;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требность в развитии всех сторон и видов словесной речи (устная, письменная);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требность формирования социальной компетенц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6a55"/>
                </a:solidFill>
                <a:latin typeface="Calibri"/>
              </a:rPr>
              <a:t>Закономерности развития детей с НОДА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71680" y="1447560"/>
            <a:ext cx="821520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 детей с церебральным параличом задержано и нарушено формирование всех двигательных функци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 структуре двигательного дефекта у детей с церебральным параличом особое место занимают нарушения функций рук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вигательные нарушения оказывают неблагоприятное влияние на формирование психических функций и речи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труктура нарушений познавательной деятельности при ДЦП имеет ряд специфических особенностей. К ним относятся: неравномерный, дисгармоничный характер нарушений отдельных психических функций; выраженность астенических проявлений (повышенная утомляемость, истощаемость всех нервно-психических процессов); сниженный запас знаний и представлений об окружающем мире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ри ДЦП отмечается нарушение координированной деятельности различных анализаторных систем. Патология зрения, слуха, мышечно- суставного чувства существенно сказываются на восприятии в целом, ограничивают объем информации, затрудняют интеллектуальную деятельность детей с церебральными параличами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6a55"/>
                </a:solidFill>
                <a:latin typeface="Calibri"/>
              </a:rPr>
              <a:t>Особенности развития детей с НОДА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8400" y="1214280"/>
            <a:ext cx="84294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ыраженность психоорганических проявлений – замедленность, истощаемость психических процессов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рудности переключения на другие виды деятельности, недостаточность концентрации внимания, замедленность восприятия, снижение объема механической памяти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изкая познавательная активность, проявляющейся в пониженном интересе к заданиям, плохой сосредоточенности, медлительности и пониженной переключаемости психических процессов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расстройства эмоционально- волевой сферы проявляются в виде повышенной эмоциональной возбудимости, раздражительности, двигательной расторможенности, у других – в виде заторможенности, застенчивости, робости. Склонность к колебаниям настроения часто сочетается с инертностью эмоциональных реакций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арушения поведения могут проявляться в виде двигательной расторможенности, агрессии, реакции протеста по отношению к окружающим. У некоторых детей можно наблюдать состояние полного безразличия, равнодушия, безучастного отношения к окружающим. Нарушения поведения отмечаются не у всех детей с церебральным параличом; у детей с сохранным интеллектом – реже, чем у умственно отсталых, а у спастиков – реже, чем у детей с атетоидными гиперкинезами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арушения формирования личности :личностная незрелость; астенические проявления; псевдоаутические проявления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76a55"/>
                </a:solidFill>
                <a:latin typeface="Calibri"/>
              </a:rPr>
              <a:t>ООП обучающихся с НОДА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50560" y="620640"/>
            <a:ext cx="84978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требность в раннем выявлении нарушений и максимально раннем начале комплексного сопровождения развития ребенка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3560" indent="-22356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требность в регламентации деятельности с учетом медицинских рекомендаций (соблюдение ортопедического режима)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3560" indent="-22356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требность в особой организации образовательной среды, характеризующейся доступностью образовательных и воспитательных мероприятий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3560" indent="-22356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требность в использовании специальных методов, приемов и средств обучения и воспитания (в том числе специализированных компьютерных технологий), обеспечивающих реализацию «обходных путей» развития, воспитания и обучения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3560" indent="-22356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требность в адресной помощи по коррекции двигательных, речевых и познавательных и социально-личностных нарушений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3560" indent="-22356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требность в индивидуализации образовательного процесса с учетом структуры нарушения и вариативности проявлений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3560" indent="-22356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требность в максимальном расширении образовательного пространства – выход за пределы образовательной организации с учетом психофизических особенностей детей указанной категории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108000" y="18900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ФЗ №273  «Об образовании в РФ», ст.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одержимое 2"/>
          <p:cNvSpPr/>
          <p:nvPr/>
        </p:nvSpPr>
        <p:spPr>
          <a:xfrm>
            <a:off x="684360" y="1268280"/>
            <a:ext cx="7704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учающийся с ограниченными возможностями здоровья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– </a:t>
            </a:r>
            <a:r>
              <a:rPr b="1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ое  лицо, имеющее недостатки в физическом и (или) психологическом развитии,  </a:t>
            </a:r>
            <a:r>
              <a:rPr b="1" lang="ru-RU" sz="31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дтвержденные психолого-медико-педагогической комиссией</a:t>
            </a:r>
            <a:r>
              <a:rPr b="1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   препятствующие получению образования без создания специальных условий (п.16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ttps://anatomus.ru/images/bolezni/2015/dcp.jpg"/>
          <p:cNvPicPr/>
          <p:nvPr/>
        </p:nvPicPr>
        <p:blipFill>
          <a:blip r:embed="rId1"/>
          <a:stretch/>
        </p:blipFill>
        <p:spPr>
          <a:xfrm>
            <a:off x="108000" y="530280"/>
            <a:ext cx="88866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6a55"/>
                </a:solidFill>
                <a:latin typeface="Calibri"/>
              </a:rPr>
              <a:t>Закономерности психического развития обучающихся с ЗПР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42960" y="1447560"/>
            <a:ext cx="80438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ля всех детей с ЗПР характерно запаздывание развития основных психофизических функций (моторики, речи, социального поведения), эмоциональная незрелость, неравномерность развития отдельных психических функций, функциональный, обратимый характер нарушений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Характерно наличие частичного (парциального) недоразвития интеллектуальных функций (преимущественно, так называемых, предпосылок интеллекта) и (или) личности (в первую очередь эмоционально-волевой сферы и иерархии мотиваций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чебная деятельность детей с ЗПР отличается ослабленностью регуляции деятельности во всех звеньях процесса учения: отсутствием достаточно стойкого интереса к предложенному заданию; необдуманностью, импульсивностью и слабой ориентировкой в заданиях, приводящими к многочисленным ошибочным действиям; недостаточной целенаправленностью деятельности; малой активностью, безынициативностью, отсутствием стремления улучшить свои результаты, осмыслить работу в целом, понять причины ошибок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6a55"/>
                </a:solidFill>
                <a:latin typeface="Calibri"/>
              </a:rPr>
              <a:t>Закономерности психического развития обучающихся с ЗПР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447560"/>
            <a:ext cx="777240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 многих младших школьников с ЗПР наблюдаются трудности в восприятии учебного материала. Испытывают затруднения при узнавании предметов по контурным или схематическим изображениям, особенно если те перечеркнуты или перекрывают друг друга. Младшие школьники с ЗПР не всегда узнают и часто смешивают сходные по начертанию буквы или их отдельные элементы, ошибочно воспринимают сочетания букв, значительно медленнее перерабатывают поступающую через органы чувств информацию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нижение внимания замедляет скорость восприятия. Внимание младших школьников с задержкой психического развития характеризуется повышенной отвлекаемостью, недостаточной концентрированностью на объекте, недостаточнаой сформированностью произвольного внимания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ля детей с ЗПР характерны черты психического и психофизического инфантилизм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6a55"/>
                </a:solidFill>
                <a:latin typeface="Calibri"/>
              </a:rPr>
              <a:t>Особенности детей с задержкой психического развития, которые необходимо учитывать в учебном процессе</a:t>
            </a:r>
            <a:endParaRPr b="0" lang="en-US" sz="29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99680" y="1447920"/>
            <a:ext cx="828684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езрелость эмоционально-волевой сферы, инфантилизм, нескоординированность эмоциональных процессов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реобладание игровых мотивов, дезадаптивность побуждений и интересов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изкий уровень активности во всех сферах психической деятельности;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граниченный запас общих сведений и представлений об окружающем мире;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нижение работоспособности; повышенная истощаемость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еустойчивость внимания; низкий уровень развития восприятия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граниченность словарного запаса, особенно активного, замедление овладения грамматическим строем речи, трудности овладения письменной речью;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расстройства регуляции, программирования и контроля деятельности, низкий навык самоконтроля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тставание в развитие всех форм мышления;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едостаточная продуктивность произвольной памяти, преобладание механической памяти над абстрактно-логической, снижение объемов кратковременной и долговременной памяти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76a55"/>
                </a:solidFill>
                <a:latin typeface="Calibri"/>
              </a:rPr>
              <a:t>ООП обучающихся с ЗПР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99680" y="1285560"/>
            <a:ext cx="8286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 побуждении познавательной активности;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 расширении кругозора, формирование представлений об окружающем мире;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 формировании общеинтеллектуальных умений (операции анализа, сравнения, обобщения, выделение существенных признаков и закономерностей, гибкость мыслительных процессов);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 совершенствовании предпосылок интеллектуальной деятельности (внимания, зрительного, слухового, тактильного восприятия, памяти и пр.),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 формировании, развитии у детей целенаправленной деятельности, функции программирования и контроля собственной деятельности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 развитии личностной сферы: развитие и укрепление эмоций, воли, выработка навыков произвольного поведения, волевой регуляции своих действий, самостоятельности и ответственности за собственные поступки;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 развитии и отработке средств коммуникации, приемов конструктивного общения и взаимодействия (с членами семьи, со сверстниками, с взрослыми), в формировании навыков социально одобряемого поведения, максимальном расширении социальных контактов;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 усилении регулирующей функции слова, формировании способности к речевому обобщению, в частности, в сопровождении речью выполняемых действий;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 сохранении, укреплении соматического и психического здоровья, в поддержании работоспособности, предупреждении истощаемости, психофизических перегрузок, эмоциональных срывов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https://cf.ppt-online.org/files/slide/7/7Rr613IZAtwso2fzKdjmalMyTEHc05CUiG8qpD/slide-44.jpg"/>
          <p:cNvPicPr/>
          <p:nvPr/>
        </p:nvPicPr>
        <p:blipFill>
          <a:blip r:embed="rId1"/>
          <a:srcRect l="16044" t="21812" r="28927" b="10240"/>
          <a:stretch/>
        </p:blipFill>
        <p:spPr>
          <a:xfrm>
            <a:off x="1835280" y="1052640"/>
            <a:ext cx="536868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6a55"/>
                </a:solidFill>
                <a:latin typeface="Calibri"/>
              </a:rPr>
              <a:t>Закономерности развития детей с умственной отсталостью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71680" y="1447560"/>
            <a:ext cx="81151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рушение высших психических функций − отражения и регуляции поведения и деятельности, что выражается в деформации познавательных процессов, при которой страдают эмоционально-волевая сфера, моторика, личность в целом. Все это приводит к нарушению социальной адаптации умственно отсталых людей в обществе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физическом развитии дети отстают от нормально развивающихся сверстнико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6a55"/>
                </a:solidFill>
                <a:latin typeface="Calibri"/>
              </a:rPr>
              <a:t>Особенности развития детей с умственной отсталостью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14400" y="1447560"/>
            <a:ext cx="777240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Внимание умственно отсталых детей характеризуется рядом особенностей: трудностью привлечения, невозможностью длительной активной концентрации, неустойчивостью, быстрой и легкой отвлекаемостью, рассеянностью, низким объемом. На уроке такой ребенок может показаться внимательным учеником, но при этом совершенно не слышать объяснений учителя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арушены все виды восприятия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Страдает как произвольное, так и непроизвольное запоминание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едоразвитие речи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едоразвитие мыслительной деятельности. Основным недостатком является слабость обобщений. Мышление характеризуется тугоподвижностью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6a55"/>
                </a:solidFill>
                <a:latin typeface="Calibri"/>
              </a:rPr>
              <a:t>Закономерности развития детей с умственной отсталостью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447560"/>
            <a:ext cx="777240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Эмоциональная сфера умственно отсталых школьников характеризуется незрелостью и недоразвитием. Эмоции  недостаточно дифференцированы: переживания примитивны, полюсны (дети испытывают удовольствие или неудовольствие, а дифференцированных, тонких оттенков переживаний почти не наблюдается).   Реакции зачастую неадекватны, непропорциональны воздействиям окружающего мира по своей динамике. У некоторых детей наблюдаются чрезмерная сила и инертность переживаний, возникающих по малосущественным поводам, стереотипность и инертность эмоциональных переживаний, у других – чрезмерная легкость, поверхностность переживаний серьезных жизненных событий, быстрые переходы от одного настроения к другому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6a55"/>
                </a:solidFill>
                <a:latin typeface="Calibri"/>
              </a:rPr>
              <a:t>Закономерности развития детей с умственной отсталостью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 умственно отсталых людей нарушены волевые процессы; они безынициативны, не могут самостоятельно руководить своей деятельностью, подчинять ее определенной цели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лоролевая идентификация формируется под влиянием психического недоразвития и зависит от уровня интеллекта: чем более грубыми являются поражения ЦНС, тем слабее выражен процесс самоотождествления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250920" y="14940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По классификации, предложен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В.А. Лапшиным и Б.П. Пузан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539640" y="155736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с нарушением слуха (глухие, слабослышащи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с нарушением зрения (слепые, слабовидящи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с нарушением речи (логопа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с нарушением опорно-двигательного аппар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с умственной отстал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с задержкой психического разви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с нарушением поведения и об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с комплексными нарушениями психофизического развития, с так называемыми сложными дефектами (слепоглухонемые, глухие или слепые дети с умственной отсталостью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6a55"/>
                </a:solidFill>
                <a:latin typeface="Calibri"/>
              </a:rPr>
              <a:t>ООП обучающихся с умственной отсталостью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71680" y="1447560"/>
            <a:ext cx="81151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доступности содержания учебного материала. Содержание обучения должно быть адаптировано с учетом их возможностей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специфические методы и приемы, облегчающие усвоение учебного материала. Например, метод маленьких порций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развитие мотивации к учению и познавательных интересов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формирование социальной компетентности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коррекция и развитие психических процессов, речи, мелкой и крупной моторики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формирование учебных умений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еобходимость в постоянном контроле и конкретной помощи со стороны взрослого;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охранительный режи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rcRect l="13223" t="27609" r="38782" b="5480"/>
          <a:stretch/>
        </p:blipFill>
        <p:spPr>
          <a:xfrm>
            <a:off x="468360" y="208080"/>
            <a:ext cx="3598920" cy="3763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http://rpp.nashaucheba.ru/pars_docs/refs/36/35800/img50.jpg"/>
          <p:cNvPicPr/>
          <p:nvPr/>
        </p:nvPicPr>
        <p:blipFill>
          <a:blip r:embed="rId2"/>
          <a:srcRect l="13842" t="27068" r="49147" b="7666"/>
          <a:stretch/>
        </p:blipFill>
        <p:spPr>
          <a:xfrm>
            <a:off x="5364000" y="236520"/>
            <a:ext cx="2968920" cy="3584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http://cf.ppt-online.org/files/slide/e/emQqgSd3ZcAfNHWEtlnUwDIjxi7sTVRJbGr6Oo/slide-41.jpg"/>
          <p:cNvPicPr/>
          <p:nvPr/>
        </p:nvPicPr>
        <p:blipFill>
          <a:blip r:embed="rId3"/>
          <a:srcRect l="5934" t="23714" r="48622" b="43941"/>
          <a:stretch/>
        </p:blipFill>
        <p:spPr>
          <a:xfrm>
            <a:off x="2268360" y="4265640"/>
            <a:ext cx="4300560" cy="236376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"/>
          <p:cNvSpPr/>
          <p:nvPr/>
        </p:nvSpPr>
        <p:spPr>
          <a:xfrm>
            <a:off x="3276720" y="3865680"/>
            <a:ext cx="25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439"/>
                </a:solidFill>
                <a:latin typeface="Arial"/>
              </a:rPr>
              <a:t>Синдром Дау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6a55"/>
                </a:solidFill>
                <a:latin typeface="Calibri"/>
              </a:rPr>
              <a:t>Специфические оосбенности развития обучающихся с ТНР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ое ограничение активного словаря, стойкие аграмматизмы, несформированность навыков связного высказывания, тяжелые нарушения общей разборчивости речи; затруднения в формировании не только устной, но и письменной речи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а потребность в общении, не сформированы формы коммуникации (диалогическая и монологическая речь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ко-пространственный гнозис - на более низком уровне развития. Пространственные нарушения обуславливают выраженные и стойкие расстройства письменной речи (дислексию, дисграфию), нарушения счета (акалькулию)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 уровень произвольного внимания, слуховой памяти, продуктивность запоминания. Относительно сохранны возможности смыслового, логического запоминани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особенности вербального мышления, которые по своему психо-речевому механизму первично связаны с недоразвитием всех компонентов речи, а не с нарушением собственно (невербального) мышления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http://doktor-matyash.ru/files/image/gorlo01.jpg"/>
          <p:cNvPicPr/>
          <p:nvPr/>
        </p:nvPicPr>
        <p:blipFill>
          <a:blip r:embed="rId1"/>
          <a:stretch/>
        </p:blipFill>
        <p:spPr>
          <a:xfrm>
            <a:off x="1403280" y="1187280"/>
            <a:ext cx="6481800" cy="53341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"/>
          <p:cNvSpPr/>
          <p:nvPr/>
        </p:nvSpPr>
        <p:spPr>
          <a:xfrm>
            <a:off x="2495520" y="399960"/>
            <a:ext cx="32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Речевой аппа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6a55"/>
                </a:solidFill>
                <a:latin typeface="Calibri"/>
              </a:rPr>
              <a:t>Специфические закономерности развития обучающихся с ТНР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99680" y="1447560"/>
            <a:ext cx="818676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spcAft>
                <a:spcPts val="601"/>
              </a:spcAft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деятельность детей с ТНР отличается замедленным темпом восприятия учебной информации, сниженной работоспособностью, затруднениями в установлении ассоциативных связей между зрительным, слуховым и речедвигательными анализаторами; трудностями в организации произвольной деятельности, низким уровнем самоконтроля и мотивации, возможным ослаблением памяти, отклонениями в пространственной ориентировке и конструктивной деятельности, нарушениями мелкой моторики, зрительно-моторной и слухо-моторной координации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spcAft>
                <a:spcPts val="601"/>
              </a:spcAft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ство устной речи препятствует полноценному усвоению программного материала по русскому языку, что создает неблагоприятные условия для формирования письменной речи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spcAft>
                <a:spcPts val="601"/>
              </a:spcAft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неуспеха в освоении столь значимого для социального окружения родного языка приводит к резкому снижению мотивации к преодолению не только речевого недоразвития, но и ко всему процессу обучения в целом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spcAft>
                <a:spcPts val="601"/>
              </a:spcAft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формированность рече-языковых и коммуникативных навыков у учащихся с ТНР обуславливает проблемы их обучения, негативно отражается на формировании самооценки и поведения детей, приводит к школьной дезадаптаци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76a55"/>
                </a:solidFill>
                <a:latin typeface="Calibri"/>
              </a:rPr>
              <a:t>ООП обучающихся с ТНР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71680" y="1447560"/>
            <a:ext cx="82864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spcAft>
                <a:spcPts val="601"/>
              </a:spcAft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обучении различным формам коммуникации (вербальным и невербальным), особенно у детей с низким уровнем речевого развития (моторной алалией); в формировании социальной компетентност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spcAft>
                <a:spcPts val="601"/>
              </a:spcAft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сех компонентов речи, рече-языковой компетентности. Трудности в усвоении лексико-грамматических категорий создают потребности в развитии понимания сложных предложно-падежных конструкций, в целенаправленном формировании языковой программы устного высказывания, навыков лексического наполнения и грамматического конструирования, связной диалогической и монологической речи; дети с ТНР нуждаются в специальном обучении основам языкового анализа и синтеза, фонематических процессов и звукопроизношения, просодик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spcAft>
                <a:spcPts val="601"/>
              </a:spcAft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ов чтения и письм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spcAft>
                <a:spcPts val="601"/>
              </a:spcAft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навыков пространственной ориентировк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spcAft>
                <a:spcPts val="601"/>
              </a:spcAft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с ТНР требуют особого индивидуально-дифференцированного подхода к формированию образовательных умений и навык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6a55"/>
                </a:solidFill>
                <a:latin typeface="Calibri"/>
              </a:rPr>
              <a:t>Специфические особенности развития обучающихся с РАС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71680" y="1447920"/>
            <a:ext cx="8115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иболее часто при РАС проявляются: трудности обучения в частности и формирования произвольного и целенаправленного поведения в целом, нарушения сна и приема пищи, нарушения взаимодействия с близкими взрослыми (например, симбиотическая связь между ребенком и матерью), нарушения активности, высокая вероятность появления дезадаптивного поведения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 началу школьного возраста отмечается высокая вариабельность в развитии социальной, речевой, познавательной сферы детей с РАС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6a55"/>
                </a:solidFill>
                <a:latin typeface="Calibri"/>
              </a:rPr>
              <a:t>Специфические  особенности развития обучающихся с РАС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447920"/>
            <a:ext cx="850104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бщими для всех детей этой категории являются трудности социального взаимодействия, которые проявляются в значительном ограничении возможности формирования общения с другими людьми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 всех школьников с РАС отмечаются стойкие трудности с пониманием и с использованием невербальных средств общения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аличие болезненной гиперстензии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аличие аутостимуляций как способ «уйти» от дискомфорт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едостаточность сенсорной интеграции, фрагментарность представлений о собственном теле приводят к недостаточности точных, произвольных движени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войственная детям с РАС асинхрония в психическом развитии приводит к тому, что один и тот же ребенок может демонстрировать высокие способности в освоении одной учебной дисциплины (например, связанной с сверхинтересами ребенка), средний уровень освоения другой учебной дисциплины и стойкую неуспешность в третьей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бщими трудностями, характерными для обучения детей с РАС, являются трудности понимания художественных текстов, понимания сюжетных линий рассказа, даже при очень высокой технике чтения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6a55"/>
                </a:solidFill>
                <a:latin typeface="Calibri"/>
              </a:rPr>
              <a:t>ООП обучающихся с РАС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99680" y="1143000"/>
            <a:ext cx="8358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требность в индивидуализированной «подготовки» к школьному обучению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специальной работе по установлению и развитию эмоционального контакта с ребенком, позволяющего оказать ему помощь в осмыслении происходящего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создании условий обучения, обеспечивающих сенсорный и эмоциона-льный комфорт ребенка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четкой и упорядоченной временно-пространственной структуре образовательной среды, поддерживающей учебную деятельность ребенка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дозировании введения в его жизнь новизны и трудностей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специальной отработке форм адекватного учебного поведения ребенка, навыков коммуникации и взаимодействия с учителем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постоянной помощи ребенку на уроке в осмыслении усваиваемых знаний и умений, не допускающем их механического использования для аутостимуляции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76a55"/>
                </a:solidFill>
                <a:latin typeface="Calibri"/>
              </a:rPr>
              <a:t>ООП обучающихся с РАС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57120" y="1447920"/>
            <a:ext cx="832968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индивидуально дозированном и постепенном расширении образовательного пространства ребенка за пределы образовательного учрежд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отребность в определении форм и содержания психолого- педагогической поддержки семь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требность в особенно четкой и упорядоченной временно- пространственной структуре образовательной среды, поддерживающей учебную деятельность ребен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требность в определении форм и содержания психолого- педагогической поддержки семьи;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250920" y="404640"/>
          <a:ext cx="8569080" cy="61246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тегория обучающих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491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89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слыша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91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п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91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видя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91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с нарушениями речи (Н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91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с  нарушениями опорно двигательного аппарата (НОД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489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с задержкой психического развития (ЗП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с расстройствами аутистического спектра (РА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с умственной отсталостью (УО), интеллектуальными нарушениями (И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с тяжёлыми множественными нарушения развития (ТМН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ÐÐ¾Ð»Ð¾Ð²Ð½Ð¾Ð¹ Ð¼Ð¾Ð·Ð³"/>
          <p:cNvPicPr/>
          <p:nvPr/>
        </p:nvPicPr>
        <p:blipFill>
          <a:blip r:embed="rId1"/>
          <a:srcRect l="3137" t="16377" r="2895" b="0"/>
          <a:stretch/>
        </p:blipFill>
        <p:spPr>
          <a:xfrm>
            <a:off x="468360" y="826920"/>
            <a:ext cx="8426520" cy="561672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"/>
          <p:cNvSpPr/>
          <p:nvPr/>
        </p:nvSpPr>
        <p:spPr>
          <a:xfrm>
            <a:off x="1562040" y="189000"/>
            <a:ext cx="62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Строение головного моз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1"/>
          <p:cNvSpPr/>
          <p:nvPr/>
        </p:nvSpPr>
        <p:spPr>
          <a:xfrm>
            <a:off x="168120" y="189000"/>
            <a:ext cx="84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ний мозг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ятие, внимание, память, речь, мышление, чувства, произвольные дви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68120" y="1266840"/>
            <a:ext cx="4332600" cy="410544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"/>
          <p:cNvSpPr/>
          <p:nvPr/>
        </p:nvSpPr>
        <p:spPr>
          <a:xfrm>
            <a:off x="4809960" y="4664160"/>
            <a:ext cx="38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жечок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и баланс движ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179280" y="5805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л мозга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яет ГМ и СМ, регулирует автоматические функции – дыхание, пищеварение, сердцебиение и кровяное д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4672080" y="1197000"/>
            <a:ext cx="3995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моз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вигательные фун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енсорные функции  (первичная обработка информации от органов зрения и слух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егуляция актов жевания и гло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еспечение точности движений ( письмо, вышивание и п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5439"/>
                </a:solidFill>
                <a:latin typeface="Calibri"/>
              </a:rPr>
              <a:t>Общие закономерности развития детей при нормальном и нарушенном развитием</a:t>
            </a:r>
            <a:endParaRPr b="0" lang="en-US" sz="32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звитие психики детей с ОВЗ подчиняется тем же закономерностям, которые обнаруживаются в развитии нормального ребенк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 наиболее общим закономерностям относятся таки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как цикличность и неравномерность психического развития,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ластичность нервной системы и основанная на этом </a:t>
            </a:r>
            <a:r>
              <a:rPr b="1" lang="ru-RU" sz="2600" spc="-1" strike="noStrike">
                <a:solidFill>
                  <a:srgbClr val="002060"/>
                </a:solidFill>
                <a:latin typeface="Cambria"/>
              </a:rPr>
              <a:t>способность к компенсаци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положение о соотношении влияющих на развитие человека биологических и социальных факторо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5439"/>
                </a:solidFill>
                <a:latin typeface="Calibri"/>
              </a:rPr>
              <a:t>Общие закономерности психического развития лиц с ОВЗ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99680" y="1447920"/>
            <a:ext cx="818676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рудностями взаимодействия с окружающей средой, прежде всего, с окружающими людьми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рушениями развития личности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еньшей скоростью приема и переработки сенсорной информации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достатками словесного опосредствования (например, затруднениями в формировании словесных обобщений и в номинации объектов)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достатками развития произвольных движений (отставание, замедленность, трудности координации)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медленным темпом психического развития в целом; повышенной утомляемостью, высокой истощаемостью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4T14:02:12Z</dcterms:created>
  <dc:creator>Наташа</dc:creator>
  <dc:description/>
  <dc:language>en-US</dc:language>
  <cp:lastModifiedBy>админ</cp:lastModifiedBy>
  <cp:lastPrinted>2018-03-29T11:30:29Z</cp:lastPrinted>
  <dcterms:modified xsi:type="dcterms:W3CDTF">2018-03-29T11:32:24Z</dcterms:modified>
  <cp:revision>43</cp:revision>
  <dc:subject/>
  <dc:title>Слайд 1</dc:title>
</cp:coreProperties>
</file>