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2825" cy="6858000"/>
  <p:notesSz cx="121935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73B-D3AF-449C-8332-67C957D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76200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753-E8F6-410C-B927-9C81C18D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19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F82-7664-4E88-A196-6106385D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892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212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892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212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4AB-3F48-4935-9D58-E0FA6287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CF6-5573-4E45-A75D-0916D311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E30-ADA0-477A-A85E-79B0ACDF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EE11-8B10-4327-80DE-1E17934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FF1-9DE0-40DE-AA70-59FE8EB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7FC2-7CB0-468A-81CB-1124B2F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190080"/>
            <a:ext cx="891216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E8B2-F452-4477-B4BE-ADD9A67F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5843-8366-45DE-A3D1-589DF7C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5C8-83C8-43DB-AF81-7B36D2D9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19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700-DC8C-4462-8370-D461D26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849-6C5B-49D6-964A-5D500C5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76200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DD03-2C7C-4A80-AB50-17383AAA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19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BA1-35F3-4869-B99C-1F8EC020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892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2120" y="117432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892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2120" y="3762000"/>
            <a:ext cx="28695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C83-BA35-4738-94F8-C286569D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FB8-491E-4AFD-9D9D-753AF16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73B-687B-4863-9092-76094F0D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E78-7459-4307-9605-DA22A98D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190080"/>
            <a:ext cx="891216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DDE-FC22-4F2C-85F9-45D5CB6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51B-85AC-4829-995F-100CAC6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1960" y="376200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DE7-2537-4F82-AC81-729FA84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160200"/>
            <a:ext cx="891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174320"/>
            <a:ext cx="4348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762000"/>
            <a:ext cx="8912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9EC-5D33-4149-83B5-B089912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190080"/>
            <a:ext cx="89121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1584-DA7B-4350-80AE-AA0B9690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190080"/>
            <a:ext cx="89121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174320"/>
            <a:ext cx="8912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515-1E6F-4183-9E53-CBC0BB67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0" y="2751120"/>
            <a:ext cx="891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SimSun"/>
              </a:rPr>
              <a:t>«Взаимодействие в диаде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SimSun"/>
              </a:rPr>
              <a:t>«родитель-ребенок»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SimSun"/>
              </a:rPr>
              <a:t>как базовая составляющая функционирования и развития ребенка с ОВ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836640" y="203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ndara"/>
              </a:rPr>
              <a:t>Государственное бюджетное учреждение Республики Крым, осуществляющим обучени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ndara"/>
              </a:rPr>
              <a:t>«Крымский республиканский центр психолого-педагогического и медико-социального сопровождения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4903920" y="527832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едагог-психолог  отдела ранней помощ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Зеленёва Е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8640" y="-22320"/>
            <a:ext cx="7402320" cy="2205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Поведение взрослых, приводящее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к нарушению психического здоровья у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3"/>
          <p:cNvSpPr/>
          <p:nvPr/>
        </p:nvSpPr>
        <p:spPr>
          <a:xfrm>
            <a:off x="517680" y="2114640"/>
            <a:ext cx="886752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304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. Во время гигиенических процеду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жесткие прикосновения к телу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небрежение сигналами и состоянием ребенка, такими, как  страх, печаль, подавленность, оцепенение, пл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. Во время приучения к навыкам опрят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ительное удерживание на горш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рбальные проявления неуважения и гнева по отношению к  ребенку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4920" y="-78480"/>
            <a:ext cx="7353360" cy="2205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Поведение взрослых, приводящее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к нарушению психического здоровья у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3"/>
          <p:cNvSpPr/>
          <p:nvPr/>
        </p:nvSpPr>
        <p:spPr>
          <a:xfrm>
            <a:off x="417600" y="1913040"/>
            <a:ext cx="886464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520" bIns="0" anchor="t">
            <a:spAutoFit/>
          </a:bodyPr>
          <a:p>
            <a:pPr marL="12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2525"/>
                </a:solidFill>
                <a:latin typeface="Arial"/>
              </a:rPr>
              <a:t>6. Во время игры и занятий с ребенком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58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оянное прерывание самостоятельной активности ребенка, блокирование его инициатив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ование послушного поведения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585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едсказуемое поведение и/или резкая смена настроения взрослого в процессе иг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ояние глубокой подавленности и печальное выражение  лица взросл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окая степень активности и эмоционального возбуждения  взрослого, не связанная с состоянием, интересами, игрой 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ые проявления гнева в голос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нсивная перестимуляция (игрушками, голосом, щекоткой  и т.д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585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bject 2"/>
          <p:cNvSpPr/>
          <p:nvPr/>
        </p:nvSpPr>
        <p:spPr>
          <a:xfrm>
            <a:off x="466560" y="345960"/>
            <a:ext cx="8747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rebuchet MS"/>
              </a:rPr>
              <a:t>Составляющие взаимодейств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900" spc="-1" strike="noStrike">
                <a:solidFill>
                  <a:srgbClr val="002060"/>
                </a:solidFill>
                <a:latin typeface="Trebuchet MS"/>
              </a:rPr>
              <a:t>диады «родитель - ребенок»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760" y="1513080"/>
            <a:ext cx="9693360" cy="47635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marL="1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1.Эмоциональная забот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  <a:ea typeface="SimSun"/>
              </a:rPr>
              <a:t>2.Синхронность / следование з а  инициативой ребенк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  <a:ea typeface="SimSun"/>
              </a:rPr>
              <a:t>3.Внимание к сигналам ребенк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  <a:ea typeface="SimSun"/>
              </a:rPr>
              <a:t>4.Удовольствие и радост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  <a:ea typeface="SimSun"/>
              </a:rPr>
              <a:t>5.Пугающее поведение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8160" y="653760"/>
            <a:ext cx="73454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Эмоциональная забота</a:t>
            </a:r>
            <a:r>
              <a:rPr b="1" lang="ru-RU" sz="2900" spc="-1" strike="noStrike">
                <a:solidFill>
                  <a:srgbClr val="444d25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3"/>
          <p:cNvSpPr/>
          <p:nvPr/>
        </p:nvSpPr>
        <p:spPr>
          <a:xfrm>
            <a:off x="612720" y="1620720"/>
            <a:ext cx="8675640" cy="30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нок нуждается в эмоциональной заботе взрослого даже если он этого не пока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с трудным опытом (и дети с нарушениями развития) могут иметь неясные  сигналы, особые стратегии проявления потребности в близости и заботе. Могут  показывать, что не рассчитывают на участие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 algn="just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поведения эмоциональной заботы – помочь понять ребенку, что родитель – для него, на его стороне, для заботы  о н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8720" y="499680"/>
            <a:ext cx="905832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Синхронность / следование за инициативой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3"/>
          <p:cNvSpPr/>
          <p:nvPr/>
        </p:nvSpPr>
        <p:spPr>
          <a:xfrm>
            <a:off x="560520" y="1812960"/>
            <a:ext cx="8778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19080" indent="-6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ование за инициативой НЕ предполагает навязчивости, вмешательства в игру ребенка,  а ОТЗЫВЧИВОСТЬ, пассивность или обучающее поведение («возьми, скажи, какого цвета») не  рассматрив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хронность и следование за инициативой ребенка значительно влияет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озга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аморегуля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пособность совладать со стресс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мание, способность дольше заниматься исследова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" indent="-6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78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адемические навыки: способность выполнять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0520" y="3762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Внимание к сигналам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181080" y="1120680"/>
            <a:ext cx="93121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330120" indent="4320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3589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ы – это способ ребен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бщить о том, хочет ли он контакта, взаимодействия, внимания. Или, наоборот, ему необходима пауза, отдых, изменение интенсивности поведения взросло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120" indent="432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89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имание к сигналам и реагирование на них изменением своего поведения дает ребенку  понимание, что он важен, значим, что его сообщения важны для взросл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120" indent="432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89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енок получает опыт, что он может влить на окружающий мир, менять е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120" indent="4320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3589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е дети, испытывая дискомфорт или перевозбуждение, могут смеяться или вести себя  странно, и только внимание к тонким сигналам поможет изменить поведение взрослых и помочь ребенку успокои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0120" indent="432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89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имание к сигналам помогает взрослым не перестимулировать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795600"/>
            <a:ext cx="7470720" cy="8942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угающее</a:t>
            </a:r>
            <a:r>
              <a:rPr b="1" lang="ru-RU" sz="2900" spc="-1" strike="noStrike">
                <a:solidFill>
                  <a:srgbClr val="002060"/>
                </a:solidFill>
                <a:latin typeface="Trebuchet MS"/>
              </a:rPr>
              <a:t>, вмешивающееся  повед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3"/>
          <p:cNvSpPr/>
          <p:nvPr/>
        </p:nvSpPr>
        <p:spPr>
          <a:xfrm>
            <a:off x="396720" y="1860480"/>
            <a:ext cx="9109080" cy="22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3040" bIns="0" anchor="t">
            <a:spAutoFit/>
          </a:bodyPr>
          <a:p>
            <a:pPr marL="12600" indent="330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556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дитель не должен быть источником страха и напряжения для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 indent="330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56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бенок нуждается в том, чтобы, в случае опасности или фрустрации, обращаться к близким за  помощью. А если родитель сам является пугающей фигурой, ребенок попадает в трудную ситуац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8320" y="709560"/>
            <a:ext cx="79851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ценка поведения род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525600" y="1455840"/>
            <a:ext cx="84182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0480" bIns="0" anchor="t">
            <a:spAutoFit/>
          </a:bodyPr>
          <a:p>
            <a:pPr marL="12600"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3556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ая забо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1463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сем не забот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признаки з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сь проявлений: то забота, то отсутствие заботы; неоднозна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заботливый, но может либо быстро прекращать проявление заботы,  либо не проявлять заботу каждый раз, когда это необходимо, либо вполне  заботлив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 проявляет заботу практически при каждой возможности – когда ребенок упал, попросил о помощи, попросил об эмоциональной близости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9160" y="958320"/>
            <a:ext cx="982044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хронность, подстройка/следование за инициат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3"/>
          <p:cNvSpPr/>
          <p:nvPr/>
        </p:nvSpPr>
        <p:spPr>
          <a:xfrm>
            <a:off x="210960" y="1830240"/>
            <a:ext cx="948240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412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сем не подстраивается (пассивен, обучает или вмешиваетс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редкие проявления подстрой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подстраивается, то не подстраивается (или подстройка есть, но это нестабиль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подстраивающийся, но есть отдельные случаи, когда не подстраивается, то есть имеется  некоторая нестаби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степень подстро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9520" y="1628640"/>
            <a:ext cx="63594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вольствие/рад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569880" y="2238480"/>
            <a:ext cx="90057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448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являет рад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кие случаи проявления радости/удоволь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ость проявляется редко, более спокойное удоволь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демонстрирует радость/удовольствие, но не на “5” б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одителя характерно проявлять радость/удовольствие в адрес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190080"/>
            <a:ext cx="89121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емья - это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360" y="1174320"/>
            <a:ext cx="4911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8360" indent="40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Malgun Gothic"/>
              </a:rPr>
              <a:t>Семья — домашний очаг, где ребенка всегда любят и принимают таким, какой он есть. Человека как личность, в том числе и ребенка, не оценивают по его росту, цвету глаз, длине рук или ног. Ребенка, как и любого другого человека, следует оценивать по его человеческим качествам. Здесь для родителей открывается огромное поле деятельности: воспитать в ребенк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360" indent="40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Замещающее содержимое 1" descr=""/>
          <p:cNvPicPr/>
          <p:nvPr/>
        </p:nvPicPr>
        <p:blipFill>
          <a:blip r:embed="rId1"/>
          <a:stretch/>
        </p:blipFill>
        <p:spPr>
          <a:xfrm>
            <a:off x="5502240" y="1955880"/>
            <a:ext cx="41245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8720" y="1500120"/>
            <a:ext cx="858528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гающее поведение (обратная шка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3"/>
          <p:cNvSpPr/>
          <p:nvPr/>
        </p:nvSpPr>
        <p:spPr>
          <a:xfrm>
            <a:off x="560520" y="2340000"/>
            <a:ext cx="886140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304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монстрирует пугающего по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еки на пугающее по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наблюдается пугающее поведение (но редко или не очень актив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ирует пугающее поведение относительно часто, но меньшей интенсивности и реже, чем  на “5” б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3556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проявляется интенсивное пугающее поведение, которое сложно выносить наблюда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190080"/>
            <a:ext cx="89121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2960" y="773280"/>
            <a:ext cx="817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в диад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родитель-ребенок»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ает важную роль в функционировании и развитии ребенка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2882880" y="3016080"/>
            <a:ext cx="43750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20960" y="2879640"/>
            <a:ext cx="73152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95000" y="1174320"/>
            <a:ext cx="4373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и «родитель – ребенок» имеют важнейшее значение для осознания факторов, определяющих развити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родителей к ребенку, друг к другу, вся окружающая обстановка дома, режим и бодрствование, кормление, игры влияют на малыша, оставляют следы в его пробуждающемся созн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Изображение 6" descr=""/>
          <p:cNvPicPr/>
          <p:nvPr/>
        </p:nvPicPr>
        <p:blipFill>
          <a:blip r:embed="rId1"/>
          <a:srcRect l="0" t="1716" r="8925" b="0"/>
          <a:stretch/>
        </p:blipFill>
        <p:spPr>
          <a:xfrm>
            <a:off x="5003640" y="1527120"/>
            <a:ext cx="46720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360" y="2495520"/>
            <a:ext cx="89121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Гармоничные отношения в диаде «родитель -ребенок» - залог психического здоровья ребенка и его успешной реабили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3680" y="825120"/>
            <a:ext cx="717552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ПСИХИЧЕСКОЕ ЗДОРОВЬ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3"/>
          <p:cNvSpPr/>
          <p:nvPr/>
        </p:nvSpPr>
        <p:spPr>
          <a:xfrm>
            <a:off x="-74520" y="1943280"/>
            <a:ext cx="585936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«Состояние благополучия, при котором человек  может реализовать свой собственный потенциал, справляться с обычными жизненными стрессами,  продуктивно и плодотворно работать, а также вносить вклад в жизнь своего сообществ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5945040" y="2590920"/>
            <a:ext cx="3173400" cy="2369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0" y="2439720"/>
            <a:ext cx="9775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сихическое здоровье играет решающую роль  в развитии детей с особыми потребностями и  детей из групп рис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747520"/>
            <a:ext cx="882180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114480" bIns="0" anchor="t">
            <a:normAutofit/>
          </a:bodyPr>
          <a:p>
            <a:pPr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8400" y="210240"/>
            <a:ext cx="772128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2217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Истоки психического  здоровь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3"/>
          <p:cNvSpPr/>
          <p:nvPr/>
        </p:nvSpPr>
        <p:spPr>
          <a:xfrm>
            <a:off x="317520" y="1838160"/>
            <a:ext cx="9441000" cy="38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spAutoFit/>
          </a:bodyPr>
          <a:p>
            <a:pPr marL="527040" indent="-514440">
              <a:lnSpc>
                <a:spcPts val="3025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отношений привязанности с близким взросл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ts val="3025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отношений привязанности, которое определяется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ством и стабильност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ительност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чивост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ts val="2687"/>
              </a:lnSpc>
              <a:spcBef>
                <a:spcPts val="9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й доступностью близкого  взрослог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7040" indent="-51444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ем его поведения возрасту 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0520" y="342720"/>
            <a:ext cx="89200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4608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Признаки нарушения психического  здоровья у ребен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3"/>
          <p:cNvSpPr/>
          <p:nvPr/>
        </p:nvSpPr>
        <p:spPr>
          <a:xfrm>
            <a:off x="304920" y="1508040"/>
            <a:ext cx="932796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920" bIns="0" anchor="t">
            <a:spAutoFit/>
          </a:bodyPr>
          <a:p>
            <a:pPr marL="328680" indent="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стойчивое нарушение сна и 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рушения поведения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сторможенность, отсутствие игры и любой актив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раженные проявления агрессивного  пове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явления пассивного и/или  гиперактивного пове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искованное, опасное для здоровья ребенка  по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ыраженное отставание в разви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сутствие речи и навыков коммуник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5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обенности эмоционального состояния (   уплощенный аффек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8680" indent="1440">
              <a:lnSpc>
                <a:spcPct val="15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слушность, отсутствие познавательной инициативы,  отстаивания своих интересов в социально неприемлемой фор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7600" y="142560"/>
            <a:ext cx="89676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ctr">
            <a:noAutofit/>
          </a:bodyPr>
          <a:p>
            <a:pPr marL="144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Поведение взрослых, приводящее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к нарушению психического здоровья у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236520" y="1924200"/>
            <a:ext cx="8894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3040" bIns="0" anchor="t">
            <a:spAutoFit/>
          </a:bodyPr>
          <a:p>
            <a:pPr marL="12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2525"/>
                </a:solidFill>
                <a:latin typeface="Trebuchet MS"/>
              </a:rPr>
              <a:t>В естественных жизненных условия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3"/>
          <p:cNvSpPr/>
          <p:nvPr/>
        </p:nvSpPr>
        <p:spPr>
          <a:xfrm>
            <a:off x="534960" y="2298600"/>
            <a:ext cx="8298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304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2525"/>
                </a:solidFill>
                <a:latin typeface="Arial"/>
              </a:rPr>
              <a:t>1.Во время кормл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окая скорост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раничение свободы движения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ое количество еды на ложк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небрежение сигналами ребенка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Во время подготовки ко сн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ладывание раньше положенного времени, принуждение ко  сн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В процессе регулирования поведения дет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бые высказывания о поведении и о личности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угивание и обма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ое наказание (шлепки, подзатыльники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4:01:00Z</dcterms:created>
  <dc:creator>user</dc:creator>
  <dc:description/>
  <dc:language>en-US</dc:language>
  <cp:lastModifiedBy>Зеленёва Елена</cp:lastModifiedBy>
  <dcterms:modified xsi:type="dcterms:W3CDTF">2020-03-12T06:36:40Z</dcterms:modified>
  <cp:revision>4</cp:revision>
  <dc:subject/>
  <dc:title>МЕТОДИЧЕСКАЯ УЧЁБ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2-16T21:00:00Z</vt:filetime>
  </property>
  <property fmtid="{D5CDD505-2E9C-101B-9397-08002B2CF9AE}" pid="3" name="Creator">
    <vt:lpwstr>Microsoft® PowerPoint® 2010</vt:lpwstr>
  </property>
  <property fmtid="{D5CDD505-2E9C-101B-9397-08002B2CF9AE}" pid="4" name="KSOProductBuildVer">
    <vt:lpwstr>1049-10.2.0.7646</vt:lpwstr>
  </property>
  <property fmtid="{D5CDD505-2E9C-101B-9397-08002B2CF9AE}" pid="5" name="LastSaved">
    <vt:filetime>2020-03-09T21:00:00Z</vt:filetime>
  </property>
</Properties>
</file>