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0D2E-92CD-4D91-ACC1-1F6CD8643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7CE-3D56-46DB-B056-C45DE2AA2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E20-13E4-4705-93CC-048CE033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1EE-DF4C-4133-A6E9-0F231D1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8AA-39E8-4E00-87BE-57E0C084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DCB-2637-4164-AB8D-F39EAA0C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D35C-7342-4A48-8D0A-0444BBE7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9E6-6F53-4E59-8FE6-119941F7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59AA-B821-4666-A64D-EFC6DC4A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2406-FA33-4B99-A4DE-1FFBBFCD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1D6-BA9F-4EC0-8676-090564E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4D22-E0CE-4D44-BE3B-CD2D9AB6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4EE4-1824-4694-9A95-EE86371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B31-3ACC-4887-8EC7-1D5BE40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6C87-D20E-42E0-8010-1750E0C0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B10-B776-41AE-8F29-19AE532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6560-5EF0-40A4-8F48-9AB89C1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BC31-980A-4876-907F-69E22709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8D54-7A0C-47FA-92FB-F81C77E0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DA0E-4FCD-432A-B2F7-BD387BBD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E19E-4749-4F5B-BD2E-4F53500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4B48-EA85-46A7-B224-6EC1B91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8E437-B67D-476D-9A0F-BA633742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B30C-35C2-48E7-88BD-2DF56C36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866-CEF2-48BD-8236-02FF3C8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A208-1C4F-422F-9561-FD46CB0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F5C6-8C58-4F33-A707-72F27AD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5463-E654-4FF5-BEB3-804D2A2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EC8D-6DA6-4EF4-ABE5-75FE205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F4DC-1833-4190-A754-ED249A52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F57A-8F73-4E10-818D-6D9D5C9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EA26-E17B-421E-A65C-8B6335B1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02CA-B3DF-46F8-A418-0CFD23B9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B7BB-C67B-4746-9A75-BD37BC9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0898-E701-42D4-8615-72092CD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C02-095F-4BDE-9508-5A6D34E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2F8F-F152-4EB5-ACF7-5761277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541E-25E9-45DB-B8C9-CF6E3CAD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D77D-C887-4696-A9F4-7AA639C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3855-612D-4A2B-A3D9-594DD53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9C43-2239-4750-91D4-D198D7E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0C05-4374-437A-8B04-3DE0ECA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E2BE-ED37-4CE3-833D-171D9B42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B4305-4D6E-4DDD-943C-C29E5034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A0FC-01F8-4B47-BE5D-9E9F6C51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6BC-E41D-4534-B12F-96389DB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484-1A0D-4718-8585-BEC79D5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800-97A2-425A-89B3-0AC4BF24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64E-4785-44C6-91DB-6831345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B87-3C11-4D21-AE47-9A6CB161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7D5-1F69-4B1D-B4C2-6B709CDA7B3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F501-BCBF-4DA0-B61C-F66539F4378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F7D-0FA5-4D85-84B2-44D3BCABEB5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AA75-6298-48B3-BA45-A9E4A29B4FD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а «Воспитатель года России» в 2020 году ста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женица Антонина Сергеевна, воспитатель МБДО города Керчи Республики Крым «Детский сад комбинированного вида №54 «Калин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тарова Незире Ремзиевна, воспитатель МБОУ «Дачновская средняя общеобразовательная школа» городского округа Судак детский сад «Капитошк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цкая Людмила Эдуардовна, воспитатель МДОУ города Джанкоя Республики Крым «Детский сад №16 «Ручеек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ак Ирина Леонидовна, воспитатель МБДОУ «Детский сад «Дружба» села Скалистое Бахчисарайского района Республики Кры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ребель Людмила Александровна, воспитатель МБДОУ «Детский сад №13 «Светлячок» города Саки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69588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333000"/>
            <a:ext cx="820728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«Школа здоровья для маленьких  крымчан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конкурса :сохранение и укрепление здоровья детей дошкольного возраста, активизация физкультурно-оздоровительной работы в дошкольных образовательных организация Р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921960"/>
            <a:ext cx="8229600" cy="534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городских округ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ДОУ «Детский сад общеразвивающего вида №103 «Аврора» муниципального образования городской округ Симферополь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муниципальных район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ОУ «Уваровская средняя общеобразовательная школа-детский сад» Нижнегорского района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85068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7f7f7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образовательные организации городских округ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 29 «Чебурашка» города Евпатории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3 «Березка» города Армянска Республики Крым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рганизации муниципальных район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«Золотой ключик» с. Мирное» Симферопольского района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Первомайский детский сад №2 «Родничок» Первомайского района Республики Крым»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2443320" y="966960"/>
            <a:ext cx="425736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11048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907920"/>
          <a:ext cx="8104320" cy="4778640"/>
        </p:xfrm>
        <a:graphic>
          <a:graphicData uri="http://schemas.openxmlformats.org/drawingml/2006/table">
            <a:tbl>
              <a:tblPr/>
              <a:tblGrid>
                <a:gridCol w="218880"/>
                <a:gridCol w="7666560"/>
                <a:gridCol w="218880"/>
              </a:tblGrid>
              <a:tr h="477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ФЕДЕРАЛЬНЫЙ ЗАКОН ОТ 31 ИЮЛЯ 2020 Г.           N 304-ФЗ "О ВНЕСЕНИИ ИЗМЕНЕНИЙ В ФЕДЕРАЛЬНЫЙ ЗАКОН "ОБ ОБРАЗОВАНИИ В РОССИЙСКОЙ ФЕДЕРАЦИИ" ПО ВОПРОСАМ ВОСПИТАНИЯ ОБУЧАЮЩИХСЯ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1699920"/>
            <a:ext cx="7991280" cy="38163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АЯ ПАРЦИАЛЬНАЯ  ПРОГРАММ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ЖДАНСКО-ПАТРИОТИЧЕСКОМУ ВОСПИТАНИЮ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 В КРЫМ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рымский веночек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77760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836640"/>
            <a:ext cx="8229600" cy="56865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Феодос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одосия на ладошках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ский  район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Маленький гражданин Симферопольского  райо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747800"/>
            <a:ext cx="8229600" cy="46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 работников  дошко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организац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Кры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сентября 20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5958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фессиональное взаимодействие - важнейшее звено системы непрерывного педагогическо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заимодействие методистов всех уровн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ованная система совместных действий, обеспечивающая функционирование, создание условий для оптимального профессионального развития педагогических кадр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80643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89964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549000"/>
            <a:ext cx="842472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ая   республиканская модель методической работы - интеграция  всех уровней методиче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ровождения  педагогов ДО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исадов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:совершенствование профессионального мастерств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О действуют  методические  объедине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сех  категорий  педагогических работников ДОО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18836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052640" y="1170000"/>
            <a:ext cx="7038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естивал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продвижение региональных педагогических инициатив и инноваций в поддержку конкурентоспособности российского образования, публичная демонстрация эффективных образовательных практик крымских педагогов и формирование позитивного отношения к педагогическим инновац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школа - лучша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 воспитывая, воспитываем обуч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 PISA и TIMS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компонент в крымском образов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0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9 года в Республике Крым функционирует 16 ресурсных центров на базе дошкольных образовательных учреждений гг. Евпатории, Керчи, Красноперекопска, Симферополя, Феодосии, Саки, Ялты, а также Бахчисарайского, Джанкойского, Красногвардейского и Симферопольского районов (приказы Министерства образования, науки и молодежи Республики Крым от 06.09.2016 №3183 и от 20.02.2019 №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приказом Федерального государственного бюджетного научного учреждения «Институт изучения детства, семьи и воспитания Российской Академии Образования» от 04.09.2018г. № 25/17-4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воен статус инновационных площа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апробации и внедрению парциальной модульной программы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E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зование детей дошкольного и младшего школьного возраста» десяти дошкольным образовательным организациям, осуществляющим деятельность в сфере образования Республики Кр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838800"/>
            <a:ext cx="8229600" cy="5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581120" y="476280"/>
            <a:ext cx="58485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260000"/>
            <a:ext cx="8229600" cy="6566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04280"/>
            <a:ext cx="822960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БЕДИТЕЛЬ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ионального этапа Конкур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спитатель МБДОУ «Детский сад «Солнышко» с. Мирное» Симферопольского района Республи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нданова Севиля Аблякимов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838800"/>
            <a:ext cx="835344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404640"/>
            <a:ext cx="825804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Финалис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а в 2020 год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ипова Ирина Николаевна, воспитатель МБДОУ «Детский сад №19 «Солнышко» муниципального образования городской округ Ялта Республики Крым, финалист 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анус Екатерина Сергеевна, инструктор по физической культуре МБДОУ «Детский сад №11 «Сказка» г. Феодосии Республики Крым», финалист 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уденко Марина Валериевна, музыкальный руководитель МБДОУ «Детский сад общеразвивающего типа №107 «Боровичок» муниципального образования городской округ Симферополь Республики Крым, финалист I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апитова Лариса Петровна, воспитатель муниципального бюджетного дошкольного образовательного учреждения МБДОУ «Детский сад №20 имени 1 Мая города Евпатории Республики Крым», финалист IV степе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4:55:07Z</dcterms:created>
  <dc:creator>User</dc:creator>
  <dc:description/>
  <dc:language>en-US</dc:language>
  <cp:lastModifiedBy>Эльвина</cp:lastModifiedBy>
  <dcterms:modified xsi:type="dcterms:W3CDTF">2020-08-26T19:10:30Z</dcterms:modified>
  <cp:revision>296</cp:revision>
  <dc:subject/>
  <dc:title>Федеральный государственный образовательный стандарт дошкольного  образования</dc:title>
</cp:coreProperties>
</file>