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0B0-5166-4078-A772-6F49F571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22C-F1AE-417D-A294-E9A45D61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ED1-67CB-4DD5-897F-FE2105C6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5CE-F70C-47E7-93E0-32D69FB2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E914-63FE-4EC8-8564-1D8E56AE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2D1E-ADBA-4E02-8FE4-3168E9F4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B97E-7C28-4FD7-8E68-DE2D6F02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8C9A-F0CE-4098-8BD4-393F6462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C769-F01A-4EEF-8BDA-33C6F2BE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6941-607A-43E4-933A-2BDF37CE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6EB9-ECFC-4FE9-B28E-D0C4355A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840-8343-44E5-BAAB-0410BFAB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28E6-5495-4001-B866-C22FA098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EAB5-0D5B-4C3A-A60A-B5ACD9A1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DAC0-AF3C-4D67-96F7-DF8EE065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C507-7D2A-46ED-8787-63DE59AF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01DF-B70A-44E7-8AD2-D7D8266A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2F8-43A3-4983-8919-4C394CF8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8AA-3B13-4E66-8BB9-315BCA44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BF4-C68D-435B-960A-06E30E99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226-CE56-4745-8EC5-07E43D06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D28-48AD-440D-BB7B-8993CA3B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22F-9E30-4A13-A4D5-3D818C3D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0D0-887D-4A8C-830C-CE93446F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8644-501A-4635-9E43-FA0F8D571E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6B48-B1AF-4799-AB9E-BDCE7A77CA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Times New Roman"/>
                <a:ea typeface="Calibri"/>
              </a:rPr>
              <a:t>ГБОУ ДПО РК КРИППО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b9efee"/>
                </a:solidFill>
                <a:latin typeface="Times New Roman"/>
                <a:ea typeface="Calibri"/>
              </a:rPr>
              <a:t>Организация методической работы    с педагогическими работниками</a:t>
            </a:r>
            <a:br>
              <a:rPr sz="2800"/>
            </a:br>
            <a:r>
              <a:rPr b="1" lang="ru-RU" sz="3600" spc="-1" strike="noStrike">
                <a:solidFill>
                  <a:srgbClr val="b9efee"/>
                </a:solidFill>
                <a:latin typeface="Times New Roman"/>
                <a:ea typeface="Calibri"/>
              </a:rPr>
              <a:t>на этапе реализации ФГОС ДО</a:t>
            </a:r>
            <a:br>
              <a:rPr sz="36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b9efee"/>
                </a:solidFill>
                <a:latin typeface="Calibri"/>
                <a:ea typeface="Calibri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Красёха М.Н., методист ЦРДНО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77708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Формы методической работы   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по способу организации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(коллективные, групповые, индивидуальные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-</a:t>
            </a: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по степени активности участников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(пассивные, активные, интерактивные)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1680" y="259920"/>
            <a:ext cx="82296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Активные и интерактивные формы обучения педагогов способствуе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созданию атмосферы, снимающей у взрослых напряженность и тревожность в связи с включением в образовательную деятельность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- повышению    уровня    активности, самостоятельности, стремления к сотрудничеству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- стимулированию интереса и мотивации педагогов к самообразованию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- повышению профессионального мастерства педагогических работников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- развитию навыков рефлексии собственной педагогической деятельност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16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В 2020/2021 учебном году предлагаем организовать деятельность методических формирований по единой теме: 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«Повышение профессиональной компетентности руководителей и специалистов дошкольных образовательных организаций в условиях обновления содержания дошкольного образования посредством использования разных форм методической работы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9440" y="33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Задачи методической деятельности с педагогическими работниками ДОО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в 2020/2021 учебном году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- сохранение доступности образования для воспитанников раннего и дошкольного возраста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- обеспечение здоровьесберегающей направленности воспитательно-образовательного процесса в дошкольных образовательных организациях на основе межведомственного взаимодействия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- совершенствование качества образовательного процесса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Picture 7" descr="28e0ad175bdd копия"/>
          <p:cNvPicPr/>
          <p:nvPr/>
        </p:nvPicPr>
        <p:blipFill>
          <a:blip r:embed="rId1"/>
          <a:srcRect l="0" t="12067" r="0" b="9270"/>
          <a:stretch/>
        </p:blipFill>
        <p:spPr>
          <a:xfrm>
            <a:off x="5219640" y="5229360"/>
            <a:ext cx="338940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79898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В рамках методической работ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в 2020/2021 учебном году                                         следует продолжить работ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Прямоугольник 7"/>
          <p:cNvSpPr/>
          <p:nvPr/>
        </p:nvSpPr>
        <p:spPr>
          <a:xfrm>
            <a:off x="108000" y="2060640"/>
            <a:ext cx="903600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Garamond"/>
              </a:rPr>
              <a:t>организации образовательного процесса на родном языке в дошкольных образовательных организациях с русским языком обучения;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Garamond"/>
              </a:rPr>
              <a:t>формированию основ безопасной жизнедеятельности у воспитанников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Garamond"/>
              </a:rPr>
              <a:t>созданию условий для экономического воспитания и основ финансовой грамотности детей дошкольного возраста;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Garamond"/>
              </a:rPr>
              <a:t>организации развивающей предметно-пространственной среды в дошкольных образовательных организациях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Garamond"/>
              </a:rPr>
              <a:t>организации     альтернативных форм дошкольного образовани</a:t>
            </a: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47160" cy="10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 </a:t>
            </a:r>
            <a:br>
              <a:rPr sz="40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Приоритетные задачи в деятельности дошкольных образовательных организаций в условиях реализации ФГОС ДО в 2020/2021 учебном году</a:t>
            </a: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:</a:t>
            </a:r>
            <a:br>
              <a:rPr sz="2000"/>
            </a:b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1628640"/>
            <a:ext cx="8291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повышение профессиональной компетентности педагогических работников с учетом требований ФГОС ДО и возможностей образовательного пространства ДОО, в том числе с применением дистанционных технологий</a:t>
            </a: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совершенствование работы дошкольных образовательных организаций по укреплению здоровья воспитанников посредством создания системы формирования культуры здоровья и безопасного образа жизни у всех участников образовательного процесс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активизация работы по освоению новых педагогических технологий, инновационных образовательных программ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развитие ответственных и взаимозависимых отношений с семьями воспитанников, обеспечивающие развитие личности ребенка в процессе реализации традиционных и инновационных форм сотрудничества, в том числе дистанционны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развитие системы дополнительного образования дет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99"/>
                </a:solidFill>
                <a:latin typeface="Garamond"/>
              </a:rPr>
              <a:t>Успехов в работе!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8" name="Picture 3" descr="DSC04332"/>
          <p:cNvPicPr/>
          <p:nvPr/>
        </p:nvPicPr>
        <p:blipFill>
          <a:blip r:embed="rId1"/>
          <a:stretch/>
        </p:blipFill>
        <p:spPr>
          <a:xfrm>
            <a:off x="1042920" y="1916280"/>
            <a:ext cx="7056360" cy="46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9:01:37Z</dcterms:created>
  <dc:creator>Оля</dc:creator>
  <dc:description/>
  <dc:language>en-US</dc:language>
  <cp:lastModifiedBy>Татьяна</cp:lastModifiedBy>
  <dcterms:modified xsi:type="dcterms:W3CDTF">2020-09-01T08:06:14Z</dcterms:modified>
  <cp:revision>58</cp:revision>
  <dc:subject/>
  <dc:title>Слайд 1</dc:title>
</cp:coreProperties>
</file>