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575-536B-4306-B502-A3943021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6A0-8271-4261-9D3C-291E6B6C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54F-190D-4DA8-AF4E-B74CF1C7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FBD-B1CA-442D-ACA4-F5B4FF70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1C8B-5B29-49F2-87A9-3ACC4717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5EAE-FE19-43B8-A029-5666CF41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7D6D-9872-4749-9A82-61BBF8D9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504D-31B0-48F4-B3DF-C073DCD1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C35C-1C45-4CC0-90C9-CB49BA43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4295-0BAF-4EB2-9865-8EAC6CAB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DD6A-AB20-4703-A3C9-9365410F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6D4-7CF6-4203-BC56-751E44AF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909D-73B1-4E84-BA1E-81809EC4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D922-BF5D-48C9-9DF1-0EA9258A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4760-7ED1-47F8-BDF6-D98CC9B6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08C3-B410-45DD-B514-49E2E7FE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A97E-0C89-4A0A-ADAF-A4999A79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EC63C-CA63-45B8-9109-627BBF34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8135F-5D7E-4974-BA62-E47519BF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3A119-C56F-4AF8-BAD6-2A9FED75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415A7-0417-46F2-885C-A9E85A85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1D060-8F3B-4266-8E57-B6F02755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98F-8FD9-4D25-8022-599F95D8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F6EBD-0368-4F7F-B3B0-568B7922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2A581-03EF-48F1-A172-BF2C2DA1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F7BF2-CD26-42C8-A175-4DA04EC8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AC15-2F36-4A90-9659-B79D8493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608B-DE1F-49BE-99D4-65A8D481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7021E-95C6-49EE-BEAC-BC7CB0AF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F8312-E7A5-4FDA-9E3F-8C7C2BBF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5738C-26CD-4B77-A95A-39624C1E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3DEBF-CF03-4973-B067-8E7F2E3C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F481E-C46C-4EB9-9D50-487E1F40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5A7-C13E-4869-A617-37DA5F20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24B1C-A4AE-4BF5-BC49-650A76B3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10495-B601-40D3-A462-929B311F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4FF0B-4042-4961-8737-0289838E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85474-A4BB-42A1-B443-C9FB2AC3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6294D-29A7-4B73-AFCC-D85DDE68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9D9A4-30BB-476C-B45E-CCF4022E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A3468-69B1-43D4-9FED-A4B979FE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F6D6C-04EF-4F5A-89EC-AC6505D4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6E20A-9AE5-4EBB-A39A-8ACF08C3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B5F4D-4C0C-4494-914A-034202EA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085-759C-40EE-8982-B697A500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350E3-5DB8-4FF8-A167-49721723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2A6E3-86E5-41E4-9626-880D64E0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353D0-93BC-4562-879F-05E4E500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E3CD7-247D-46C3-A9FF-8286A3B1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4DC28-39E6-4BD1-A4B2-8BC81676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DE68E-8C97-4A15-A04F-5A1C91F9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91A10-633E-423B-AF3F-73629412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93913-A81D-4021-8288-2A04A6B7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8F24B-11EF-464F-851A-6DE5AB5C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38216-6427-4BC4-A8F8-1FA2711F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329-8BFC-407C-9CA7-1B205AC8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C9162-4634-416D-A775-0B7C16FC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D56E9-34C8-4899-9B6A-F1F3652E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D3EC6-7DBD-4A27-87FD-5262CB86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3A39E-2C4A-4056-88D0-C75ECBCD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674B3-0480-480F-B528-A046309F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CEBB8-3813-4C0A-83E2-EECA22CE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9D127-7A72-4A8B-824D-B7D489E8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492F9-33CB-4902-AF22-1B9A2B57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B107E-921A-459A-8691-BE1AF66F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C9E1A-83FE-41E7-ABF9-F9060242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4A83-1838-4295-B5A0-E730F8E6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FE32D-913E-413E-BBA1-B59F685B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D8FF9-0CD5-41FE-A930-62A523B9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47CF3-818D-434F-B5F7-5E1B09C3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58408-7BC3-46D9-BEAF-67EFC876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D7960-3BC2-4660-88F7-74AF5D87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6572F-ECE9-415B-B3CE-FFC6C085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18930-5156-4E57-B95D-02E31CD7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4DF6A-FBA6-4568-ABF1-840BC332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A0153-BF23-40DE-BE5D-F9AB7F06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5D1FC-7A5C-4A26-ACEB-6A8FF795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51A-767C-41FE-9EEA-30016FE4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475AE-69EF-49F8-98B3-EBEE1BE3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5B2EA-1B46-4BCC-9F46-73E17244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4E1C5-80FA-4F3D-B1AE-7984E8C8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5BBD7-A5FA-4801-A227-395C03DD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77C49-6E2D-413F-ABEF-2F3045C3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C0F-A2A3-4252-A719-C92D8318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1087560" y="-816120"/>
            <a:ext cx="218448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CE70-7370-44ED-B0D6-BA943AABCAE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1087560" y="-816120"/>
            <a:ext cx="218448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1225440" y="1407960"/>
            <a:ext cx="298440" cy="225720"/>
            <a:chOff x="1225440" y="1407960"/>
            <a:chExt cx="2984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1225440" y="1407960"/>
              <a:ext cx="2984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70080" y="1444680"/>
              <a:ext cx="198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542960" y="1344600"/>
            <a:ext cx="8568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DC11-E032-4E39-BAD4-C03FDBB5C70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304308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3048120" y="0"/>
            <a:ext cx="101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889360" y="2809800"/>
            <a:ext cx="298440" cy="225360"/>
            <a:chOff x="2889360" y="2809800"/>
            <a:chExt cx="2984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889360" y="2809800"/>
              <a:ext cx="2984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36880" y="2844720"/>
              <a:ext cx="198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3211560" y="2746440"/>
            <a:ext cx="8424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3CC4-2686-48DC-8CB4-A20EECE66F6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CC3D-6CB1-4A3F-B792-FE24AB34D52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352520" y="0"/>
            <a:ext cx="1083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06C7-478F-49A6-A2A0-2DEFBD55D7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E7C9-0F65-464F-9BD7-5A33D724F46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901800" y="969840"/>
            <a:ext cx="6327720" cy="4802400"/>
            <a:chOff x="901800" y="969840"/>
            <a:chExt cx="632772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901800" y="969840"/>
              <a:ext cx="632772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15920" y="1066680"/>
              <a:ext cx="609624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528120" y="953640"/>
            <a:ext cx="9144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6672240" y="936360"/>
            <a:ext cx="865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A67F-42E4-433A-ADE5-CDC75561A34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52800" y="717480"/>
            <a:ext cx="853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orbel"/>
              </a:rPr>
              <a:t> </a:t>
            </a:r>
            <a:br>
              <a:rPr sz="2200"/>
            </a:br>
            <a:r>
              <a:rPr b="1" lang="ru-RU" sz="2200" spc="-1" strike="noStrike">
                <a:solidFill>
                  <a:srgbClr val="000099"/>
                </a:solidFill>
                <a:latin typeface="Corbel"/>
              </a:rPr>
              <a:t> 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713204"/>
                </a:solidFill>
                <a:latin typeface="Corbel"/>
              </a:rPr>
              <a:t>ГБОУ ДПО РК </a:t>
            </a:r>
            <a:br>
              <a:rPr sz="2200"/>
            </a:br>
            <a:r>
              <a:rPr b="1" lang="ru-RU" sz="2200" spc="-1" strike="noStrike">
                <a:solidFill>
                  <a:srgbClr val="713204"/>
                </a:solidFill>
                <a:latin typeface="Corbel"/>
              </a:rPr>
              <a:t>«КРЫМСКИЙ РЕСПУБЛИКАНСКИЙ ИНСТИТУТ ПОСТДИПЛОМНОГО ПЕДАГОГИЧЕСКОГО ОБРАЗОВАНИЯ»</a:t>
            </a:r>
            <a:br>
              <a:rPr sz="2200"/>
            </a:br>
            <a:r>
              <a:rPr b="1" lang="ru-RU" sz="2200" spc="-1" strike="noStrike">
                <a:solidFill>
                  <a:srgbClr val="000099"/>
                </a:solidFill>
                <a:latin typeface="Corbel"/>
              </a:rPr>
              <a:t>	</a:t>
            </a:r>
            <a:br>
              <a:rPr sz="2200"/>
            </a:br>
            <a:br>
              <a:rPr sz="2200"/>
            </a:br>
            <a:r>
              <a:rPr b="1" i="1" lang="ru-RU" sz="4800" spc="-1" strike="noStrike">
                <a:solidFill>
                  <a:srgbClr val="713204"/>
                </a:solidFill>
                <a:latin typeface="Corbel"/>
              </a:rPr>
              <a:t>Планирование работы ресурсного центра в 2021 году</a:t>
            </a:r>
            <a:br>
              <a:rPr sz="4800"/>
            </a:br>
            <a:r>
              <a:rPr b="1" lang="ru-RU" sz="4800" spc="-1" strike="noStrike">
                <a:solidFill>
                  <a:srgbClr val="713204"/>
                </a:solidFill>
                <a:latin typeface="Corbel"/>
              </a:rPr>
              <a:t> </a:t>
            </a:r>
            <a:br>
              <a:rPr sz="1800"/>
            </a:b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9" descr="http://www.kgu.i-krim.ru/upload/resize_cache/iblock/02e/296_296_1/institut-krippo-krim-entr.png"/>
          <p:cNvPicPr/>
          <p:nvPr/>
        </p:nvPicPr>
        <p:blipFill>
          <a:blip r:embed="rId1"/>
          <a:stretch/>
        </p:blipFill>
        <p:spPr>
          <a:xfrm>
            <a:off x="225360" y="182520"/>
            <a:ext cx="1955880" cy="151920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10"/>
          <p:cNvSpPr/>
          <p:nvPr/>
        </p:nvSpPr>
        <p:spPr>
          <a:xfrm>
            <a:off x="266760" y="2728800"/>
            <a:ext cx="11704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Лапшина Татьяна Валерьевна,</a:t>
            </a:r>
            <a:br>
              <a:rPr sz="2400"/>
            </a:b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заведующий центром развития дошкольного и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13204"/>
                </a:solidFill>
                <a:latin typeface="Corbel"/>
              </a:rPr>
              <a:t>Направление работы в 2021-2023 гг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0" lang="ru-RU" sz="4800" spc="-1" strike="noStrike">
                <a:solidFill>
                  <a:srgbClr val="713204"/>
                </a:solidFill>
                <a:latin typeface="Corbel"/>
              </a:rPr>
              <a:t>Системный подход в проектировании развивающей предметно-пространственной среды и развитие материально-технического обеспечения ДОУ в современных условиях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713204"/>
                </a:solidFill>
                <a:latin typeface="Corbel"/>
              </a:rPr>
              <a:t>Реализация данного направления будет осуществлять в трех-векторном направлении: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13204"/>
                </a:solidFill>
                <a:latin typeface="Corbel"/>
              </a:rPr>
              <a:t>- развивающая предметно-пространственная среда групп МБДОУ Ресурсного центр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13204"/>
                </a:solidFill>
                <a:latin typeface="Corbel"/>
              </a:rPr>
              <a:t>- развивающая предметно-пространственная среда помещений МБДОУ (вестибюли, холлы, рекреации и т.д.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13204"/>
                </a:solidFill>
                <a:latin typeface="Corbel"/>
              </a:rPr>
              <a:t>- развивающая предметно-пространственная среда уличного пространства (территория и прогулочные площадки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713204"/>
                </a:solidFill>
                <a:latin typeface="Corbel"/>
              </a:rPr>
              <a:t>При разработке плана работы Ресурсного центра  следует соблюдать следующие правила: 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914480" y="1941480"/>
            <a:ext cx="999648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13204"/>
                </a:solidFill>
                <a:latin typeface="Corbel"/>
              </a:rPr>
              <a:t>- форма годового плана соответствую единому разработанному шаблон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13204"/>
                </a:solidFill>
                <a:latin typeface="Corbel"/>
              </a:rPr>
              <a:t>- мероприятия по реализации Плана представлены ежемесячно и конкретно по предложенной работ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13204"/>
                </a:solidFill>
                <a:latin typeface="Corbel"/>
              </a:rPr>
              <a:t>- формы представления – реалистичные и значимы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3204"/>
                </a:solidFill>
                <a:latin typeface="Corbel"/>
              </a:rPr>
              <a:t>ИНФОРМАЦИОННАЯ КАРТА</a:t>
            </a:r>
            <a:br>
              <a:rPr sz="2800"/>
            </a:br>
            <a:r>
              <a:rPr b="1" lang="ru-RU" sz="2800" spc="-1" strike="noStrike">
                <a:solidFill>
                  <a:srgbClr val="713204"/>
                </a:solidFill>
                <a:latin typeface="Corbel"/>
              </a:rPr>
              <a:t>деятельности ресурсного центра</a:t>
            </a:r>
            <a:br>
              <a:rPr sz="2800"/>
            </a:br>
            <a:r>
              <a:rPr b="1" lang="ru-RU" sz="1600" spc="-1" strike="noStrike">
                <a:solidFill>
                  <a:srgbClr val="713204"/>
                </a:solidFill>
                <a:latin typeface="Corbel"/>
              </a:rPr>
              <a:t>Данные об образовательном учреждении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14480" y="1252440"/>
          <a:ext cx="9996480" cy="5840640"/>
        </p:xfrm>
        <a:graphic>
          <a:graphicData uri="http://schemas.openxmlformats.org/drawingml/2006/table">
            <a:tbl>
              <a:tblPr/>
              <a:tblGrid>
                <a:gridCol w="828720"/>
                <a:gridCol w="4965840"/>
                <a:gridCol w="420192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раметры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держание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лное наименование образовательного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дрес образовательного учреждения, телефон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il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, Web-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1430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315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1430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315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–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1430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315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дрес сай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анные о контактном лице по вопросам организации работы ресурс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раметры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держание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амилия, имя, отчество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лжность, телефон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анные о масштаб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раметры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держание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9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сшта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кумент о присвоении статуса ресурс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тату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урируемые реги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иказ МОНМ РК и приказ управления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еспубликанский ресурс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анные о содержании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раметры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держание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правление деятельности в 2021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истемный подход в проектировании развивающей предметно-пространственной среды и развитие материально-технического обеспечения ДОУ в современ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17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713204"/>
                </a:solidFill>
                <a:latin typeface="Corbel"/>
              </a:rPr>
              <a:t>Пояснительная записка. Актуальность работы по данному направлению в масштабах ресурсного центра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871280" y="2292120"/>
            <a:ext cx="1003932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13204"/>
                </a:solidFill>
                <a:latin typeface="Corbel"/>
              </a:rPr>
              <a:t>- Цель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13204"/>
                </a:solidFill>
                <a:latin typeface="Corbel"/>
              </a:rPr>
              <a:t>- Задачи работ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13204"/>
                </a:solidFill>
                <a:latin typeface="Corbel"/>
              </a:rPr>
              <a:t>- Основные принципы построения деятельности в 2021 го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13204"/>
                </a:solidFill>
                <a:latin typeface="Corbel"/>
              </a:rPr>
              <a:t>- Планируемый результат реализации пла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713204"/>
                </a:solidFill>
                <a:latin typeface="Corbel"/>
              </a:rPr>
              <a:t>Планирование деятельности (в соответствии с Примерной структурой плана работы ресурсного центра)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549440" y="2532240"/>
          <a:ext cx="9996480" cy="1981080"/>
        </p:xfrm>
        <a:graphic>
          <a:graphicData uri="http://schemas.openxmlformats.org/drawingml/2006/table">
            <a:tbl>
              <a:tblPr/>
              <a:tblGrid>
                <a:gridCol w="2498760"/>
                <a:gridCol w="2498760"/>
                <a:gridCol w="2498760"/>
                <a:gridCol w="2500200"/>
              </a:tblGrid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Вид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Содержание раб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(описани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Примерная дата реализации раб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Форма предоставления итогового результ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13204"/>
                </a:solidFill>
                <a:latin typeface="Corbel"/>
              </a:rPr>
              <a:t>Виды деятельност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3204"/>
                </a:solidFill>
                <a:latin typeface="Corbel"/>
              </a:rPr>
              <a:t>- Анализ РППС ресурсного центра 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3204"/>
                </a:solidFill>
                <a:latin typeface="Corbel"/>
              </a:rPr>
              <a:t>- Семинар по данному направлени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3204"/>
                </a:solidFill>
                <a:latin typeface="Corbel"/>
              </a:rPr>
              <a:t>- Семинар-практику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3204"/>
                </a:solidFill>
                <a:latin typeface="Corbel"/>
              </a:rPr>
              <a:t>- Конкур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3204"/>
                </a:solidFill>
                <a:latin typeface="Corbel"/>
              </a:rPr>
              <a:t>- Выстав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3204"/>
                </a:solidFill>
                <a:latin typeface="Corbel"/>
              </a:rPr>
              <a:t>- Изучение (обобщение, распространение) ПП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3204"/>
                </a:solidFill>
                <a:latin typeface="Corbel"/>
              </a:rPr>
              <a:t>- Участие в семинарах, семинарах-практикумах, совещаниях, форумах МОНМ РК, КРИППО по данному направлени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3204"/>
                </a:solidFill>
                <a:latin typeface="Corbel"/>
              </a:rPr>
              <a:t>- Консультативная работа (педагогические работники, родители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1" lang="ru-RU" sz="3900" spc="-1" strike="noStrike">
                <a:solidFill>
                  <a:srgbClr val="713204"/>
                </a:solidFill>
                <a:latin typeface="Corbel"/>
              </a:rPr>
              <a:t>Результаты деятельности РЦ в 2021 год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914480" y="1406520"/>
          <a:ext cx="9996480" cy="3881520"/>
        </p:xfrm>
        <a:graphic>
          <a:graphicData uri="http://schemas.openxmlformats.org/drawingml/2006/table">
            <a:tbl>
              <a:tblPr/>
              <a:tblGrid>
                <a:gridCol w="1236600"/>
                <a:gridCol w="3762360"/>
                <a:gridCol w="2498760"/>
                <a:gridCol w="249876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13204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13204"/>
                          </a:solidFill>
                          <a:latin typeface="Times New Roman"/>
                          <a:ea typeface="Times New Roman"/>
                        </a:rPr>
                        <a:t>Формы предъявления опы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13204"/>
                          </a:solidFill>
                          <a:latin typeface="Times New Roman"/>
                          <a:ea typeface="Times New Roman"/>
                        </a:rPr>
                        <a:t>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13204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</a:tr>
              <a:tr h="295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1320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13204"/>
                          </a:solidFill>
                          <a:latin typeface="Times New Roman"/>
                          <a:ea typeface="Times New Roman"/>
                        </a:rPr>
                        <a:t>Публичное предст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13204"/>
                          </a:solidFill>
                          <a:latin typeface="Times New Roman"/>
                          <a:ea typeface="Times New Roman"/>
                        </a:rPr>
                        <a:t>Развивающая предметно-пространственная среда групп МБДОУ – пространство развития, инновации, игр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13204"/>
                          </a:solidFill>
                          <a:latin typeface="Times New Roman"/>
                          <a:ea typeface="Times New Roman"/>
                        </a:rPr>
                        <a:t>Иллюстративный паспорт групп ДО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9T12:54:40Z</dcterms:created>
  <dc:creator>User1</dc:creator>
  <dc:description/>
  <dc:language>en-US</dc:language>
  <cp:lastModifiedBy>Windows User</cp:lastModifiedBy>
  <dcterms:modified xsi:type="dcterms:W3CDTF">2021-02-11T12:45:27Z</dcterms:modified>
  <cp:revision>64</cp:revision>
  <dc:subject/>
  <dc:title>..</dc:title>
</cp:coreProperties>
</file>