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1530-079B-49A4-80A6-24E15E88E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E6A3-6BB8-4462-BBBC-BB7F339DA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426F-8107-4C2A-9D93-C98972ECF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267E-7AE5-44E3-BB39-647A29373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C7E2-E58A-4285-A31D-1330228CE7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27E8-86CD-45D2-83BD-559D69AEF9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CD19-E78A-4658-B85D-BBBE7CCC3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A985-EAD1-472B-AC83-D16511008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06E6-8702-4782-B419-F869C3250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33CB-F927-4801-946B-AA85D8A2B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DF0A-3AFB-4804-B3C3-F4C569C1D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469F-EE83-4325-8369-E3973488F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1B93-92D0-4B86-9FC8-536164421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A897-D978-4D8C-B0BA-155109FD4E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006-7E3B-4E41-B987-AF495C2F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3AE-5B9D-4AFA-98D6-E2A96145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AF3-FFEE-43CC-B294-9B83B427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1A8-55B5-4577-B58E-A88C3E36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D93-86F7-4B5D-A20B-57D0DD47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0E5-6395-4152-BFFB-73972AFE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B9B-DB01-4115-8B7A-89C196EC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6BD-27FC-4CFA-AEB2-1FF81754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013-B2BF-4996-8B81-89BF3872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A58-015C-4667-A1FB-2BC66498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2F8-5CD4-49E3-A40A-41A466F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9EF-A3DC-4C82-ACA7-DAEFBA3F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93E9-9400-4D3B-BCE9-0CF8562ECF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министративно-территориальное устройство современной Росс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560" y="4581000"/>
            <a:ext cx="8713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ычев А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заведующий кафедрой естественно-математ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ДПО РК «Крымский республиканский институт постдипломного педагогического образов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260280"/>
            <a:ext cx="8640720" cy="6408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лтайский край (Барнаул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мчатский край (Петропавловск-Камчатский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Хабаровский край (Хабаровс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раснодарский край (Краснодар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расноярский край (Красноярс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рмский край (Перм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орский край (Владивосто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авропольский край (Ставропол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байкальский край (Чит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3570120" y="0"/>
            <a:ext cx="218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оск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9800" y="0"/>
            <a:ext cx="48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анкт- Петербург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Севастопо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img1.liveinternet.ru/images/attach/c/1/62/704/62704894_sevastopol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4000" y="260280"/>
            <a:ext cx="8640720" cy="6408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Республика Адыгея (Адыгея) (Майкоп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Республика Алтай (Горно-Алтайск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Республика Башкортостан (Уфа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Республика Бурятия (Улан-Удэ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 Республика Дагестан (Махачкала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. Республика Ингушетия (Магас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. Кабардино-Балкарская Республика (Нальчи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8. Республика Калмыкия (Элиста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. Карачаево-Черкесская Республика (Черкесск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. Республика Карелия (Петрозаводск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1. Республика Коми (Сыктывкар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2. Республика Марий Эл (Йошкар-Ола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3. Республика Мордовия (Саранск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4. Республика Саха (Якутия) (Якутс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5. Республика Северная Осетия — Алания (Владикавказ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6. Республика Татарстан (Татарстан) (Казань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7. Республика Тыва (Кызыл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8. Удмуртская Республика (Ижевск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9. Республика Хакасия (Абакан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0. Чеченская Республика (Грозный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1. Чувашская Республика - Чувашия (Чебоксар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Республика Кр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Users\Даша\Desktop\600px-Autonomous_districts_of_Russia.svg.png"/>
          <p:cNvPicPr/>
          <p:nvPr/>
        </p:nvPicPr>
        <p:blipFill>
          <a:blip r:embed="rId1"/>
          <a:srcRect l="2734" t="0" r="3257" b="0"/>
          <a:stretch/>
        </p:blipFill>
        <p:spPr>
          <a:xfrm>
            <a:off x="250920" y="765000"/>
            <a:ext cx="8642160" cy="5301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1852920" y="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4 автономных окр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5513" t="0" r="0" b="0"/>
          <a:stretch/>
        </p:blipFill>
        <p:spPr>
          <a:xfrm>
            <a:off x="755640" y="2060640"/>
            <a:ext cx="7561440" cy="4400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2143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481320" y="189000"/>
            <a:ext cx="663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врейская автоном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Биробидж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5"/>
          <p:cNvSpPr/>
          <p:nvPr/>
        </p:nvSpPr>
        <p:spPr>
          <a:xfrm>
            <a:off x="468360" y="404640"/>
            <a:ext cx="835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округа как административно-территориальные единицы Российской Федерации были созданы в соответств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казом президента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9 от 13 мая 2000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 полномочном представителе Президента Российской Федерации в федеральном округ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Федеральные  округа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324000" y="1341360"/>
            <a:ext cx="5151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  Федеральных  округов (до января 2010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6" descr="Полпредам предложили стимулировать региональные элиты — Рамблер ..."/>
          <p:cNvPicPr/>
          <p:nvPr/>
        </p:nvPicPr>
        <p:blipFill>
          <a:blip r:embed="rId1"/>
          <a:stretch/>
        </p:blipFill>
        <p:spPr>
          <a:xfrm>
            <a:off x="647640" y="1600200"/>
            <a:ext cx="784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24000" y="475920"/>
            <a:ext cx="8640720" cy="5832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мае 2000 в России образовано семь федеральных округ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2010 года был образован СКФО и теперь их восем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Центральный округ — Москв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веро-Западный округ — Санкт-Петербург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волжский округ — Нижний Новгород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Южный округ — Ростов-на-Дону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веро-Кавказский округ — Пятигорск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ральский округ — Екатеринбург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ибирский округ — Новосибирск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альневосточный округ — Хабаровс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79280" y="836640"/>
            <a:ext cx="8713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 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ституцие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оссийская Федерация является демократическим 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тивным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ым государством с республиканской формой правл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i6.pixs.ru/storage/2/5/8/mapcrjpg_2394756_1153425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250920" y="692280"/>
            <a:ext cx="871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ипичное </a:t>
            </a: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едеративное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, отличающееся наиболее сложным в мире административно-территориальным устрой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ная часть государства в России называется 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бъектом федер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Административно-территориальное устройство 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5" descr="Современная политическая и географическая карта России городами"/>
          <p:cNvPicPr/>
          <p:nvPr/>
        </p:nvPicPr>
        <p:blipFill>
          <a:blip r:embed="rId1"/>
          <a:stretch/>
        </p:blipFill>
        <p:spPr>
          <a:xfrm>
            <a:off x="539640" y="1600200"/>
            <a:ext cx="806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Что  такое федерац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250920" y="1413000"/>
            <a:ext cx="84978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3"/>
          <p:cNvSpPr/>
          <p:nvPr/>
        </p:nvSpPr>
        <p:spPr>
          <a:xfrm>
            <a:off x="250920" y="1700280"/>
            <a:ext cx="8424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Федера́ц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ла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oederat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объединение, сою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государственного устройства, при которой части федеративного государства являются государственными образованиями, обладающими юридически определённой политической самостояте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Даша\Desktop\800px-Map_of_federal_states.svg.png"/>
          <p:cNvPicPr/>
          <p:nvPr/>
        </p:nvPicPr>
        <p:blipFill>
          <a:blip r:embed="rId1"/>
          <a:stretch/>
        </p:blipFill>
        <p:spPr>
          <a:xfrm>
            <a:off x="-468360" y="1413000"/>
            <a:ext cx="10215720" cy="51847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468360" y="260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овременные федеративные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684360" y="1052640"/>
            <a:ext cx="7775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ы федерации в России представлены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спубликами, краями, областями, городами федерального значения, автономной областью и автономными округ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5" descr=""/>
          <p:cNvPicPr/>
          <p:nvPr/>
        </p:nvPicPr>
        <p:blipFill>
          <a:blip r:embed="rId1"/>
          <a:stretch/>
        </p:blipFill>
        <p:spPr>
          <a:xfrm>
            <a:off x="-66600" y="755640"/>
            <a:ext cx="93567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068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2929680" y="189000"/>
            <a:ext cx="35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46  област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5:04:32Z</dcterms:created>
  <dc:creator>Учитель-1</dc:creator>
  <dc:description/>
  <dc:language>en-US</dc:language>
  <cp:lastModifiedBy>Пользователь</cp:lastModifiedBy>
  <dcterms:modified xsi:type="dcterms:W3CDTF">2020-04-30T08:40:35Z</dcterms:modified>
  <cp:revision>87</cp:revision>
  <dc:subject/>
  <dc:title>Экономическая  география          9 класс</dc:title>
</cp:coreProperties>
</file>