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33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7.png" ContentType="image/png"/>
  <Override PartName="/ppt/media/image16.jpeg" ContentType="image/jpeg"/>
  <Override PartName="/ppt/media/image5.wmf" ContentType="image/x-wmf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.jpeg" ContentType="image/jpeg"/>
  <Override PartName="/ppt/media/image20.png" ContentType="image/png"/>
  <Override PartName="/ppt/media/image36.jpeg" ContentType="image/jpeg"/>
  <Override PartName="/ppt/media/image26.png" ContentType="image/png"/>
  <Override PartName="/ppt/media/image3.png" ContentType="image/png"/>
  <Override PartName="/ppt/media/image31.jpeg" ContentType="image/jpeg"/>
  <Override PartName="/ppt/media/image4.jpeg" ContentType="image/jpeg"/>
  <Override PartName="/ppt/media/image32.png" ContentType="image/png"/>
  <Override PartName="/ppt/media/image40.jpeg" ContentType="image/jpeg"/>
  <Override PartName="/ppt/media/image44.png" ContentType="image/png"/>
  <Override PartName="/ppt/media/image45.jpeg" ContentType="image/jpeg"/>
  <Override PartName="/ppt/media/image43.jpeg" ContentType="image/jpeg"/>
  <Override PartName="/ppt/media/image47.jpeg" ContentType="image/jpeg"/>
  <Override PartName="/ppt/media/image34.jpeg" ContentType="image/jpeg"/>
  <Override PartName="/ppt/media/image48.png" ContentType="image/png"/>
  <Override PartName="/ppt/media/image50.jpeg" ContentType="image/jpeg"/>
  <Override PartName="/ppt/media/image13.png" ContentType="image/png"/>
  <Override PartName="/ppt/media/image49.jpeg" ContentType="image/jpeg"/>
  <Override PartName="/ppt/media/image12.png" ContentType="image/png"/>
  <Override PartName="/ppt/media/image46.jpeg" ContentType="image/jpeg"/>
  <Override PartName="/ppt/media/image51.jpeg" ContentType="image/jpeg"/>
  <Override PartName="/ppt/media/image37.jpeg" ContentType="image/jpeg"/>
  <Override PartName="/ppt/media/image30.png" ContentType="image/png"/>
  <Override PartName="/ppt/media/image10.jpeg" ContentType="image/jpeg"/>
  <Override PartName="/ppt/media/image29.jpeg" ContentType="image/jpeg"/>
  <Override PartName="/ppt/media/image7.jpeg" ContentType="image/jpeg"/>
  <Override PartName="/ppt/media/image28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media/image25.png" ContentType="image/png"/>
  <Override PartName="/ppt/media/image4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8179-D77A-45B9-8501-9A4B6F7EC0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димая невооружённым глазом Большая туманность в созвездии Ориона (БТО) является частью огромного газо-пылевого комплекса, включающего в себя многие светлые и темные газо-пылевые облака, и образующиеся молодые звёзды. Сама БТО является светящейся туманностью, в которой интенсивно происходит образование звё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димая невооружённым глазом Большая туманность в созвездии Ориона (БТО) является частью огромного газо-пылевого комплекса, включающего в себя многие светлые и темные газо-пылевые облака, и образующиеся молодые звёзды. Сама БТО является светящейся туманностью, в которой интенсивно происходит образование звё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гда сталкиваются потоки горячих газов от новорожденной звезды и холодных газов из других частей туманности, образуются подобные мыльные пузыри — светящиеся оболочки газ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 газо-пылевом комплексе Ориона находятся также и тёмные туманности, например туманность Конская голова. Эти туманности являются значительно более холодными, чем горячие светящиеся туманности. Температура различных газо-пылевых облаков может колебаться от 4 до миллиона градусов Кельвин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Темные туманности мы можем видеть только на фоне светлых туманностей либо на фоне Млечного пути, как например, туманность Угольный меш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идимая невооружённым глазом Большая туманность в созвездии Ориона (БТО) является частью огромного газо-пылевого комплекса, включающего в себя многие светлые и темные газо-пылевые облака, и образующиеся молодые звёзды. Сама БТО является светящейся туманностью, в которой интенсивно происходит образование звёз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ассеянные звёздные скопления значительно моложе. И по сей день звёзды в нашей галактике продолжают рождаться. Когда из одного газо-пылевого облака образуется сразу несколько звёзд, они образуют такое рассеянное звёздное скоп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На звёздном небе хорошо заметно невооруженным глазом рассеянное звёздное скопление Плеяды в созвездии Тельца. Сейчас его можно увидеть с вечера в северо-западной части небосвода, достаточно высоко над горизонт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Плеяды состоят из девяти ярких звезд, некоторые из них погружены в газо-пылевую туманность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например, звезда Меропа, туманность возле которой сфотографировал телескоп имени Хаббла. Обычно туманности связаны родственными связями со звёздами скоплений, но тут наблюдается исключение из этого правила: как выяснили учёные, туманность двигается с большой скоростью относительно звёздное скопление и скоро покинет ег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i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97013-6477-45DB-93A0-06A6B0D11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E759-A71B-46F9-B0DD-B9F3E2AF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0C630-B173-4FBD-AF91-A223E969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664A-F226-4A4C-84DF-99EC7CC9E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DC2A8-F5DA-40DD-AF83-C6BFE6E1D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B6B5-BA69-46CA-93E2-CDDC32BB6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C4E5-1449-4CA0-A42F-00622510F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1419-5E2A-470A-81ED-791F2655C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BADF-55DA-482C-9ACB-F5C7B87C34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13EF-BA54-4F52-BD5B-AA2E89B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E021E-ECE6-4116-99E8-7D3A87B6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BA95-951A-4128-A585-3552D7709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D0B1D-365B-4EB0-8B9A-5D11E2B0CE2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420840"/>
            <a:ext cx="9144000" cy="6013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693440" y="0"/>
            <a:ext cx="29041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Зимне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948360" y="0"/>
            <a:ext cx="711360" cy="65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в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ё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з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д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8245440" y="1327320"/>
            <a:ext cx="66384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е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б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о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20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20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2000" fill="hold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4000"/>
                            </p:stCondLst>
                            <p:childTnLst>
                              <p:par>
                                <p:cTn id="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1219320" y="0"/>
            <a:ext cx="6879960" cy="6727680"/>
          </a:xfrm>
          <a:prstGeom prst="rect">
            <a:avLst/>
          </a:prstGeom>
          <a:ln w="0">
            <a:noFill/>
          </a:ln>
        </p:spPr>
      </p:pic>
      <p:sp>
        <p:nvSpPr>
          <p:cNvPr id="85" name="">
            <a:hlinkClick r:id="" action="ppaction://hlinkshowjump?jump=nextslide"/>
          </p:cNvPr>
          <p:cNvSpPr/>
          <p:nvPr/>
        </p:nvSpPr>
        <p:spPr>
          <a:xfrm>
            <a:off x="4420080" y="4572000"/>
            <a:ext cx="66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imes New Roman"/>
                <a:hlinkClick r:id="rId2" action="ppaction://hlinksldjump"/>
              </a:rPr>
              <a:t>M4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268360" y="0"/>
            <a:ext cx="4732560" cy="68580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516720" y="4005360"/>
            <a:ext cx="3525840" cy="4114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6781680" cy="462276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Arial"/>
              </a:rPr>
              <a:t>Газо-пылевая туманность</a:t>
            </a:r>
            <a:br>
              <a:rPr sz="4000"/>
            </a:b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(Большая туманность Орион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random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8" dur="8633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10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3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971640" y="41400"/>
            <a:ext cx="8172360" cy="681660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67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Новорожденная звезда в Б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560" y="25992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Туманность Конская Голова в созвездии Ор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1676520" y="1981080"/>
            <a:ext cx="5867280" cy="4400640"/>
          </a:xfrm>
          <a:prstGeom prst="rect">
            <a:avLst/>
          </a:prstGeom>
          <a:ln w="38160">
            <a:solidFill>
              <a:srgbClr val="009999"/>
            </a:solidFill>
            <a:miter/>
          </a:ln>
        </p:spPr>
      </p:pic>
    </p:spTree>
  </p:cSld>
  <p:transition>
    <p:random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9" dur="1554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0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1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4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685800" y="-533520"/>
            <a:ext cx="10896480" cy="8718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396360" cy="64944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084720" y="0"/>
            <a:ext cx="3419640" cy="15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Переменная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звезда </a:t>
            </a:r>
            <a:br>
              <a:rPr sz="3600"/>
            </a:br>
            <a:r>
              <a:rPr b="0" lang="en-US" sz="3600" spc="-1" strike="noStrike">
                <a:solidFill>
                  <a:srgbClr val="009999"/>
                </a:solidFill>
                <a:latin typeface="Symbol"/>
                <a:ea typeface="Symbol"/>
              </a:rPr>
              <a:t></a:t>
            </a:r>
            <a:r>
              <a:rPr b="0" lang="en-US" sz="3600" spc="-1" strike="noStrike">
                <a:solidFill>
                  <a:srgbClr val="009999"/>
                </a:solidFill>
                <a:latin typeface="Arial"/>
              </a:rPr>
              <a:t> Орио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-1908000" y="214200"/>
            <a:ext cx="9612000" cy="66438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4546440" y="620640"/>
            <a:ext cx="4597560" cy="6048360"/>
          </a:xfrm>
          <a:prstGeom prst="rect">
            <a:avLst/>
          </a:prstGeom>
          <a:ln w="9360">
            <a:solidFill>
              <a:srgbClr val="99cc00"/>
            </a:solidFill>
            <a:miter/>
          </a:ln>
        </p:spPr>
      </p:pic>
      <p:sp>
        <p:nvSpPr>
          <p:cNvPr id="103" name=""/>
          <p:cNvSpPr/>
          <p:nvPr/>
        </p:nvSpPr>
        <p:spPr>
          <a:xfrm>
            <a:off x="0" y="0"/>
            <a:ext cx="341964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Переменная 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звезда </a:t>
            </a:r>
            <a:br>
              <a:rPr sz="3400"/>
            </a:br>
            <a:r>
              <a:rPr b="0" lang="en-US" sz="3400" spc="-1" strike="noStrike">
                <a:solidFill>
                  <a:srgbClr val="99cc00"/>
                </a:solidFill>
                <a:latin typeface="Symbol"/>
                <a:ea typeface="Symbol"/>
              </a:rPr>
              <a:t></a:t>
            </a:r>
            <a:r>
              <a:rPr b="0" lang="en-US" sz="3400" spc="-1" strike="noStrike">
                <a:solidFill>
                  <a:srgbClr val="99cc00"/>
                </a:solidFill>
                <a:latin typeface="Arial"/>
              </a:rPr>
              <a:t> Ориона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844560"/>
            <a:ext cx="9144000" cy="601344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467640" y="0"/>
            <a:ext cx="81694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ff"/>
                </a:solidFill>
                <a:latin typeface="Times New Roman"/>
              </a:rPr>
              <a:t>Зимний треугольник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0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600" y="0"/>
            <a:ext cx="302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Большой П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684360" y="615960"/>
            <a:ext cx="7956360" cy="62420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3132000" y="1413000"/>
            <a:ext cx="4294440" cy="5203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indefinite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00000023841858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356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782160" y="0"/>
            <a:ext cx="138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Теле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881360" y="385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631800"/>
            <a:ext cx="9144000" cy="601992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649520" y="741240"/>
            <a:ext cx="5505480" cy="5927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0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indefinite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00000023841858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" y="0"/>
            <a:ext cx="262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Малый Пе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728640"/>
            <a:ext cx="9144000" cy="612936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3348000" y="2997360"/>
            <a:ext cx="2160720" cy="20127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0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indefinite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8" dur="5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720" y="0"/>
            <a:ext cx="117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Зая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684360" y="673200"/>
            <a:ext cx="7812000" cy="6184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971640" y="1413000"/>
            <a:ext cx="5543640" cy="460044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54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indefinite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771640" y="0"/>
            <a:ext cx="492624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2520" y="0"/>
            <a:ext cx="178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ffff"/>
                </a:solidFill>
                <a:latin typeface="Times New Roman"/>
              </a:rPr>
              <a:t>Эрида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3013200" y="981000"/>
            <a:ext cx="5295600" cy="64087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indefinite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64" dur="5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800" y="0"/>
            <a:ext cx="221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Единоро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39640" y="636480"/>
            <a:ext cx="8317080" cy="62215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826920" y="1273320"/>
            <a:ext cx="7525080" cy="55846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70" dur="5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indefinite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14880" y="0"/>
            <a:ext cx="42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Туманность Кон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1187280" y="765000"/>
            <a:ext cx="6444000" cy="64440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414880" y="0"/>
            <a:ext cx="4268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Туманность Кону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835280" y="942840"/>
            <a:ext cx="5914800" cy="59151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14520" y="0"/>
            <a:ext cx="4819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00"/>
                </a:solidFill>
                <a:latin typeface="Times New Roman"/>
              </a:rPr>
              <a:t>Туманность Розе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476360" y="692280"/>
            <a:ext cx="6264360" cy="626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332000" y="0"/>
            <a:ext cx="6202440" cy="7750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79280" y="34920"/>
            <a:ext cx="8640720" cy="6823080"/>
          </a:xfrm>
          <a:prstGeom prst="rect">
            <a:avLst/>
          </a:prstGeom>
          <a:ln w="0">
            <a:noFill/>
          </a:ln>
        </p:spPr>
      </p:pic>
      <p:sp>
        <p:nvSpPr>
          <p:cNvPr id="145" name=""/>
          <p:cNvSpPr/>
          <p:nvPr/>
        </p:nvSpPr>
        <p:spPr>
          <a:xfrm>
            <a:off x="1440" y="0"/>
            <a:ext cx="1505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Times New Roman"/>
              </a:rPr>
              <a:t>Вор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1763640" y="1268280"/>
            <a:ext cx="4614840" cy="46818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0" dur="5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0" y="708120"/>
            <a:ext cx="9144000" cy="614988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118880" y="0"/>
            <a:ext cx="66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Галактика </a:t>
            </a:r>
            <a:r>
              <a:rPr b="0" i="1" lang="en-US" sz="4000" spc="-1" strike="noStrike">
                <a:solidFill>
                  <a:srgbClr val="33ccff"/>
                </a:solidFill>
                <a:latin typeface="Times New Roman"/>
              </a:rPr>
              <a:t>NGC 4361</a:t>
            </a: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 (Вор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50920" y="-3240"/>
            <a:ext cx="889308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61440" y="371628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Гиа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78520" y="1628640"/>
            <a:ext cx="12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99"/>
                </a:solidFill>
                <a:latin typeface="Times New Roman"/>
              </a:rPr>
              <a:t>Плея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300720" y="3933720"/>
            <a:ext cx="3525840" cy="4114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2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0" y="765000"/>
            <a:ext cx="9144000" cy="6093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046160" y="0"/>
            <a:ext cx="665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ffcccc"/>
                </a:solidFill>
                <a:latin typeface="Times New Roman"/>
              </a:rPr>
              <a:t>Галактика </a:t>
            </a:r>
            <a:r>
              <a:rPr b="0" i="1" lang="en-US" sz="4000" spc="-1" strike="noStrike">
                <a:solidFill>
                  <a:srgbClr val="ffcccc"/>
                </a:solidFill>
                <a:latin typeface="Times New Roman"/>
              </a:rPr>
              <a:t>NGC 4027</a:t>
            </a:r>
            <a:r>
              <a:rPr b="0" i="1" lang="ru-RU" sz="4000" spc="-1" strike="noStrike">
                <a:solidFill>
                  <a:srgbClr val="ffcccc"/>
                </a:solidFill>
                <a:latin typeface="Times New Roman"/>
              </a:rPr>
              <a:t> (Вор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-973080" y="0"/>
            <a:ext cx="10801440" cy="75438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1476360" y="0"/>
            <a:ext cx="6033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Столкнувшиеся галактик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«Антены» (Ворон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25560"/>
            <a:ext cx="9144000" cy="66848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2160" y="0"/>
            <a:ext cx="142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Times New Roman"/>
              </a:rPr>
              <a:t>Чаш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00" y="0"/>
            <a:ext cx="148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Times New Roman"/>
              </a:rPr>
              <a:t>Гид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637000"/>
            <a:ext cx="9325080" cy="40417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 rot="1200000">
            <a:off x="423360" y="2574720"/>
            <a:ext cx="7994880" cy="426060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6" dur="5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indefinite"/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-252360" y="-112680"/>
            <a:ext cx="10153440" cy="702000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3351600" y="0"/>
            <a:ext cx="301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00ff"/>
                </a:solidFill>
                <a:latin typeface="Times New Roman"/>
              </a:rPr>
              <a:t>М 48 (Гидра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468000" cy="75754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414520" y="0"/>
            <a:ext cx="430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99cc00"/>
                </a:solidFill>
                <a:latin typeface="Times New Roman"/>
              </a:rPr>
              <a:t>Галактика в Гидр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880" y="0"/>
            <a:ext cx="22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Близнец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711360"/>
            <a:ext cx="9144000" cy="6146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 rot="21300000">
            <a:off x="1258920" y="0"/>
            <a:ext cx="6646680" cy="685332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94" dur="5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indefinite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482760"/>
            <a:ext cx="9144000" cy="63752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-1044720" y="3860640"/>
            <a:ext cx="3878280" cy="45262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with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4648320" y="1600200"/>
            <a:ext cx="4038480" cy="45259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0" y="384120"/>
            <a:ext cx="9144000" cy="64738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543600" y="0"/>
            <a:ext cx="825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33ccff"/>
                </a:solidFill>
                <a:latin typeface="Times New Roman"/>
              </a:rPr>
              <a:t>Планетарная туманноость Юпите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2050920" y="-243000"/>
            <a:ext cx="4975200" cy="710100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2484720" y="5013360"/>
            <a:ext cx="396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ffff"/>
                </a:solidFill>
                <a:latin typeface="Arial"/>
              </a:rPr>
              <a:t>Зимний Брилиан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0000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 flipH="1" flipV="1">
            <a:off x="5638680" y="4648320"/>
            <a:ext cx="91440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-1066680" y="46080"/>
            <a:ext cx="10667880" cy="681336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Рассеянное звездное скопление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Плея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354480" y="469728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Плея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3809880" y="4114440"/>
            <a:ext cx="304920" cy="60948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2050920" y="-243000"/>
            <a:ext cx="4975200" cy="71010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 txBox="1"/>
          <p:nvPr/>
        </p:nvSpPr>
        <p:spPr>
          <a:xfrm>
            <a:off x="3708360" y="3068640"/>
            <a:ext cx="12952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Бетельгейзе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132000" y="4724280"/>
            <a:ext cx="122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ириу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5364000" y="1916280"/>
            <a:ext cx="136872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Альдебаран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219640" y="3716280"/>
            <a:ext cx="122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Ригель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2124000" y="3284640"/>
            <a:ext cx="1224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оцион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2411280" y="1844640"/>
            <a:ext cx="122400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оллук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932360" y="692280"/>
            <a:ext cx="122400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пелла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780000" y="5950080"/>
            <a:ext cx="1223640" cy="21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Канопус</a:t>
            </a:r>
            <a:endParaRPr b="0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187280" y="647640"/>
            <a:ext cx="7162920" cy="621036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Рассеянное звездное скопление 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Плеяд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 flipV="1">
            <a:off x="5638680" y="4648320"/>
            <a:ext cx="914400" cy="457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-973080" y="4005360"/>
            <a:ext cx="352584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mph" presetID="35" repeatCount="indefinite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7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52280" y="633240"/>
            <a:ext cx="8839440" cy="6078600"/>
          </a:xfrm>
          <a:prstGeom prst="rect">
            <a:avLst/>
          </a:prstGeom>
          <a:ln w="28440">
            <a:solidFill>
              <a:srgbClr val="009999"/>
            </a:solidFill>
            <a:miter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6108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Фото космического телескопа им. Хабб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random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" dur="13400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3400"/>
                            </p:stCondLst>
                            <p:childTnLst>
                              <p:par>
                                <p:cTn id="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1" dur="1" fill="hold"/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9999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7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Крабовидная тум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914400"/>
            <a:ext cx="9144000" cy="5708520"/>
          </a:xfrm>
          <a:prstGeom prst="rect">
            <a:avLst/>
          </a:prstGeom>
          <a:ln w="0">
            <a:noFill/>
          </a:ln>
        </p:spPr>
      </p:pic>
    </p:spTree>
  </p:cSld>
  <p:transition advTm="1000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cc00"/>
                </a:solidFill>
                <a:latin typeface="Arial"/>
              </a:rPr>
              <a:t>Крабовидная туманност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1052640"/>
            <a:ext cx="8964720" cy="5602320"/>
          </a:xfrm>
          <a:prstGeom prst="rect">
            <a:avLst/>
          </a:prstGeom>
          <a:ln w="0">
            <a:noFill/>
          </a:ln>
        </p:spPr>
      </p:pic>
    </p:spTree>
  </p:cSld>
  <p:transition advTm="5000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00" y="0"/>
            <a:ext cx="1561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Орио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2270160" y="792000"/>
            <a:ext cx="5002200" cy="6309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43280" y="0"/>
            <a:ext cx="4236840" cy="655308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6T14:46:50Z</dcterms:created>
  <dc:creator>user</dc:creator>
  <dc:description/>
  <dc:language>en-US</dc:language>
  <cp:lastModifiedBy>Admin</cp:lastModifiedBy>
  <dcterms:modified xsi:type="dcterms:W3CDTF">2010-02-20T08:41:56Z</dcterms:modified>
  <cp:revision>43</cp:revision>
  <dc:subject/>
  <dc:title>Слайд 1</dc:title>
</cp:coreProperties>
</file>