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5.wmf" ContentType="image/x-wmf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3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40.jpeg" ContentType="image/jpeg"/>
  <Override PartName="/ppt/media/image44.png" ContentType="image/png"/>
  <Override PartName="/ppt/media/image45.jpeg" ContentType="image/jpeg"/>
  <Override PartName="/ppt/media/image43.jpeg" ContentType="image/jpeg"/>
  <Override PartName="/ppt/media/image47.jpeg" ContentType="image/jpeg"/>
  <Override PartName="/ppt/media/image34.jpeg" ContentType="image/jpeg"/>
  <Override PartName="/ppt/media/image48.png" ContentType="image/png"/>
  <Override PartName="/ppt/media/image50.jpeg" ContentType="image/jpeg"/>
  <Override PartName="/ppt/media/image13.png" ContentType="image/png"/>
  <Override PartName="/ppt/media/image49.jpeg" ContentType="image/jpeg"/>
  <Override PartName="/ppt/media/image12.png" ContentType="image/png"/>
  <Override PartName="/ppt/media/image46.jpeg" ContentType="image/jpeg"/>
  <Override PartName="/ppt/media/image51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0B5B1-6E46-4729-B5E2-1DA67F84AA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димая невооружённым глазом Большая туманность в созвездии Ориона (БТО) является частью огромного газо-пылевого комплекса, включающего в себя многие светлые и темные газо-пылевые облака, и образующиеся молодые звёзды. Сама БТО является светящейся туманностью, в которой интенсивно происходит образование звё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димая невооружённым глазом Большая туманность в созвездии Ориона (БТО) является частью огромного газо-пылевого комплекса, включающего в себя многие светлые и темные газо-пылевые облака, и образующиеся молодые звёзды. Сама БТО является светящейся туманностью, в которой интенсивно происходит образование звё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сталкиваются потоки горячих газов от новорожденной звезды и холодных газов из других частей туманности, образуются подобные мыльные пузыри — светящиеся оболочки г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газо-пылевом комплексе Ориона находятся также и тёмные туманности, например туманность Конская голова. Эти туманности являются значительно более холодными, чем горячие светящиеся туманности. Температура различных газо-пылевых облаков может колебаться от 4 до миллиона градусов Кельв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мные туманности мы можем видеть только на фоне светлых туманностей либо на фоне Млечного пути, как например, туманность Угольный меш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димая невооружённым глазом Большая туманность в созвездии Ориона (БТО) является частью огромного газо-пылевого комплекса, включающего в себя многие светлые и темные газо-пылевые облака, и образующиеся молодые звёзды. Сама БТО является светящейся туманностью, в которой интенсивно происходит образование звё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еянные звёздные скопления значительно моложе. И по сей день звёзды в нашей галактике продолжают рождаться. Когда из одного газо-пылевого облака образуется сразу несколько звёзд, они образуют такое рассеянное звёздное скоп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звёздном небе хорошо заметно невооруженным глазом рассеянное звёздное скопление Плеяды в созвездии Тельца. Сейчас его можно увидеть с вечера в северо-западной части небосвода, достаточно высоко над горизо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леяды состоят из девяти ярких звезд, некоторые из них погружены в газо-пылевую туманнос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пример, звезда Меропа, туманность возле которой сфотографировал телескоп имени Хаббла. Обычно туманности связаны родственными связями со звёздами скоплений, но тут наблюдается исключение из этого правила: как выяснили учёные, туманность двигается с большой скоростью относительно звёздное скопление и скоро покинет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C2CF-4946-442A-9CA0-9E6207B8E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59EF-997F-4815-A87D-CBA7E31DA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ED541-1467-4CC0-8E29-12910C25D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2CB7-6022-4B63-9815-BCAFD1BD8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22E58-17BB-4864-B827-23C5BE899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CFAE-DB73-4367-97BD-5401B37F3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7F14-9C37-43FB-8E83-65A07923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6358-1817-4DD5-B8CD-CDF4B65BE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9ACF6-F28C-4AFE-AA5B-E2D72F150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D61F-7A5A-4413-9759-3DB0D4CCF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5A0B9-116B-4C1F-A193-70687F799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37E89-E3AC-42F2-BF39-D2630FC0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1DB3B-F2A0-46CC-AF56-9D58FFB4A6F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3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93440" y="0"/>
            <a:ext cx="2904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Зимне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0"/>
            <a:ext cx="71136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45440" y="1327320"/>
            <a:ext cx="66384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219320" y="0"/>
            <a:ext cx="6879960" cy="672768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420080" y="4572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M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7325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35258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6227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азо-пылевая туманность</a:t>
            </a:r>
            <a:br>
              <a:rPr sz="4000"/>
            </a:b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Большая туманность Орио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71640" y="41400"/>
            <a:ext cx="8172360" cy="681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Новорожденная звезда в Б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Туманность Конская Голова в созвездии Ор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867280" cy="44006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554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685800" y="-533520"/>
            <a:ext cx="10896480" cy="871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396360" cy="649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84720" y="0"/>
            <a:ext cx="34196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Переменная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звезда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Ори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908000" y="214200"/>
            <a:ext cx="9612000" cy="6643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46440" y="620640"/>
            <a:ext cx="4597560" cy="60483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0" y="0"/>
            <a:ext cx="3419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Переменная </a:t>
            </a:r>
            <a:br>
              <a:rPr sz="3400"/>
            </a:b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звезда </a:t>
            </a:r>
            <a:br>
              <a:rPr sz="3400"/>
            </a:br>
            <a:r>
              <a:rPr b="0" lang="en-US" sz="3400" spc="-1" strike="noStrike">
                <a:solidFill>
                  <a:srgbClr val="99cc00"/>
                </a:solidFill>
                <a:latin typeface="Symbol"/>
                <a:ea typeface="Symbol"/>
              </a:rPr>
              <a:t></a:t>
            </a: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 Орион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6013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7640" y="0"/>
            <a:ext cx="8169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Зимний треугольн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0" y="0"/>
            <a:ext cx="30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Большой П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615960"/>
            <a:ext cx="7956360" cy="624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32000" y="1413000"/>
            <a:ext cx="4294440" cy="5203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00000023841858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2160" y="0"/>
            <a:ext cx="13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Тел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81360" y="3859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31800"/>
            <a:ext cx="9144000" cy="6019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49520" y="741240"/>
            <a:ext cx="5505480" cy="592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00000023841858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" y="0"/>
            <a:ext cx="26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Малый П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728640"/>
            <a:ext cx="9144000" cy="612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160720" cy="2012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0" y="0"/>
            <a:ext cx="11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Зая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673200"/>
            <a:ext cx="7812000" cy="6184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5543640" cy="4600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49262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20" y="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ff"/>
                </a:solidFill>
                <a:latin typeface="Times New Roman"/>
              </a:rPr>
              <a:t>Эрид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13200" y="981000"/>
            <a:ext cx="529560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00" y="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Единор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636480"/>
            <a:ext cx="8317080" cy="6221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6920" y="1273320"/>
            <a:ext cx="7525080" cy="5584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4880" y="0"/>
            <a:ext cx="42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Туманность Кон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87280" y="765000"/>
            <a:ext cx="6444000" cy="644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4880" y="0"/>
            <a:ext cx="42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Туманность Кон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35280" y="942840"/>
            <a:ext cx="5914800" cy="591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4520" y="0"/>
            <a:ext cx="48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Туманность Роз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626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202440" cy="7750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34920"/>
            <a:ext cx="8640720" cy="6823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0" y="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ff"/>
                </a:solidFill>
                <a:latin typeface="Times New Roman"/>
              </a:rPr>
              <a:t>Во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4614840" cy="4681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708120"/>
            <a:ext cx="9144000" cy="6149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18880" y="0"/>
            <a:ext cx="66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ccff"/>
                </a:solidFill>
                <a:latin typeface="Times New Roman"/>
              </a:rPr>
              <a:t>Галактика </a:t>
            </a: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NGC 4361</a:t>
            </a:r>
            <a:r>
              <a:rPr b="0" i="1" lang="ru-RU" sz="4000" spc="-1" strike="noStrike">
                <a:solidFill>
                  <a:srgbClr val="33ccff"/>
                </a:solidFill>
                <a:latin typeface="Times New Roman"/>
              </a:rPr>
              <a:t> (Вор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-3240"/>
            <a:ext cx="889308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61440" y="37162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Ги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8520" y="1628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Плея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352584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46160" y="0"/>
            <a:ext cx="66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cc"/>
                </a:solidFill>
                <a:latin typeface="Times New Roman"/>
              </a:rPr>
              <a:t>Галактика </a:t>
            </a:r>
            <a:r>
              <a:rPr b="0" i="1" lang="en-US" sz="4000" spc="-1" strike="noStrike">
                <a:solidFill>
                  <a:srgbClr val="ffcccc"/>
                </a:solidFill>
                <a:latin typeface="Times New Roman"/>
              </a:rPr>
              <a:t>NGC 4027</a:t>
            </a:r>
            <a:r>
              <a:rPr b="0" i="1" lang="ru-RU" sz="4000" spc="-1" strike="noStrike">
                <a:solidFill>
                  <a:srgbClr val="ffcccc"/>
                </a:solidFill>
                <a:latin typeface="Times New Roman"/>
              </a:rPr>
              <a:t> (Вор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-973080" y="0"/>
            <a:ext cx="10801440" cy="7543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76360" y="0"/>
            <a:ext cx="60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ccff"/>
                </a:solidFill>
                <a:latin typeface="Times New Roman"/>
              </a:rPr>
              <a:t>Столкнувшиеся галак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ccff"/>
                </a:solidFill>
                <a:latin typeface="Times New Roman"/>
              </a:rPr>
              <a:t>«Антены» (Вор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84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60" y="0"/>
            <a:ext cx="14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ff"/>
                </a:solidFill>
                <a:latin typeface="Times New Roman"/>
              </a:rPr>
              <a:t>Ч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00" y="0"/>
            <a:ext cx="148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ff"/>
                </a:solidFill>
                <a:latin typeface="Times New Roman"/>
              </a:rPr>
              <a:t>Ги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325080" cy="4041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1200000">
            <a:off x="423360" y="2574720"/>
            <a:ext cx="7994880" cy="426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252360" y="-112680"/>
            <a:ext cx="10153440" cy="7020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51600" y="0"/>
            <a:ext cx="30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ff"/>
                </a:solidFill>
                <a:latin typeface="Times New Roman"/>
              </a:rPr>
              <a:t>М 48 (Гидр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757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414520" y="0"/>
            <a:ext cx="43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cc00"/>
                </a:solidFill>
                <a:latin typeface="Times New Roman"/>
              </a:rPr>
              <a:t>Галактика в Гид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80" y="0"/>
            <a:ext cx="22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Близне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711360"/>
            <a:ext cx="9144000" cy="614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 rot="21300000">
            <a:off x="1258920" y="0"/>
            <a:ext cx="664668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6375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44720" y="3860640"/>
            <a:ext cx="3878280" cy="452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384120"/>
            <a:ext cx="9144000" cy="6473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43600" y="0"/>
            <a:ext cx="825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ccff"/>
                </a:solidFill>
                <a:latin typeface="Times New Roman"/>
              </a:rPr>
              <a:t>Планетарная туманноость Юпи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0920" y="-243000"/>
            <a:ext cx="4975200" cy="7101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484720" y="5013360"/>
            <a:ext cx="39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Зимний Брил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H="1" flipV="1">
            <a:off x="5638680" y="4648320"/>
            <a:ext cx="91440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066680" y="46080"/>
            <a:ext cx="10667880" cy="6813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Рассеянное звездное скопление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Плея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4480" y="469728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Плея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050920" y="-243000"/>
            <a:ext cx="4975200" cy="7101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708360" y="3068640"/>
            <a:ext cx="129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тельгейз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2000" y="4724280"/>
            <a:ext cx="122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риу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64000" y="1916280"/>
            <a:ext cx="136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ьдебаран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19640" y="3716280"/>
            <a:ext cx="122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игел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24000" y="3284640"/>
            <a:ext cx="1224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цион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411280" y="1844640"/>
            <a:ext cx="122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лук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32360" y="692280"/>
            <a:ext cx="1224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пелл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780000" y="5950080"/>
            <a:ext cx="1223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нопу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87280" y="647640"/>
            <a:ext cx="7162920" cy="6210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Рассеянное звездное скопление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Плея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638680" y="4648320"/>
            <a:ext cx="91440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973080" y="4005360"/>
            <a:ext cx="35258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633240"/>
            <a:ext cx="8839440" cy="607860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Фото космического телескопа им. Хабб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4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4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Крабовидная тум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70852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Крабовидная тум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8964720" cy="56023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00" y="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Ори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70160" y="792000"/>
            <a:ext cx="5002200" cy="630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423684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14:46:50Z</dcterms:created>
  <dc:creator>user</dc:creator>
  <dc:description/>
  <dc:language>en-US</dc:language>
  <cp:lastModifiedBy>Admin</cp:lastModifiedBy>
  <dcterms:modified xsi:type="dcterms:W3CDTF">2010-02-20T08:41:56Z</dcterms:modified>
  <cp:revision>43</cp:revision>
  <dc:subject/>
  <dc:title>Слайд 1</dc:title>
</cp:coreProperties>
</file>