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1AF4-BD05-4317-AE06-734756D318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43B-743C-4219-9143-B9C906E04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21E-695A-4A65-864F-CD4495A2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E62-00D0-4DA0-A304-8C8952D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63CA-E161-436B-B8CE-8EF57D2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5DFE3-2E10-4617-86A7-2704E10E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28209-DD15-4D48-B52B-A82D286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C80A-746E-4646-9D60-B1AAF1D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EA1A7-587D-4798-9B0A-4D949AF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56546-E6AA-4506-9120-7CA9D3F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A695-CBB8-4136-9579-941CE6F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EBF2-25D1-4481-B9A4-168EB4DE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70AC-789D-42EC-8D72-363F55EA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F6B-A8A8-4086-AD99-5AFD8914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55E-F1F3-40B0-ACCB-BD13EDCB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82C-30D4-4876-AAE5-71BB513C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A0C-0867-4E62-B4FF-02DBF4E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D61-2C22-41B3-85A4-82DB0122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EBA-FE82-42C0-BD6C-3BE5EA7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C361-FA6C-4705-B492-C355DC7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2E8A-A1A5-431E-B908-8B623F5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3DC-CFF5-490B-9337-E9D400A0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640-33DA-4B2E-8787-37D89E2B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DC3-28F0-4804-B198-746B5DC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BBB-FAE0-4113-A1D4-C6CF088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E671-BEFD-44F9-A58B-4965A63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4B52-6885-4049-AF12-7DE872BA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DD7-11BD-43A0-89DC-CEC3CB90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22EC-E3B8-43FE-AACB-5A2DEA1A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3EF5-E619-452F-93C3-D52886F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24F9-094E-4564-BDA6-D91A2804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05E1-2FA5-4534-99EF-B497531C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9EA6-B3AA-4713-BBF6-9C5187A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F4C-0C0C-4616-BA8C-58D74F8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6014-04DB-4AE5-80AF-5CD28C79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40F0-5176-4B17-850C-29EC06E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15B3-BF77-4F0E-8987-CBAC10F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4896-6941-4C85-BB78-D93BDF1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10F9-B64D-4101-842B-8C134C60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8CFF-DB74-45C4-BCC7-F22BF19C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880E-23A4-4732-9C79-431DB009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8678-F96E-4804-982C-0BD6DB04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D084-85B4-48FE-855D-9F42510E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A10C-B9B5-4132-9549-423CAB0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53E-4467-4CBA-A5A1-9B68F96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1350-E5D9-4363-B6E6-C2566DD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B564-2A7D-430C-A4CB-F21B179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DCB4-3BCF-4321-8541-3CA72E0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55B6-A26F-421D-A638-54DD20B5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94C5-12AA-402D-8A5A-709C43F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D39F-0EFD-496C-990F-31703E6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B606-426A-4B3C-871D-C3E4612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D242-1CFA-419E-8708-9EA326D4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F2D4-DC07-4ECD-A840-C8B02659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02B8-7AAC-40A3-B97A-1E00E38D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46C-8588-467D-A0E1-770A00E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9B7F2-3EEF-4DDC-B83A-B126C9E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92E9-4AE4-41F0-BCED-F2B8280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9247-3AF1-4A6D-8F5B-ECCA96B7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FD14-1386-4DFE-822F-401553A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73AF-272D-49D9-8958-EBBFEB90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5E94-FF7C-4932-8A75-5C025B1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68FE-5215-489E-8157-24510E6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9375-431B-4577-B619-EA1C95B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DCEFE-2FB8-4AD1-B8D8-3D91E25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0CFD9-4817-4AC7-B4BB-538731AA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C0F-8F1D-4A78-AABD-0BB9F20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5FF9-F58C-40B4-8ED6-BD4D57CA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4C49E-6582-4CC6-BC01-38DE7A87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A283-CC37-4A74-9732-B32C8DE1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66D9-D72C-4A44-A9BF-1452CBB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4706-2CBD-45F9-AF42-F482423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D05E-BE05-49F0-8448-46D0AB3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C713B-3F54-4DFA-9393-2C175B3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8BD0-D7EC-4DE3-AAAD-76CE697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B788-D764-4CBB-91E8-1066A6C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8741-DB75-4E27-A88E-2E945EE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E5A-3965-4C84-9BA5-58166B7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C1B6-CB9D-4167-9D87-D640A77F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8451-BF33-4454-8B4A-3AA6A586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EDB8-73D6-44C5-B677-0DB8971F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F96D-86D5-404A-9DC0-B4138328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FCCD-6C97-425D-B341-95C88865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BABA-4EAB-49B8-8190-1C763B27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B961-6461-4364-9F46-98E58E9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9B16-8A27-44F8-89B8-84CFED03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7244-4BA5-4586-9898-FA016351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EAF1-948A-4995-99B3-9EC3186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D15-188D-4EB2-A2E6-CE5A986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2F4D1-0A96-40A5-B38C-FD5A69B3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1616-9058-4C9E-B5B6-91F734A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A2A5-7F20-4D23-B35A-18156159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B741-8F23-4A90-8D91-335C01E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8DE6-5563-405A-A05E-39416297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45C20-D6D6-4B04-9913-141A9FED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33E1-AA7E-4904-9564-A53BF718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45E9-9D88-4337-82B7-4A9209C7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A1D4-DD1B-451F-B38C-81A5ABD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2BB0-9809-4F06-BD5E-A6FCCD4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547-7C7D-40CE-81AD-CDAD787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1FC4-599E-4555-9377-6B5140E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63E6-BF63-4169-8BF9-5818B46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578B-0E1B-48A4-A263-CC6B859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3B5A-EF9B-4C36-814C-9A9F498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851D0-F7B0-4445-A9BD-1D1994DA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3E2A-429D-448C-AD53-8E18887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AAEEA-0DEA-4AED-9B9E-28CE7AA8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73F52-81C5-4F4B-BC67-5A1610FA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1C1BB-3442-4B12-A8EF-76A7E16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AD66A-ED0B-4720-BAF0-1526D55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FA5-29BF-4757-A22F-B686A3A456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B7B6-8078-4A42-8ADD-1EC177A13A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4D6D-03E8-4F83-AEA9-1D8F2AD4F8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7B00-C125-4C51-BA76-AE40528E91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5DB-C4E1-4428-8B7F-1B680437D2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B9B9-3787-4E52-B945-86A888F18C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BFB5-AB13-411D-AD3D-A3C2DE4919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D8D-6CC6-4A2A-9914-D6FCDEBFAC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7F5-9DD7-402F-ACD4-9AA409EFDB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686800" cy="4900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236000" y="5288040"/>
            <a:ext cx="1755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01600" y="0"/>
            <a:ext cx="8790120" cy="927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-360" y="777600"/>
            <a:ext cx="899172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) умение проводить мониторинг физического развития и физической подготовленности, наблюдение за динамикой развития своих физических качеств и двигательных способностей, оценивать состояние организма и определять тренирующее воздействие занятий физическими упражнениями, определять индивидуальные режимы физической нагрузки, контролировать направленность ее воздействия на организм во время самостоятельных занятий физическими упражнениям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) владение основами технических действий и приемами различных видов спорта, их использование в игровой и соревновательной деятельност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) умение повышать функциональные возможности систем организма при подготовке к выполнению нормативов ВФСК ГТО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стижение результатов освоения программы ООО обеспечивается посредством включения в указанную программу </a:t>
            </a: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метных результатов 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воения модулей учебного предмета "Физическая культура"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ация вправе самостоятельно определять </a:t>
            </a:r>
            <a:r>
              <a:rPr b="0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следовательность модулей и количество часов для освоения обучающимися модулей учебного предмета «ФК" (с учетом возможностей материально-технической базы Организации и природно-климатических условий региона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815240" y="2276640"/>
            <a:ext cx="13604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08080" y="-12600"/>
            <a:ext cx="9111960" cy="11826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Calibri"/>
              </a:rPr>
              <a:t>Действующий ФГОС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Личностные результаты должны отражать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…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) формирование установки на безопасный, здоровый образ жизни, наличие мотивации к творческому труду, работе на результат, бережному отношению к материальным и духовным ценностям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4832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Calibri"/>
              </a:rPr>
              <a:t>Обновленный ФГОС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уппы личностных результатов (по направлениям воспитательной работы)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триотическое воспитание (4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Гражданское воспитание (8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Духовно-нравственное воспитание (3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Эстетическое воспитание (3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Воспитание ценности научного познания (3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Физическое воспитание. Формирование культуры здоровья и эмоционального благополучия (5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Трудовое воспитание (5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 Экологическое воспитание (5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…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сего = 36 конкретных формулировок личностных результатов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3944880" y="6107040"/>
            <a:ext cx="12542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1285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-360" y="1412640"/>
            <a:ext cx="37083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ующий ФГОС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етапредметные результаты освоения основной образовательной программы начального общего образования должны отражать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о = 16 метапредметных результа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08000" y="1412640"/>
            <a:ext cx="5435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новленный ФГОС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Овладение универсальными учебными познавательными действиям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Базовые логические действия (НОО – 5, ООО – 6) 2. Базовые исследовательские действия (НОО – 6, ООО - 4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абота с информацией (НОО – 6, ООО – 5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Овладение универсальными учебными коммуникативными действиям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бщение (НОО – 8, ООО - 6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вместная деятельность (НОО – 4, ООО - 4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владение универсальными регулятивными действиям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амоорганизация (НОО – 2, ООО - 2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амоконтроль (НОО – 2, ООО - 3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о = 33/30 конкретных результат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1403280" y="5665680"/>
            <a:ext cx="17557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76040" y="0"/>
            <a:ext cx="881568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052640"/>
            <a:ext cx="8686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диная схема для програм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мерная рабочая программа основного общего образова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Пояснительная записка, включающая: цели обучения, общая характеристика предмета, место предмета в учебном плане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Планируемые результаты освоения примерной рабочей программы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Symbol"/>
                <a:ea typeface="Symbol"/>
              </a:rPr>
              <a:t>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чностны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Symbol"/>
                <a:ea typeface="Symbol"/>
              </a:rPr>
              <a:t>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апредметные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Symbol"/>
                <a:ea typeface="Symbol"/>
              </a:rPr>
              <a:t>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метные (по годам обучения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ичностные и метапредметные результаты раскрываются на основе обновленного ФГОС ООО с учетом специфики предме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Содержание учебных предметов по годам обуче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Тематическое планир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4000" y="5378400"/>
          <a:ext cx="8982000" cy="1285920"/>
        </p:xfrm>
        <a:graphic>
          <a:graphicData uri="http://schemas.openxmlformats.org/drawingml/2006/table">
            <a:tbl>
              <a:tblPr/>
              <a:tblGrid>
                <a:gridCol w="2994120"/>
                <a:gridCol w="2993760"/>
                <a:gridCol w="2994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блоки, т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виды деятельности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8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083360" y="2927520"/>
            <a:ext cx="1755720" cy="100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04920" y="-55440"/>
            <a:ext cx="868680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0" y="549360"/>
          <a:ext cx="9252000" cy="6188040"/>
        </p:xfrm>
        <a:graphic>
          <a:graphicData uri="http://schemas.openxmlformats.org/drawingml/2006/table">
            <a:tbl>
              <a:tblPr/>
              <a:tblGrid>
                <a:gridCol w="2495520"/>
                <a:gridCol w="3235320"/>
                <a:gridCol w="3521160"/>
              </a:tblGrid>
              <a:tr h="49968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ый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овленный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 и курсов, в том числе и внеуро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, в том числе и внеурочной деятельности, учебных моду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ется для рабочих программ учебных предметов, курсов и курсов внеуро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аковая для всех рабочих программ, в том и числе программ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рабочих программ учебных предметов, кур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рабочей программы воспитания с указанием количества часов, отводимых на освоение каждой 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количества академ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дим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воение кажд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 использования по этой теме ЭОР и Ц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рабочих программ курсов внеуро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рабочей программы воспит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6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рабочей программы воспит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в разделе «Тематическое планировани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сех разделах рабоче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рабочей программы курса внеуро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держании программы должны быть указаны формы организации и вид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грамме должны быть указаны формы  проведения заня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354800" y="3141720"/>
            <a:ext cx="1760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311040" y="92160"/>
            <a:ext cx="86868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0" y="981000"/>
          <a:ext cx="9144000" cy="5534280"/>
        </p:xfrm>
        <a:graphic>
          <a:graphicData uri="http://schemas.openxmlformats.org/drawingml/2006/table">
            <a:tbl>
              <a:tblPr/>
              <a:tblGrid>
                <a:gridCol w="1131840"/>
                <a:gridCol w="4116600"/>
                <a:gridCol w="3895560"/>
              </a:tblGrid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разде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 рабочей программы 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ый ФГ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 ФГ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особенностей воспитательного процесс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оспитательного процесса в организ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и задачи воспитания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измен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, формы и содержание совместной деятельности педагогических работников, обучающихся и социальных партнеров организации, осуществляющей образовательную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, формы и содержание воспитательной деятельности с учетом специфики организации, интересов субъекта воспитания, тематики учебных моду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самоанализа воспитательной работы в организации, осуществляющей образовательную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поощрения социальной успешности и проявлений активной жизненной позиции обучающихся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4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248600" y="4365720"/>
            <a:ext cx="1755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304920" y="31104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152280" y="12952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уроки ФК следует включаться задания, выполнение которых будет способствовать развитию функционально грамотности обучающихся, например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азвития </a:t>
            </a: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итательской компетенции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- использовать тексты, не адаптированные к учебной деятельности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азвития </a:t>
            </a: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ематической грамотности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давать задания, содержание которых включает анализ и графические данные (схемы, таблицы, графики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азвития </a:t>
            </a: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инансовой грамотности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редложить задание на расчет стоимости участия в соревнования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азвития </a:t>
            </a: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тественнонаучной грамотности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рекомендуется давать задания по расчету длины прыжка, скорости бега при определенных физических параметр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388280" y="4869000"/>
            <a:ext cx="1755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304920" y="92160"/>
            <a:ext cx="8686800" cy="11761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меньшился </a:t>
            </a: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ъем внеурочной деятельно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уровне НОО (вместо 1350 можно запланировать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 1320 часов за четыре года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304920" y="1484280"/>
          <a:ext cx="8267760" cy="2600280"/>
        </p:xfrm>
        <a:graphic>
          <a:graphicData uri="http://schemas.openxmlformats.org/drawingml/2006/table">
            <a:tbl>
              <a:tblPr/>
              <a:tblGrid>
                <a:gridCol w="1890720"/>
                <a:gridCol w="1415880"/>
                <a:gridCol w="1654200"/>
                <a:gridCol w="1652760"/>
                <a:gridCol w="1654200"/>
              </a:tblGrid>
              <a:tr h="3916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ы аудиторной на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4 (+5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8 (-20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0 (-15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49 (-7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1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236000" y="5288040"/>
            <a:ext cx="1755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04920" y="-12600"/>
            <a:ext cx="8686800" cy="12920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376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кабинетов.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инеты по предметным областя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Физическая культура и основы безопасности жизнедеятельности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быть оснащены комплектами наглядных пособий, карт, учебных макетов, специального оборудования, обеспечивающих развитие компетенций в соответствии с программой основного общего образов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лись требования к психолого-педагогическим условиям с  акцентом на социально-психологическую адаптацию к школе. Описан порядок, по которому следует проводить психолого-педагогическое сопровождение участников образовательных отноше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 педагогов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Законе об образовании по-прежнему закреплено, что педагог может проходить дополнительное профессиональное образование раз в три года и обязан систематически повышать квалификацию. Но указания, как часто он должен это делать, теперь не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Picture 11" descr="https://www.spokenswahili.com/blog/wp-content/uploads/2018/03/sports-blog.png"/>
          <p:cNvPicPr/>
          <p:nvPr/>
        </p:nvPicPr>
        <p:blipFill>
          <a:blip r:embed="rId1"/>
          <a:stretch/>
        </p:blipFill>
        <p:spPr>
          <a:xfrm>
            <a:off x="6804000" y="5810400"/>
            <a:ext cx="17845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828280" cy="4900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236000" y="5288040"/>
            <a:ext cx="1755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-60480" y="128520"/>
            <a:ext cx="9217080" cy="183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04400" y="1916280"/>
            <a:ext cx="8931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343640" y="5665680"/>
            <a:ext cx="1871640" cy="1098720"/>
          </a:xfrm>
          <a:prstGeom prst="rect">
            <a:avLst/>
          </a:prstGeom>
          <a:ln w="0">
            <a:noFill/>
          </a:ln>
        </p:spPr>
      </p:pic>
      <p:pic>
        <p:nvPicPr>
          <p:cNvPr id="413" name="Диаграмма 4" descr=""/>
          <p:cNvPicPr/>
          <p:nvPr/>
        </p:nvPicPr>
        <p:blipFill>
          <a:blip r:embed="rId3"/>
          <a:stretch/>
        </p:blipFill>
        <p:spPr>
          <a:xfrm>
            <a:off x="396720" y="2133720"/>
            <a:ext cx="8350560" cy="39621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3206160" y="621504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го 205 357 че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253440" cy="162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6443640" y="5635800"/>
            <a:ext cx="1784520" cy="909360"/>
          </a:xfrm>
          <a:prstGeom prst="rect">
            <a:avLst/>
          </a:prstGeom>
          <a:ln w="0">
            <a:noFill/>
          </a:ln>
        </p:spPr>
      </p:pic>
      <p:pic>
        <p:nvPicPr>
          <p:cNvPr id="417" name="Объект 4" descr=""/>
          <p:cNvPicPr/>
          <p:nvPr/>
        </p:nvPicPr>
        <p:blipFill>
          <a:blip r:embed="rId3"/>
          <a:stretch/>
        </p:blipFill>
        <p:spPr>
          <a:xfrm>
            <a:off x="-755640" y="1438200"/>
            <a:ext cx="92534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0" y="96840"/>
            <a:ext cx="8991720" cy="12873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8099280" y="5997600"/>
            <a:ext cx="1784520" cy="1044720"/>
          </a:xfrm>
          <a:prstGeom prst="rect">
            <a:avLst/>
          </a:prstGeom>
          <a:ln w="0">
            <a:noFill/>
          </a:ln>
        </p:spPr>
      </p:pic>
      <p:pic>
        <p:nvPicPr>
          <p:cNvPr id="421" name="Диаграмма 4" descr=""/>
          <p:cNvPicPr/>
          <p:nvPr/>
        </p:nvPicPr>
        <p:blipFill>
          <a:blip r:embed="rId3"/>
          <a:stretch/>
        </p:blipFill>
        <p:spPr>
          <a:xfrm>
            <a:off x="554040" y="1547640"/>
            <a:ext cx="788364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109440" y="0"/>
            <a:ext cx="9253440" cy="117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142920" y="1125000"/>
            <a:ext cx="88581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6875640" y="5521320"/>
            <a:ext cx="1784160" cy="907920"/>
          </a:xfrm>
          <a:prstGeom prst="rect">
            <a:avLst/>
          </a:prstGeom>
          <a:ln w="0">
            <a:noFill/>
          </a:ln>
        </p:spPr>
      </p:pic>
      <p:pic>
        <p:nvPicPr>
          <p:cNvPr id="425" name="Диаграмма 4" descr=""/>
          <p:cNvPicPr/>
          <p:nvPr/>
        </p:nvPicPr>
        <p:blipFill>
          <a:blip r:embed="rId3"/>
          <a:stretch/>
        </p:blipFill>
        <p:spPr>
          <a:xfrm>
            <a:off x="19080" y="1103400"/>
            <a:ext cx="89964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89000" y="0"/>
            <a:ext cx="904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323120" y="5792760"/>
            <a:ext cx="1608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255600"/>
            <a:ext cx="8686800" cy="1042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936720"/>
            <a:ext cx="86868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особы обеспечения вариативности ОО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ый –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в структуре программ НОО и ООО предусмотреть учебные предметы, учебные курсы и учебные модул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торой –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рабатывать и реализовывать программы углубленного изучения отдельных предмето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ретий способ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разрабатывать и реализовывать индивидуальные учебные планы в соответствии с образовательными потребностям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интересами ученик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6502320" y="5202360"/>
            <a:ext cx="1622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686800" cy="969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98064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формирование привычки к здоровому образу жизни и занятиям ФК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умение планировать самостоятельные занятия ФК и строить индивидуальные программы оздоровления и физического развит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) умение отбирать физические упражнения и регулировать физические нагрузки для самостоятельных систематических занятий с различной функциональной направленностью с учетом индивидуальных возможностей и особенностей обучающихся, планировать содержание этих занятий, включать их в режим учебного дня и учебной недел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) организацию самостоятельных систематических занятий физическими упражнениями с соблюдением правил техники безопасности и профилактики травматизма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) умение оказывать первую помощь при травмах (например: извлечение и перемещение пострадавших, проведение иммобилизации с помощью подручных средств, выполнение осмотра пострадавшего на наличие наружных кровотечений и мероприятий по их остановке)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) умение выполнять комплексы общеразвивающих и корригирующих упражнен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11" descr="https://www.spokenswahili.com/blog/wp-content/uploads/2018/03/sports-blog.png"/>
          <p:cNvPicPr/>
          <p:nvPr/>
        </p:nvPicPr>
        <p:blipFill>
          <a:blip r:embed="rId2"/>
          <a:stretch/>
        </p:blipFill>
        <p:spPr>
          <a:xfrm>
            <a:off x="7696080" y="5732640"/>
            <a:ext cx="14479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13:19Z</dcterms:created>
  <dc:creator>Admin</dc:creator>
  <dc:description/>
  <dc:language>en-US</dc:language>
  <cp:lastModifiedBy>Надежда</cp:lastModifiedBy>
  <dcterms:modified xsi:type="dcterms:W3CDTF">2022-03-30T06:37:43Z</dcterms:modified>
  <cp:revision>376</cp:revision>
  <dc:subject/>
  <dc:title>Зрительные и слуховые агнозии</dc:title>
</cp:coreProperties>
</file>