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E0FC-C0D2-490E-AD3F-64754A77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EF7-2266-4C28-94E1-40D7795E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DBB-CA6E-400C-BB41-7956A0EF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38F-13BB-47E4-87E2-B947DAB3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2199-24A5-47EB-8986-F6BE66E7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D955-6CC4-4D34-B1D9-93F08540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9033-1E90-4E0C-8D34-D35B3394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4AC7-DA3B-4A96-A05C-52DA01E8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420E-3FEB-4A05-9453-3C135F31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773A-F0E7-4638-B25F-D3714DBD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E245-2EE7-4315-B24B-DFBD6BAD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41B-AE67-4088-89D2-242CFBF1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C168-235C-45DE-8520-C954D23F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3D21-9D60-46F2-9F72-4FD2CD07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F97F-3B65-451E-A950-FD6D1900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AE05-BD7C-4990-94A1-566ECE63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332C-210B-4B0C-B97C-48DD0F1C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58911-06B9-4316-82BA-A6DABC02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FC42C-7176-4906-A72F-E7356CCE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3EC30-00C6-4398-9C07-93B763A7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F58E5-8425-447C-A668-64D5B22B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7EA5-36BC-43E6-A880-B2FF00B1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1F7-0BBD-4F70-B138-7A6B082C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8D510-7419-4692-BBC6-06AB5533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DEE21-F732-4450-8DDD-67CBECC2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71BCC-50B2-4900-8E82-A46AEA5C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48FE0-917D-4742-861B-A788E997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359E4-A3BC-411A-98A3-FEE65956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6D0E2-CDA9-4549-AF33-106E3C31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33CE-E99D-4BBC-9C7D-E2AB6353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FB2-B209-4034-B918-65797F28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5D3-6DEF-4D4F-8162-18A73819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0FE-1B5A-4910-A937-1B995CDA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D83-2662-4927-A54B-CC66AE58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E57-91DF-48D8-9E8C-54BEABF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182-59E5-48CC-A681-BCFAF91D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5EB3-D5AD-40F3-AAD1-E675988495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Juliana\Desktop\логотип-01.png"/>
          <p:cNvPicPr/>
          <p:nvPr/>
        </p:nvPicPr>
        <p:blipFill>
          <a:blip r:embed="rId3"/>
          <a:stretch/>
        </p:blipFill>
        <p:spPr>
          <a:xfrm>
            <a:off x="3635280" y="0"/>
            <a:ext cx="180036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2E92-31A2-42FB-8245-B8B2773916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Juliana\Desktop\логотип-01.png"/>
          <p:cNvPicPr/>
          <p:nvPr/>
        </p:nvPicPr>
        <p:blipFill>
          <a:blip r:embed="rId3"/>
          <a:stretch/>
        </p:blipFill>
        <p:spPr>
          <a:xfrm>
            <a:off x="-19080" y="152280"/>
            <a:ext cx="1079640" cy="2610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B9E3-1FF8-4E0C-AAD7-34D6821167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46528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тестац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дагогических работник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Оптимизация правопримен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Порядка аттест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в субъектах Российской Федер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22.12.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авовое регулирование аттес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рудовой кодекс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едеральный закон от 29 декабря 2012 г. № 273-Ф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Об образовании в Российской Федерации» (ст. 4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иказ Минобрнауки России от 7 апреля 2014 г. № 2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«Об утверждении Порядка проведения аттест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едагогических  работников организаций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яющих образовательную деятельность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отраслевые соглашения, коллективные догово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лномочия Минобрнауки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Закону «Об образовании в РФ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тановление порядка провед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ттестации педработников относится 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лномочиям Минобрнауки Росс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ок аттестации явля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омственным нормативным правов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ом прямого дей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ъяснения Порядка аттес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целях единообразия правоприменитель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ки были подготовлены и направлены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бъекты РФ Разъяснения Департа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енной политики в сфере обще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ния Минобрнауки России 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российского Профсоюза образования п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ению Порядка аттестации от 3 декабря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14 г. № 08-1933/5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ты, принимаемые субъектами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черпывающий перечень актов, принимаемых субъектами РФ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проведения аттестации педработников в целя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ановления квалификационной категории, включает ак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формировании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составе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регламенте работы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б условиях привлечения специалистов дл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ения всестороннего анализ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профессиональной деятельности педработ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б установлении (или отказе в установлении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педработникам первой (высшей) квалификацион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категор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тестация в целях подтверждения соответствия занимаемым долж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ком аттестации не предусмотрено какое-либо участие органов исполнительной власти субъектов РФ, осуществляющих государственное управление в сфере образования, в проведении аттестации педработников в целях подтверждения соответствия занимаемым долж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я, необходимая педработн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 аттестации в целях установления квалификационной категории педработник должен зн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рядок проведения аттестации педагогическ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ботников организаций, осуществляющ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разовательную деятельность (приказ Минобрнаук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оссии от 7 апреля 2014 г. № 27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чтовый и электронный адреса аттестацион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ок и место проведения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порядительный акт об установлении (или отказ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тановлении)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ументы, предъявляемые для аттестации 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600200"/>
            <a:ext cx="4546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тестация педработников в целях установления квалификационной категории проводится на основании их заявл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заявлении о проведении аттестации педработники указывают квалификационные категории и должности, по которым они желают пройти аттестац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пункты 27 и 28 Порядка аттеста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Работник вправе указать при подаче заявления ссылку на Интернет-ресурс, содержащий информацию о нём и результатах его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9" descr=""/>
          <p:cNvPicPr/>
          <p:nvPr/>
        </p:nvPicPr>
        <p:blipFill>
          <a:blip r:embed="rId1"/>
          <a:srcRect l="37500" t="24073" r="37085" b="12224"/>
          <a:stretch/>
        </p:blipFill>
        <p:spPr>
          <a:xfrm>
            <a:off x="5364000" y="1557360"/>
            <a:ext cx="3370320" cy="475128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  <p:sp>
        <p:nvSpPr>
          <p:cNvPr id="160" name="Прямоугольник 4"/>
          <p:cNvSpPr/>
          <p:nvPr/>
        </p:nvSpPr>
        <p:spPr>
          <a:xfrm>
            <a:off x="5364000" y="5157720"/>
            <a:ext cx="337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Примерный образец заявления педработника о проведении аттестации в целях установления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6"/>
          <p:cNvSpPr/>
          <p:nvPr/>
        </p:nvSpPr>
        <p:spPr>
          <a:xfrm>
            <a:off x="826920" y="5084640"/>
            <a:ext cx="41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информа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рассмотрении заяв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59984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и рассмотрении заявлений о проведении аттестации 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целях установления квалификационной категории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аттестационная комиссия осуществляет самостоятельный сбор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еобходимой ей информации, например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анных, подтверждающих, что лицо, подавшее заявление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 проведении аттестации, является педработником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окумент о месте работы и должности заявител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лицензия организации, в которой работает заявитель,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а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существление образовательной деятельност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ведений об аттестации заявителя, если он проходил её ране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итерии установл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валификационных категорий  </a:t>
            </a:r>
            <a:br>
              <a:rPr sz="4000"/>
            </a:br>
            <a:br>
              <a:rPr sz="7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Исчерпывающий перечень критериев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становления первой и высшей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квалификационных категорий содержится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 пунктах 36 и 37 (с учётом пункта 38)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рядка аттестаци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убъекты РФ не вправе применять пр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аттестации иные (в т. ч. дополнительные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или детализирующие) критери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становления квалификационных категорий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нформации о педработни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ттестационная комиссия осуществляет самостоятель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бор информации о результатах деятельности педработни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том числе используя следующие источн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фициальные сайты организаций, осуществляющих образовательную деятельность, в сети «Интерн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ичные Интернет-ресурсы педработников в сети «Интерн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тоги мониторинга системы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нформационные карты участников кон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зультаты всероссийской олимпиады школь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приме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алобы педагогических работников и общественных организаций на нарушения Порядка аттестации в субъектах РФ, поступающие в Администрацию Президента РФ и Минобрнауки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 актов органов исполнительной власти субъектов РФ, осуществляющих государственное управление в сфере образования, подтвердивший обоснованность жалоб гражд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ализ деятельности пед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пециалисты, привлекаемые для анализа профессиональной деятельности педработников, должны обосновать соответствие (несоответствие) педработника заявленной категории по результатам качественного, а не количественного анализа результатов его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 анализе необходим дифференцированный подход в оценке результатов деятельности педработников с учётом специфики организаций, в которых они работают (например, «слабых» шко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ценка деятельности пед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ценка профессиональной деятельности педработников в целях установления квалификационной категории осуществляется аттестационной комиссией на основе результатов их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зультаты аттестации в 2015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шая квалификационная категория установлена 6 % педрабо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ая квалификационная категория установлена 9,5 % педрабо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в среднем по РФ – примерно 2 : 3 (разница в 1,5 ра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Ульяновской области количество педработников, которым бы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а высшей категория, в 7,5 больше, чем количест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работников, которым была установлена первая категор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Амурской области в 2,5 раза больше, в Ярославской области – в 2 раз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симальный разрыв в количественном соотношении педработников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ым были установлены высшая и первая категории (соответствен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: 4) зафиксирован в Курской, Свердловской и Еврейской автоном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 при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В 2014–15 гг. в Минобрнауки России поступи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36 обращений граждан из 16 субъектов РФ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18,8%) с жалобами на различные нарушени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орядка аттестаци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облема нарушения Порядка аттестации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субъектах РФ была также обозначена в СМ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рядом общественных организац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Гильдия словесников, Межрегиональный профсою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работников образования «УЧИТЕЛЬ»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НПА субъектов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 ноябре–декабре 201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 Минобрнауки России поступили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распорядительные акты по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педработников из 85 субъектов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(10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* в рамках анализа лучших региональ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актик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и анализа региональных практик проведения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кты в большинстве субъектов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ржат критерии установления квалификацион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егории, не предусмотренные Порядком аттестац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апример, результаты тестирования, повыш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алификации, собеседования и т. 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анавливают перечни «отчётности» (в т. ч. документов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аваемых педработникам за косвенную плату и (ил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посредничестве третьих лиц, в том числе 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одателе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шие пр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Тюменская област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специалистами департамента образовани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юменской области (совместно с межрегиональ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ей Общероссийского Профсоюза образования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гулярных выездных встреч с молодыми педагогами (в т. ч. 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ате индивидуальных консультаций), в ходе которы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ъясняются аттестационные процед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я Советом молодых педагогов Тюмен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ниторинга аттестации молодых педагогов региона в рамках 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держки как наименее социально защищённой категор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работ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шие пр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Удмуртская Республ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	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  <a:ea typeface="Calibri"/>
              </a:rPr>
              <a:t>формирование при Министерстве      образования и науки Удмуртской Республики рабочей группы по совершенствованию системы аттестации педработников</a:t>
            </a:r>
            <a:r>
              <a:rPr b="0" i="1" lang="ru-RU" sz="2800" spc="-1" strike="noStrike">
                <a:solidFill>
                  <a:srgbClr val="0d0d0d"/>
                </a:solidFill>
                <a:latin typeface="Calibri"/>
                <a:ea typeface="Calibri"/>
              </a:rPr>
              <a:t> (ноябрь 2015 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ие практики в сфере упрощения аттестационных процеду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–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витие системы электронного документооборот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 аттестации, что является особенно удобным дл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дработников, живущих за предела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ой «столи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месте с тем в субъектах РФ имеются и случа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разумного перехода на электронный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кументооборот, когда заявления о проведени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ттестации не регистрируются без заполн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лектронных анкет и прикрепления к ним файлов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предусмотренных Порядком аттест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едение НПА субъектов РФ в соответствие с федеральным Порядком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беспечение независимости и объективности оцен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на взимания прямой и косвенной платы при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ощение аттестационных процедур (в т. ч. отказ от «отчётности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соответствия между реальным уровнем квалификации педработника и результатами его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0:34:49Z</dcterms:created>
  <dc:creator>Сергоманов Павел Аркадьевич</dc:creator>
  <dc:description/>
  <dc:language>en-US</dc:language>
  <cp:lastModifiedBy>Понкратова</cp:lastModifiedBy>
  <cp:lastPrinted>2015-12-22T07:41:24Z</cp:lastPrinted>
  <dcterms:modified xsi:type="dcterms:W3CDTF">2015-12-29T08:39:13Z</dcterms:modified>
  <cp:revision>52</cp:revision>
  <dc:subject/>
  <dc:title>Модель изменений нормативного правового регулирования стимулирования качества труда педагогов общего образования</dc:title>
</cp:coreProperties>
</file>