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427B-3B9F-4F1F-B7FA-A209F2659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1818-A534-43AC-97B9-BFE869204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05D4-1BE5-40C2-B566-94EECAA2C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593A-62A8-4DEE-AE68-2736A5183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54C6-D148-44A4-B365-4FE3B0DD5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086F-2FA4-4052-9B35-E6DB434C1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2164-F87A-4437-A37E-D475F9001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675A-2BC4-4393-9054-02309C4F0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D8ED-27B0-4FD3-AAAA-3A1E4B64B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39AC-0334-4D22-9DF2-49F1C57A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735F-2671-4AE4-B497-7222C6C5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B8C0-C270-4543-81D0-17A9F480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665F8-7104-4DD9-8A7C-FCAD0CF364D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Игнатьева Е.К. МОУ Зональная со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2ABDC-DEBB-4AB3-B53C-E57CD280FD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ижний колонтитул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Номер слайда 2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3DE2C-A561-40FB-8CC0-8415F43C3D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395280" y="333360"/>
            <a:ext cx="864072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Использование дидактических игр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уроках математики в рамках ФГО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одсмашная Н.Е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методист центра развития дошколь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и начального обра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ижний колонтитул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Номер слайда 2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F9257-B649-41DC-B7F9-A07D63CA2C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3"/>
          <p:cNvSpPr/>
          <p:nvPr/>
        </p:nvSpPr>
        <p:spPr>
          <a:xfrm>
            <a:off x="826920" y="333360"/>
            <a:ext cx="7993080" cy="51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Сделать серьезное занятие для ребенка занимательны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вот задача первоначального обуч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К.Д. Ушинск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Нижний колонтитул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Номер слайда 2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8100F-BF30-4491-8355-B910540287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3"/>
          <p:cNvSpPr/>
          <p:nvPr/>
        </p:nvSpPr>
        <p:spPr>
          <a:xfrm>
            <a:off x="0" y="890640"/>
            <a:ext cx="8964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идактическая игр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эт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модель процесса принятия решений в реальной ситуации с четко выраженной структур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идактическая игр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не самоцель на уроке, а средство обучения и воспитания. Игру не нужно путать с забавой, не следует рассматривать ее как деятельность, достав­ляющую удовольствие ради удовольствия. На дидактическую игру нужно смотреть как на вид пре­образующей творческой деятельности в тесной связи с другими видами учебной раб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Нижний колонтитул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Номер слайда 2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721D5-5032-4180-A668-C4D14FB473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3"/>
          <p:cNvSpPr/>
          <p:nvPr/>
        </p:nvSpPr>
        <p:spPr>
          <a:xfrm>
            <a:off x="468360" y="333360"/>
            <a:ext cx="83516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соотносятся с содержанием обучения и вос­пит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по сенсорному воспита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есные иг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по ознакомлению с природ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по формированию математических представлений и д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соотносятся с материалом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с дидактическими игруш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ольно-печатные иг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весные иг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евдосюжетные иг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Нижний колонтитул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Номер слайда 2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7B37B-AAA6-46B9-A36A-AA849D5D2E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3"/>
          <p:cNvSpPr/>
          <p:nvPr/>
        </p:nvSpPr>
        <p:spPr>
          <a:xfrm>
            <a:off x="684360" y="404640"/>
            <a:ext cx="8280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ы дидактических игр, сгруппированных по виду деятельности учащих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Игры-путеше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Игры-пору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Игры-предпо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Игры-загад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Игры-беседы  (игры-диалог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ижний колонтитул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омер слайда 2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7D081-EA4E-43D9-B0F0-57D0A9AA56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3"/>
          <p:cNvSpPr/>
          <p:nvPr/>
        </p:nvSpPr>
        <p:spPr>
          <a:xfrm>
            <a:off x="611280" y="476280"/>
            <a:ext cx="78483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сновными структурными компонентами дидактической игры являются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игровой за­мысел, правила, игровые действия, познавательное содержание или дидактические за­дачи, оборудование, результат игр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Нижний колонтитул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Номер слайда 2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D7174-B840-4915-98BE-352F689CEC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3"/>
          <p:cNvSpPr/>
          <p:nvPr/>
        </p:nvSpPr>
        <p:spPr>
          <a:xfrm>
            <a:off x="324000" y="333360"/>
            <a:ext cx="83628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 организации дидактических игр с математическим содержанием необходимо про­думывать следующие вопросы метод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ие умения и навыки в области математики школьники усвоят в про­цессе игры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личество учащихся, которые примут участие в игре. Это приходится учитывать при организации иг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ие дидактические материалы и пособия понадобятся для игр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 с наименьшей затратой времени познакомить ребят с правилами игр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 обеспечить участие всех школьников в игр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кие выводы следует сообщить учащимся в заключение, после иг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ижний колонтитул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омер слайда 2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EB7F7-054A-4FF3-ACBE-EA17B30918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3"/>
          <p:cNvSpPr/>
          <p:nvPr/>
        </p:nvSpPr>
        <p:spPr>
          <a:xfrm>
            <a:off x="395280" y="260280"/>
            <a:ext cx="8640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ллективные игры в классе следует разделять по дидактическим задачам урока. Это, прежде всего, игры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учающие, контро­лирующие, обобщающ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учающая игр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игра, в процессе которой или во время ее подготовки учащимися приобретаются новые зн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онтролирующая игр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игра, в процессе которой происходит повторение, за­креп­ление, проверка ранее полученных знаний учащими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общающая игр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интегрирует знания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Нижний колонтитул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Номер слайда 2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97732-426C-4EFC-9328-D8F44777F6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3"/>
          <p:cNvSpPr/>
          <p:nvPr/>
        </p:nvSpPr>
        <p:spPr>
          <a:xfrm>
            <a:off x="2286000" y="-5549760"/>
            <a:ext cx="4572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5"/>
          <p:cNvSpPr/>
          <p:nvPr/>
        </p:nvSpPr>
        <p:spPr>
          <a:xfrm>
            <a:off x="250920" y="333360"/>
            <a:ext cx="856908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 организации и разработке дидактической игры каждому учителю очень важно придерживаться следующих по­ло­жен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авила игры были достаточно просты и понятны для понимания учащих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гра должна быть содержательн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дактический материал должен быть удо­бен в ис­пользован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обходимо обеспечить открытый и ясный контроль над ее результат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ажно продумать ход игры и ее организацию так, чтобы каждый ученик был активным участник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гровой характер при проведении уроков по математике должен иметь опреде­лен­ную мер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ащиеся должны математически грамотно проводить свои рас­суждения, речь их должна быть правильной, четкой, кратк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игру нужно закончить на данном уроке, получить результа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Нижний колонтитул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омер слайда 2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21C80-5927-4390-A8B4-637FA24D57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3"/>
          <p:cNvSpPr/>
          <p:nvPr/>
        </p:nvSpPr>
        <p:spPr>
          <a:xfrm>
            <a:off x="395280" y="549360"/>
            <a:ext cx="84978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идактические игр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 зависимости от содержания материала, способа организа­ции, уровня подготовки школьников, цели урока могут приобретать различный характер, на­пример, быть продуктивными, репродуктивными, творческими, конструктивными, прак­тическими и воспитывающи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1T10:04:34Z</dcterms:created>
  <dc:creator>Шелеметьева Л.И</dc:creator>
  <dc:description/>
  <dc:language>en-US</dc:language>
  <cp:lastModifiedBy>Windows User</cp:lastModifiedBy>
  <dcterms:modified xsi:type="dcterms:W3CDTF">2020-12-05T14:00:35Z</dcterms:modified>
  <cp:revision>176</cp:revision>
  <dc:subject/>
  <dc:title>Использование ИКТ на уроках русского языка и                                               литературы</dc:title>
</cp:coreProperties>
</file>