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11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81B2-BF3E-4F37-B37C-4D8060047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6781-FF63-48BD-A755-28DE3A37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DB90-EE4C-42EB-9783-EB531C47A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30F-443F-4D59-A5E7-6F8E41CF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D3FA-7DD1-43C0-A350-4B3C0C61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7E76-60BE-4190-95CB-5C2FC2BE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DF4F-75F3-4934-825F-5E477BB7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E8B0-E88B-4BCF-B897-C5A688A0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888D-EF63-499B-8F29-0E5A8D64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44E0-640B-452A-8E4A-CD30DF10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CE8E-5EAE-4F5A-9CF0-C19539E5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5F11-F0FF-4A60-9636-07CE76AD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8724-5B56-477D-9F9E-E66ACACFF8B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Игнатьева Е.К. МОУ Зональная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0155-D3E1-49F6-89A3-838053EF19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Рисунок1"/>
          <p:cNvPicPr/>
          <p:nvPr/>
        </p:nvPicPr>
        <p:blipFill>
          <a:blip r:embed="rId1"/>
          <a:stretch/>
        </p:blipFill>
        <p:spPr>
          <a:xfrm>
            <a:off x="4752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4075200" cy="42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овременная информационно – развивающая среда начальной школы. Цифровые технологии обучения русскому языку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ачальной школе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859280" y="3212640"/>
            <a:ext cx="36655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ст центра  центра развития дошкольного и начального образования Подсмашная Н.Е</a:t>
            </a:r>
            <a:r>
              <a:rPr b="1" lang="ru-RU" sz="1600" spc="-1" strike="noStrike">
                <a:solidFill>
                  <a:srgbClr val="4f739d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835280" y="62064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Игнатьева Е.К. МОУ Зональная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9F4D-9584-4AE9-B4FF-C67C79F039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79280" y="115920"/>
          <a:ext cx="8785440" cy="6480000"/>
        </p:xfrm>
        <a:graphic>
          <a:graphicData uri="http://schemas.openxmlformats.org/drawingml/2006/table">
            <a:tbl>
              <a:tblPr/>
              <a:tblGrid>
                <a:gridCol w="1689120"/>
                <a:gridCol w="2627280"/>
                <a:gridCol w="1839960"/>
                <a:gridCol w="2629080"/>
              </a:tblGrid>
              <a:tr h="1762200">
                <a:tc>
                  <a:txBody>
                    <a:bodyPr lIns="31680" rIns="31680" tIns="31680" bIns="31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новых понятий, способов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cee5"/>
                    </a:solidFill>
                  </a:tcPr>
                </a:tc>
                <a:tc>
                  <a:txBody>
                    <a:bodyPr lIns="31680" rIns="31680" tIns="31680" bIns="31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ъявление ученикам через ИКТ основных понятий, и схем, таблиц, рисунков, анимации, видеофрагментов, иллюстрирующих особенности нового учебного материа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cee5"/>
                    </a:solidFill>
                  </a:tcPr>
                </a:tc>
                <a:tc>
                  <a:txBody>
                    <a:bodyPr lIns="31680" rIns="31680" tIns="31680" bIns="31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ъявить новый учебный матери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cee5"/>
                    </a:solidFill>
                  </a:tcPr>
                </a:tc>
                <a:tc>
                  <a:txBody>
                    <a:bodyPr lIns="31680" rIns="31680" tIns="31680" bIns="316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различных способов активизации мыслительной деятельности учащихся, включение их в поисковую работу, в самоорганизацию обучения систематизация новых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cee5"/>
                    </a:solidFill>
                  </a:tcPr>
                </a:tc>
              </a:tr>
              <a:tr h="1195200"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ьесбереж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e5"/>
                    </a:solidFill>
                  </a:tcPr>
                </a:tc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минутки, зарядки, в том числе с использованием ИКТ (презентации, CD-диски, содержащие текст физкультминутки, фото, видеоматериалы с демонстрацией образца упражн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df5"/>
                    </a:solidFill>
                  </a:tcPr>
                </a:tc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ть условия для сохранения здоровья уч-ся и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df5"/>
                    </a:solidFill>
                  </a:tcPr>
                </a:tc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привлечение всех учащихся к процессу выполнения здоровьесберегающих мероприятий на у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df5"/>
                    </a:solidFill>
                  </a:tcPr>
                </a:tc>
              </a:tr>
              <a:tr h="2138400"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нение знаний, формирование ум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e5"/>
                    </a:solidFill>
                  </a:tcPr>
                </a:tc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ъявление ученикам через ИКТ вопросов и заданий, требующих мыслительной активности и творческого осмысления материала, демонстрация правильного решения при возникновении затрудн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6fa"/>
                    </a:solidFill>
                  </a:tcPr>
                </a:tc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ить способам мыслительной, учебно-познавательной деятельности по применению имеющихся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6fa"/>
                    </a:solidFill>
                  </a:tcPr>
                </a:tc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различных способов закрепления знаний в игровой форме на компьютере;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е учителя по поводу ответа ученика к классу с просьбой дополнить, уточнить, исправить, взглянуть на изучаемую проблему с иной стороны;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ение учащихся узнавать и соотносить факты с понятиями, правил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6fa"/>
                    </a:solidFill>
                  </a:tcPr>
                </a:tc>
              </a:tr>
              <a:tr h="1384200"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но-оценоч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e5"/>
                    </a:solidFill>
                  </a:tcPr>
                </a:tc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ъявление ученикам через ИКТ заданий разного уровня сложности, использование нестандартных ситуаций в применении проверяемых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df5"/>
                    </a:solidFill>
                  </a:tcPr>
                </a:tc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контроля и самоконтроля; воспитание способности к самооцен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df5"/>
                    </a:solidFill>
                  </a:tcPr>
                </a:tc>
                <a:tc>
                  <a:txBody>
                    <a:bodyPr lIns="31680" rIns="31680" tIns="31680" bIns="316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различных способов контроля и самоконтроля знаний в игровой форме на компьютере;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цензирование работ учащихся с последующим ознакомлением результатов рецензирования на компьютер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1680" marR="31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df5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93FE1-865C-4F2E-9D6C-672FC5AA1A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611280" y="282888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доровьесберегающие требования к учебным заняти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использованием компьютерных сред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началь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анПиН 2.2.2/2.4.1340-03 «Гигиенические требования к видеодисплейным терминалам, персональным электронно-вычислительным машинам и организации работы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936B-8154-482B-97CD-65B592D480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2286000" y="2967120"/>
            <a:ext cx="4572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2286000" y="29671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жим учебных занятий с использованием компьютерных средств представлен в таблице (по Н. Т. Лебедевой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9640" y="692280"/>
          <a:ext cx="8147160" cy="5075280"/>
        </p:xfrm>
        <a:graphic>
          <a:graphicData uri="http://schemas.openxmlformats.org/drawingml/2006/table">
            <a:tbl>
              <a:tblPr/>
              <a:tblGrid>
                <a:gridCol w="4560840"/>
                <a:gridCol w="3586320"/>
              </a:tblGrid>
              <a:tr h="4993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cee5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-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cee5"/>
                    </a:solidFill>
                  </a:tcPr>
                </a:tc>
              </a:tr>
              <a:tr h="865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тельность работы с компьютера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e5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df5"/>
                    </a:solidFill>
                  </a:tcPr>
                </a:tc>
              </a:tr>
              <a:tr h="49932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занятий в ден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e5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6fa"/>
                    </a:solidFill>
                  </a:tcPr>
                </a:tc>
              </a:tr>
              <a:tr h="865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стика для гл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e5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5 упражнений по 5 и более раз кажд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df5"/>
                    </a:solidFill>
                  </a:tcPr>
                </a:tc>
              </a:tr>
              <a:tr h="8650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минутка на рабочем мест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e5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8 упражнений по 4-6 раз каждо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6fa"/>
                    </a:solidFill>
                  </a:tcPr>
                </a:tc>
              </a:tr>
              <a:tr h="14760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тельность перерывов между занятиям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e5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-20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df5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BB46-FA90-4F8B-8A8A-C90E11470E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179280" y="-18795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5"/>
          <p:cNvSpPr/>
          <p:nvPr/>
        </p:nvSpPr>
        <p:spPr>
          <a:xfrm>
            <a:off x="179280" y="-1879560"/>
            <a:ext cx="88567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КТ на уроках русского языка в начальной школ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матическое планирование по русскому языку должны быть включены следующие виды работ с компьютерной поддержк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бота с текстом и предложени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работа со словарными слов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работа со скороговорк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очинение с использованием аудио-видео сред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помощь компьютера при различных видах разбо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задания занимательного характе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контрольные зад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готовые программные продукты. В комплект входят диагностические, коррекционные, проверочные тесты, диктанты и задания занимате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2233440" y="104616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сайты можно использовать для создания интерактивных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404640" y="2084400"/>
            <a:ext cx="83552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графический сервис, который позволяет создавать любые виды презентаций прямо в браузере без установки какого-либо программного обеспечения на компьютер. Ресурс ориентирован на непрофессиональных пользователей, что отражается не только в простоте использования сервиса, но и в детальной системе обучения, которая расскажет о всех возможностях работы с проекта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4"/>
          <p:cNvSpPr/>
          <p:nvPr/>
        </p:nvSpPr>
        <p:spPr>
          <a:xfrm>
            <a:off x="1184400" y="4527720"/>
            <a:ext cx="74293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s://www.canva.com/design/DADpg8j53AA/ZZ9-g7Liw_pbgI4ZNkBgbQ/edit?category=tADbfqfbIxE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539640" y="939960"/>
            <a:ext cx="83534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 для анализа текста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ый корпус русского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йт представляет собой громадную библиотеку текстов и механизмы для анализа этих текстов. Например, можно быстро найти фразу, которую использовали разные авторы, что очень помогает для сравнительного анализа текстов. Моментально собирается материал для мотивного анализа по ключевому сло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ruscorpora.ru/new/index.ht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2" descr=""/>
          <p:cNvPicPr/>
          <p:nvPr/>
        </p:nvPicPr>
        <p:blipFill>
          <a:blip r:embed="rId1"/>
          <a:stretch/>
        </p:blipFill>
        <p:spPr>
          <a:xfrm>
            <a:off x="2795760" y="3573360"/>
            <a:ext cx="3182760" cy="30956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384120" y="857160"/>
            <a:ext cx="875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о сло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активизации словарного запаса можно использовать различные браузерные игры со словами. Некоторые из них предлагают создатели сайта http://www.iqfun.ru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"/>
          <p:cNvSpPr/>
          <p:nvPr/>
        </p:nvSpPr>
        <p:spPr>
          <a:xfrm>
            <a:off x="509760" y="2560680"/>
            <a:ext cx="489240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qfun.r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4" descr=""/>
          <p:cNvPicPr/>
          <p:nvPr/>
        </p:nvPicPr>
        <p:blipFill>
          <a:blip r:embed="rId1"/>
          <a:stretch/>
        </p:blipFill>
        <p:spPr>
          <a:xfrm>
            <a:off x="3780000" y="3284640"/>
            <a:ext cx="5178240" cy="32493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зки, лингвистические истор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042920" y="4421160"/>
            <a:ext cx="2546280" cy="17445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0" y="1771560"/>
            <a:ext cx="4572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гвистические сказки благотворно влияют на отношение учащихся к русскому языку как к учебному предмету, способствуют развитию у них наблюдательности, фантазии, зрительной памят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гвистическая сказка помогает сделать процесс обучения эффективным, разнообразным, а главное — интересным. Она способствует развитию у детей фантазии, воображения, чувства сло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7"/>
          <p:cNvSpPr/>
          <p:nvPr/>
        </p:nvSpPr>
        <p:spPr>
          <a:xfrm>
            <a:off x="882720" y="5194440"/>
            <a:ext cx="267336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s://littlebirdtales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2"/>
          <a:stretch/>
        </p:blipFill>
        <p:spPr>
          <a:xfrm>
            <a:off x="4892760" y="1547640"/>
            <a:ext cx="3927240" cy="287352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9"/>
          <p:cNvSpPr/>
          <p:nvPr/>
        </p:nvSpPr>
        <p:spPr>
          <a:xfrm>
            <a:off x="4688280" y="4842000"/>
            <a:ext cx="401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s://skazkibasni.com/lingvisticheskie-skaz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0"/>
          <p:cNvSpPr/>
          <p:nvPr/>
        </p:nvSpPr>
        <p:spPr>
          <a:xfrm>
            <a:off x="4649760" y="5140440"/>
            <a:ext cx="42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ttps://www.miloliza.com/lingvisticheskie-skaz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овышение эффективности учебного процесса за счёт внесения разнообразия на разных этапах урок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озможность показать некоторые процессы в динамике (видеофрагменты, анимация)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силение нагляд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осуществление индивидуального подхода в обучении (работа самостоятельно с оптимальной для себя скоростью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расширение объёма предъявляемой учебной информац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улучшение организации урока (дидактический материал всегда имеется в достаточном количестве)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 повышение качества контроля знаний учащихся и разнообразие его формы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) включение учащихся в коллективную деятельность в парах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) повышение интереса ребенка к изучению предмета (и к учению в целом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) активизация творческого потенциала ученика, включение школьников в современное пространство информационного обществ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ижний колонтитул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омер слайда 4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1D1D-1B48-4D3E-B7E8-CD7E54F9A8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1349280" y="692280"/>
            <a:ext cx="70563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нформационно-образовательной среды в школе невозможен без учителя нового тип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2"/>
          <p:cNvSpPr/>
          <p:nvPr/>
        </p:nvSpPr>
        <p:spPr>
          <a:xfrm>
            <a:off x="3065400" y="3105000"/>
            <a:ext cx="3240000" cy="13737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МАЮЩЕГО, ТВОРЧЕСКОГО, СОВРЕМЕН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Анастасия\Desktop\images.jpg"/>
          <p:cNvPicPr/>
          <p:nvPr/>
        </p:nvPicPr>
        <p:blipFill>
          <a:blip r:embed="rId1"/>
          <a:stretch/>
        </p:blipFill>
        <p:spPr>
          <a:xfrm>
            <a:off x="5967360" y="2530440"/>
            <a:ext cx="2981520" cy="3981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Users\Анастасия\Desktop\___20160209_1017312455.png"/>
          <p:cNvPicPr/>
          <p:nvPr/>
        </p:nvPicPr>
        <p:blipFill>
          <a:blip r:embed="rId2"/>
          <a:stretch/>
        </p:blipFill>
        <p:spPr>
          <a:xfrm>
            <a:off x="217440" y="2162160"/>
            <a:ext cx="2986200" cy="43038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оугольник 1"/>
          <p:cNvGrpSpPr/>
          <p:nvPr/>
        </p:nvGrpSpPr>
        <p:grpSpPr>
          <a:xfrm>
            <a:off x="255600" y="1335240"/>
            <a:ext cx="4260960" cy="3425760"/>
            <a:chOff x="255600" y="1335240"/>
            <a:chExt cx="4260960" cy="3425760"/>
          </a:xfrm>
        </p:grpSpPr>
        <p:pic>
          <p:nvPicPr>
            <p:cNvPr id="46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255600" y="1335240"/>
              <a:ext cx="4260960" cy="342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63520" y="1341360"/>
              <a:ext cx="42498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е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лавная задача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– так организовать учебно-воспитательный процесс, чтобы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аждый школьник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независимо от своих возможностей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г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спешно развиваться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ализовывать себя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в познавательной деятельност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Прямоугольник 2"/>
          <p:cNvSpPr/>
          <p:nvPr/>
        </p:nvSpPr>
        <p:spPr>
          <a:xfrm>
            <a:off x="2268360" y="4757760"/>
            <a:ext cx="7020000" cy="1922760"/>
          </a:xfrm>
          <a:prstGeom prst="rect">
            <a:avLst/>
          </a:prstGeom>
          <a:solidFill>
            <a:srgbClr val="f6f4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 современной сферы образования и тенденции развития общества требуют развития системы образования на основе информационных технологий, создания соответствующей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о-образователь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468360" y="361800"/>
            <a:ext cx="7775640" cy="825480"/>
          </a:xfrm>
          <a:prstGeom prst="rect">
            <a:avLst/>
          </a:prstGeom>
          <a:solidFill>
            <a:srgbClr val="f1ee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ая школа – это первооснова воспитания и образ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Users\Анастасия\Desktop\NJp12zAqVk4.jpg"/>
          <p:cNvPicPr/>
          <p:nvPr/>
        </p:nvPicPr>
        <p:blipFill>
          <a:blip r:embed="rId2"/>
          <a:stretch/>
        </p:blipFill>
        <p:spPr>
          <a:xfrm>
            <a:off x="4788000" y="1789200"/>
            <a:ext cx="3786120" cy="25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5ED5-D260-49F4-8CAB-FE1FD24A52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2987640" y="1844640"/>
            <a:ext cx="2857680" cy="1612800"/>
          </a:xfrm>
          <a:prstGeom prst="ellipse">
            <a:avLst/>
          </a:prstGeom>
          <a:gradFill rotWithShape="0">
            <a:gsLst>
              <a:gs pos="0">
                <a:srgbClr val="5e4776"/>
              </a:gs>
              <a:gs pos="50000">
                <a:srgbClr val="cc99ff"/>
              </a:gs>
              <a:gs pos="100000">
                <a:srgbClr val="5e47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н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уро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8"/>
          <p:cNvSpPr/>
          <p:nvPr/>
        </p:nvSpPr>
        <p:spPr>
          <a:xfrm>
            <a:off x="971640" y="692280"/>
            <a:ext cx="2500200" cy="1170000"/>
          </a:xfrm>
          <a:prstGeom prst="ellipse">
            <a:avLst/>
          </a:prstGeom>
          <a:gradFill rotWithShape="0">
            <a:gsLst>
              <a:gs pos="0">
                <a:srgbClr val="635f6a"/>
              </a:gs>
              <a:gs pos="50000">
                <a:srgbClr val="d7cee5"/>
              </a:gs>
              <a:gs pos="100000">
                <a:srgbClr val="635f6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Мультимедий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5572080" y="692280"/>
            <a:ext cx="2428920" cy="1079280"/>
          </a:xfrm>
          <a:prstGeom prst="ellipse">
            <a:avLst/>
          </a:prstGeom>
          <a:gradFill rotWithShape="0">
            <a:gsLst>
              <a:gs pos="0">
                <a:srgbClr val="635f6a"/>
              </a:gs>
              <a:gs pos="50000">
                <a:srgbClr val="d7cee5"/>
              </a:gs>
              <a:gs pos="100000">
                <a:srgbClr val="635f6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Соз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3"/>
          <p:cNvSpPr/>
          <p:nvPr/>
        </p:nvSpPr>
        <p:spPr>
          <a:xfrm>
            <a:off x="250920" y="3645000"/>
            <a:ext cx="2320920" cy="1272960"/>
          </a:xfrm>
          <a:prstGeom prst="ellipse">
            <a:avLst/>
          </a:prstGeom>
          <a:gradFill rotWithShape="0">
            <a:gsLst>
              <a:gs pos="0">
                <a:srgbClr val="635f6a"/>
              </a:gs>
              <a:gs pos="50000">
                <a:srgbClr val="d7cee5"/>
              </a:gs>
              <a:gs pos="100000">
                <a:srgbClr val="635f6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Дидакти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матери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9"/>
          <p:cNvSpPr/>
          <p:nvPr/>
        </p:nvSpPr>
        <p:spPr>
          <a:xfrm>
            <a:off x="2916360" y="4286160"/>
            <a:ext cx="2512800" cy="1303560"/>
          </a:xfrm>
          <a:prstGeom prst="ellipse">
            <a:avLst/>
          </a:prstGeom>
          <a:gradFill rotWithShape="0">
            <a:gsLst>
              <a:gs pos="0">
                <a:srgbClr val="635f6a"/>
              </a:gs>
              <a:gs pos="50000">
                <a:srgbClr val="d7cee5"/>
              </a:gs>
              <a:gs pos="100000">
                <a:srgbClr val="635f6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Виртуа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экскур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2"/>
          <p:cNvSpPr/>
          <p:nvPr/>
        </p:nvSpPr>
        <p:spPr>
          <a:xfrm flipV="1">
            <a:off x="5364000" y="1628640"/>
            <a:ext cx="503280" cy="36216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3"/>
          <p:cNvSpPr/>
          <p:nvPr/>
        </p:nvSpPr>
        <p:spPr>
          <a:xfrm flipH="1" flipV="1">
            <a:off x="2842920" y="1773360"/>
            <a:ext cx="401400" cy="38736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>
            <a:off x="5580000" y="3141720"/>
            <a:ext cx="792360" cy="93492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5"/>
          <p:cNvSpPr/>
          <p:nvPr/>
        </p:nvSpPr>
        <p:spPr>
          <a:xfrm>
            <a:off x="4214880" y="3500280"/>
            <a:ext cx="1440" cy="73368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6"/>
          <p:cNvSpPr/>
          <p:nvPr/>
        </p:nvSpPr>
        <p:spPr>
          <a:xfrm flipH="1">
            <a:off x="2123640" y="2997360"/>
            <a:ext cx="909720" cy="718920"/>
          </a:xfrm>
          <a:prstGeom prst="line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ижний колонтитул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6"/>
          <p:cNvSpPr/>
          <p:nvPr/>
        </p:nvSpPr>
        <p:spPr>
          <a:xfrm>
            <a:off x="5940360" y="3933720"/>
            <a:ext cx="2376720" cy="1224000"/>
          </a:xfrm>
          <a:prstGeom prst="ellipse">
            <a:avLst/>
          </a:prstGeom>
          <a:gradFill rotWithShape="0">
            <a:gsLst>
              <a:gs pos="0">
                <a:srgbClr val="635f6a"/>
              </a:gs>
              <a:gs pos="50000">
                <a:srgbClr val="d7cee5"/>
              </a:gs>
              <a:gs pos="100000">
                <a:srgbClr val="635f6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Web-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кве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ользование информационных технологий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уроках русского язык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2" descr="j0195384"/>
          <p:cNvPicPr/>
          <p:nvPr/>
        </p:nvPicPr>
        <p:blipFill>
          <a:blip r:embed="rId1"/>
          <a:stretch/>
        </p:blipFill>
        <p:spPr>
          <a:xfrm>
            <a:off x="495360" y="1890720"/>
            <a:ext cx="3273480" cy="3529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24360" y="1600200"/>
            <a:ext cx="49687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ация познавательной деятельности учащихся посредством использования Интернет-ресурсов на уроках русского языка, литературы и во внеклассных мероприятиях по предмет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омер слайда 6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8658-F665-4D30-88A4-2B23C22963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5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оугольник 1"/>
          <p:cNvSpPr/>
          <p:nvPr/>
        </p:nvSpPr>
        <p:spPr>
          <a:xfrm>
            <a:off x="746280" y="1035000"/>
            <a:ext cx="810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уальность использования  он-лайн технолог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1569960" y="1841400"/>
            <a:ext cx="79074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и дома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инг и контроль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торение материала и ликвидация индивидуальных затруднений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амоконтрол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s://im3-tub-ru.yandex.net/i?id=97ee4315e4713f199fb04a18d7c4d1bf&amp;n=21"/>
          <p:cNvPicPr/>
          <p:nvPr/>
        </p:nvPicPr>
        <p:blipFill>
          <a:blip r:embed="rId1"/>
          <a:stretch/>
        </p:blipFill>
        <p:spPr>
          <a:xfrm>
            <a:off x="6280200" y="4546440"/>
            <a:ext cx="2570040" cy="192744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1B8B-DB58-4939-A3ED-7B2F0D2D22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539640" y="2550960"/>
            <a:ext cx="814716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Д. Ушинский отмечал следующе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чите ребенка каким-нибудь пяти неизвестным ему словам, и он будет долго и напрасно мучиться над ними; но свяжите с картинками двадцать таких слов – и ребенок усвоит их на лет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Номер слайда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1DC7-DDD9-4B8C-BC65-BA5545C9AE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324000" y="2828880"/>
            <a:ext cx="8362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методы обучения с применением ИКТ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ельно-иллюстративны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родуктивны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ны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00D7-137B-4909-A67A-760319E3B7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611280" y="-2849400"/>
            <a:ext cx="8208720" cy="9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подготовки урока с использованием И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ту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он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ая ре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Игнатьева Е.К. МОУ Зональная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4B7B-C2CA-4A58-9822-FE14DC6E0D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9280" y="189000"/>
          <a:ext cx="8713800" cy="6323040"/>
        </p:xfrm>
        <a:graphic>
          <a:graphicData uri="http://schemas.openxmlformats.org/drawingml/2006/table">
            <a:tbl>
              <a:tblPr/>
              <a:tblGrid>
                <a:gridCol w="1675080"/>
                <a:gridCol w="2606400"/>
                <a:gridCol w="1825920"/>
                <a:gridCol w="2606400"/>
              </a:tblGrid>
              <a:tr h="939600"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пы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cee5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ой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cee5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и педагогической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cee5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ия достижения целей (на основе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ной техник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7cee5"/>
                    </a:solidFill>
                  </a:tcPr>
                </a:tc>
              </a:tr>
              <a:tr h="2221200"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e5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ация - презентация темы и целей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df5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ь учащихся к работе на уро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df5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ожелательный эмоциональный настрой учителя и учащихся;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ое включение класса в деловой ритм за счет активизации познавательного интереса;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полной готовности класса и оборудования к работе за счет высокой мотив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df5"/>
                    </a:solidFill>
                  </a:tcPr>
                </a:tc>
              </a:tr>
              <a:tr h="1581120"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а домашнего зад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e5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нстрация правильного решения заданий, вызывающих затруднения, с помощью мульти-видеотехники, вопросы для проверки знаний, тестовый опро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6fa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стро выявить уровень знаний учащихся по предыдущей те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6fa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факта выполнения домашнего задания у всего класса одновременно;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ое устранение типичных ошибок;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явление «продвинутых»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6fa"/>
                    </a:solidFill>
                  </a:tcPr>
                </a:tc>
              </a:tr>
              <a:tr h="1581120"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опорных знаний и способов деятельности уч-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cee5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тивирующие вопросы и задания на компьютере, подводящие к осознанию необходимости изучения темы; краткое обобщение-презентация по пройденному учебному материал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df5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олнить недостающие у уч-ся знания, вспомнить необходимые опорные знания и способы действ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df5"/>
                    </a:solidFill>
                  </a:tcPr>
                </a:tc>
                <a:tc>
                  <a:txBody>
                    <a:bodyPr lIns="43560" rIns="43560" tIns="43560" bIns="43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дидактической цели вместе с учащимися; 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приемов организации деятельности учащихся по принятию ц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560" marR="43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edf5"/>
                    </a:solidFill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0:04:34Z</dcterms:created>
  <dc:creator>Шелеметьева Л.И</dc:creator>
  <dc:description/>
  <dc:language>en-US</dc:language>
  <cp:lastModifiedBy>Windows User</cp:lastModifiedBy>
  <dcterms:modified xsi:type="dcterms:W3CDTF">2020-11-26T07:31:18Z</dcterms:modified>
  <cp:revision>114</cp:revision>
  <dc:subject/>
  <dc:title>Использование ИКТ на уроках русского языка и                                               литературы</dc:title>
</cp:coreProperties>
</file>